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2C2-6F7C-44B5-82A0-4D8EE473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461-6B01-4B6D-8422-A6252ED0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56E-328A-4FB8-B1AD-FE861350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F43-27E2-4DEF-AEB3-128101F2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D8AE-B4E6-45FF-A895-5C86AE76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AD58-606B-4C63-B227-404531F1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C0A7-7CF0-41ED-A2E7-2BF7CEA6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2B7B-BEA2-486A-AD5D-7B6DFD35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1D9F-41B7-40A4-952D-87FE8C5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7416-F054-42E5-AC43-2430CFC3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8C4B-F253-44A3-8704-46BDCA62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8C6-7A58-40F2-9652-42AEBEAA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278D-6F9C-45DE-9C41-DF5B85B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A5EC-6BFE-4DAE-84AB-A91686FA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344E-AAF2-4060-984B-0F56F162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6E3E-1407-4B58-B1A0-2BCF8AF2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B140-7883-4486-B422-89F54DC7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670-334D-4D54-A707-B3C59B78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803-6579-4715-8839-1ACD1CE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305-BE8B-45E6-9A5E-301A2979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0A7-2F8C-4431-9CCD-03F16825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DDC-247E-49DE-A182-9A4AC520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14F-8D4A-4E84-BB5D-55B79261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47F-077F-44D5-8FFA-C155034F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5650-3EA8-4D26-B1F5-4B5B2C4598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84AC-96A9-4646-BF56-14A40A8837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Monday, January 5th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95934b"/>
                </a:solidFill>
                <a:latin typeface="Tahoma"/>
              </a:rPr>
              <a:t>Lesson 5.4</a:t>
            </a:r>
            <a:br>
              <a:rPr sz="8500"/>
            </a:br>
            <a:r>
              <a:rPr b="0" lang="en-US" sz="8500" spc="-1" strike="noStrike">
                <a:solidFill>
                  <a:srgbClr val="95934b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5934b"/>
                </a:solidFill>
                <a:latin typeface="Tahoma"/>
              </a:rPr>
              <a:t>So, why are the sum and difference formulas used?</a:t>
            </a: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To find the trig values of measures NOT on the unit circle!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1.  Find the exact values of the sine, cosine and tangent of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+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776160" y="2500200"/>
            <a:ext cx="598680" cy="312840"/>
          </a:xfrm>
          <a:custGeom>
            <a:avLst/>
            <a:gdLst/>
            <a:ahLst/>
            <a:rect l="l" t="t" r="r" b="b"/>
            <a:pathLst>
              <a:path w="1663" h="869">
                <a:moveTo>
                  <a:pt x="2505" y="7218"/>
                </a:moveTo>
                <a:cubicBezTo>
                  <a:pt x="2496" y="7191"/>
                  <a:pt x="2487" y="7173"/>
                  <a:pt x="2456" y="7169"/>
                </a:cubicBezTo>
                <a:cubicBezTo>
                  <a:pt x="2410" y="7163"/>
                  <a:pt x="2397" y="7189"/>
                  <a:pt x="2356" y="7193"/>
                </a:cubicBezTo>
                <a:cubicBezTo>
                  <a:pt x="2313" y="7198"/>
                  <a:pt x="2295" y="7230"/>
                  <a:pt x="2257" y="7243"/>
                </a:cubicBezTo>
                <a:cubicBezTo>
                  <a:pt x="2248" y="7246"/>
                  <a:pt x="2189" y="7284"/>
                  <a:pt x="2183" y="7293"/>
                </a:cubicBezTo>
                <a:cubicBezTo>
                  <a:pt x="2167" y="7317"/>
                  <a:pt x="2185" y="7380"/>
                  <a:pt x="2208" y="7392"/>
                </a:cubicBezTo>
                <a:cubicBezTo>
                  <a:pt x="2242" y="7409"/>
                  <a:pt x="2298" y="7400"/>
                  <a:pt x="2332" y="7417"/>
                </a:cubicBezTo>
                <a:cubicBezTo>
                  <a:pt x="2366" y="7433"/>
                  <a:pt x="2426" y="7447"/>
                  <a:pt x="2456" y="7466"/>
                </a:cubicBezTo>
                <a:cubicBezTo>
                  <a:pt x="2479" y="7480"/>
                  <a:pt x="2543" y="7563"/>
                  <a:pt x="2555" y="7590"/>
                </a:cubicBezTo>
                <a:cubicBezTo>
                  <a:pt x="2572" y="7628"/>
                  <a:pt x="2553" y="7688"/>
                  <a:pt x="2530" y="7714"/>
                </a:cubicBezTo>
                <a:cubicBezTo>
                  <a:pt x="2507" y="7739"/>
                  <a:pt x="2462" y="7782"/>
                  <a:pt x="2431" y="7789"/>
                </a:cubicBezTo>
                <a:cubicBezTo>
                  <a:pt x="2389" y="7798"/>
                  <a:pt x="2315" y="7784"/>
                  <a:pt x="2282" y="7764"/>
                </a:cubicBezTo>
                <a:cubicBezTo>
                  <a:pt x="2249" y="7744"/>
                  <a:pt x="2218" y="7705"/>
                  <a:pt x="2183" y="7689"/>
                </a:cubicBezTo>
                <a:cubicBezTo>
                  <a:pt x="2150" y="7674"/>
                  <a:pt x="2142" y="7654"/>
                  <a:pt x="2183" y="7640"/>
                </a:cubicBezTo>
              </a:path>
              <a:path w="1663" h="869">
                <a:moveTo>
                  <a:pt x="2803" y="7342"/>
                </a:moveTo>
                <a:cubicBezTo>
                  <a:pt x="2803" y="7399"/>
                  <a:pt x="2796" y="7500"/>
                  <a:pt x="2803" y="7541"/>
                </a:cubicBezTo>
                <a:cubicBezTo>
                  <a:pt x="2815" y="7613"/>
                  <a:pt x="2828" y="7632"/>
                  <a:pt x="2828" y="7714"/>
                </a:cubicBezTo>
                <a:cubicBezTo>
                  <a:pt x="2828" y="7755"/>
                  <a:pt x="2841" y="7727"/>
                  <a:pt x="2853" y="7764"/>
                </a:cubicBezTo>
                <a:cubicBezTo>
                  <a:pt x="2821" y="7721"/>
                  <a:pt x="2828" y="7724"/>
                  <a:pt x="2828" y="7665"/>
                </a:cubicBezTo>
              </a:path>
              <a:path w="1663" h="869">
                <a:moveTo>
                  <a:pt x="2853" y="6995"/>
                </a:moveTo>
                <a:lnTo>
                  <a:pt x="2853" y="6995"/>
                </a:lnTo>
              </a:path>
              <a:path w="1663" h="869">
                <a:moveTo>
                  <a:pt x="2977" y="7441"/>
                </a:moveTo>
                <a:cubicBezTo>
                  <a:pt x="2977" y="7480"/>
                  <a:pt x="2977" y="7742"/>
                  <a:pt x="2977" y="7714"/>
                </a:cubicBezTo>
                <a:cubicBezTo>
                  <a:pt x="3008" y="7661"/>
                  <a:pt x="2979" y="7618"/>
                  <a:pt x="3001" y="7565"/>
                </a:cubicBezTo>
                <a:cubicBezTo>
                  <a:pt x="3025" y="7508"/>
                  <a:pt x="3026" y="7462"/>
                  <a:pt x="3026" y="7392"/>
                </a:cubicBezTo>
                <a:cubicBezTo>
                  <a:pt x="3026" y="7341"/>
                  <a:pt x="3045" y="7282"/>
                  <a:pt x="3076" y="7243"/>
                </a:cubicBezTo>
                <a:cubicBezTo>
                  <a:pt x="3098" y="7215"/>
                  <a:pt x="3161" y="7171"/>
                  <a:pt x="3200" y="7193"/>
                </a:cubicBezTo>
                <a:cubicBezTo>
                  <a:pt x="3235" y="7212"/>
                  <a:pt x="3290" y="7280"/>
                  <a:pt x="3299" y="7317"/>
                </a:cubicBezTo>
                <a:cubicBezTo>
                  <a:pt x="3314" y="7380"/>
                  <a:pt x="3307" y="7454"/>
                  <a:pt x="3324" y="7516"/>
                </a:cubicBezTo>
                <a:cubicBezTo>
                  <a:pt x="3337" y="7561"/>
                  <a:pt x="3375" y="7638"/>
                  <a:pt x="3349" y="7689"/>
                </a:cubicBezTo>
                <a:cubicBezTo>
                  <a:pt x="3340" y="7707"/>
                  <a:pt x="3302" y="7818"/>
                  <a:pt x="3324" y="7764"/>
                </a:cubicBezTo>
                <a:cubicBezTo>
                  <a:pt x="3332" y="7747"/>
                  <a:pt x="3341" y="7731"/>
                  <a:pt x="3349" y="7714"/>
                </a:cubicBezTo>
              </a:path>
              <a:path w="1663" h="869">
                <a:moveTo>
                  <a:pt x="3770" y="6945"/>
                </a:moveTo>
                <a:cubicBezTo>
                  <a:pt x="3717" y="7044"/>
                  <a:pt x="3725" y="7113"/>
                  <a:pt x="3696" y="7218"/>
                </a:cubicBezTo>
                <a:cubicBezTo>
                  <a:pt x="3675" y="7296"/>
                  <a:pt x="3641" y="7435"/>
                  <a:pt x="3646" y="7516"/>
                </a:cubicBezTo>
                <a:cubicBezTo>
                  <a:pt x="3649" y="7570"/>
                  <a:pt x="3669" y="7672"/>
                  <a:pt x="3696" y="7714"/>
                </a:cubicBezTo>
                <a:cubicBezTo>
                  <a:pt x="3758" y="7810"/>
                  <a:pt x="3740" y="7808"/>
                  <a:pt x="3820" y="77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00120" y="2438280"/>
            <a:ext cx="339840" cy="401760"/>
          </a:xfrm>
          <a:custGeom>
            <a:avLst/>
            <a:gdLst/>
            <a:ahLst/>
            <a:rect l="l" t="t" r="r" b="b"/>
            <a:pathLst>
              <a:path w="944" h="1117">
                <a:moveTo>
                  <a:pt x="4167" y="6846"/>
                </a:moveTo>
                <a:cubicBezTo>
                  <a:pt x="4241" y="6826"/>
                  <a:pt x="4290" y="6821"/>
                  <a:pt x="4366" y="6821"/>
                </a:cubicBezTo>
                <a:cubicBezTo>
                  <a:pt x="4440" y="6821"/>
                  <a:pt x="4515" y="6821"/>
                  <a:pt x="4589" y="6821"/>
                </a:cubicBezTo>
              </a:path>
              <a:path w="944" h="1117">
                <a:moveTo>
                  <a:pt x="4316" y="6871"/>
                </a:moveTo>
                <a:cubicBezTo>
                  <a:pt x="4316" y="6943"/>
                  <a:pt x="4296" y="6980"/>
                  <a:pt x="4291" y="7045"/>
                </a:cubicBezTo>
                <a:cubicBezTo>
                  <a:pt x="4289" y="7071"/>
                  <a:pt x="4291" y="7225"/>
                  <a:pt x="4291" y="7169"/>
                </a:cubicBezTo>
              </a:path>
              <a:path w="944" h="1117">
                <a:moveTo>
                  <a:pt x="4415" y="6871"/>
                </a:moveTo>
                <a:cubicBezTo>
                  <a:pt x="4439" y="6935"/>
                  <a:pt x="4440" y="6976"/>
                  <a:pt x="4440" y="7045"/>
                </a:cubicBezTo>
                <a:cubicBezTo>
                  <a:pt x="4440" y="7088"/>
                  <a:pt x="4439" y="7084"/>
                  <a:pt x="4465" y="7119"/>
                </a:cubicBezTo>
              </a:path>
              <a:path w="944" h="1117">
                <a:moveTo>
                  <a:pt x="4862" y="6772"/>
                </a:moveTo>
                <a:cubicBezTo>
                  <a:pt x="4834" y="6862"/>
                  <a:pt x="4795" y="6931"/>
                  <a:pt x="4762" y="7020"/>
                </a:cubicBezTo>
                <a:cubicBezTo>
                  <a:pt x="4729" y="7109"/>
                  <a:pt x="4683" y="7206"/>
                  <a:pt x="4638" y="7293"/>
                </a:cubicBezTo>
                <a:cubicBezTo>
                  <a:pt x="4582" y="7401"/>
                  <a:pt x="4522" y="7506"/>
                  <a:pt x="4465" y="7615"/>
                </a:cubicBezTo>
                <a:cubicBezTo>
                  <a:pt x="4439" y="7665"/>
                  <a:pt x="4386" y="7717"/>
                  <a:pt x="4366" y="7764"/>
                </a:cubicBezTo>
                <a:cubicBezTo>
                  <a:pt x="4341" y="7822"/>
                  <a:pt x="4386" y="7745"/>
                  <a:pt x="4390" y="7739"/>
                </a:cubicBezTo>
              </a:path>
              <a:path w="944" h="1117">
                <a:moveTo>
                  <a:pt x="4787" y="7367"/>
                </a:moveTo>
                <a:cubicBezTo>
                  <a:pt x="4754" y="7450"/>
                  <a:pt x="4685" y="7529"/>
                  <a:pt x="4663" y="7615"/>
                </a:cubicBezTo>
                <a:cubicBezTo>
                  <a:pt x="4645" y="7685"/>
                  <a:pt x="4644" y="7708"/>
                  <a:pt x="4663" y="7764"/>
                </a:cubicBezTo>
                <a:cubicBezTo>
                  <a:pt x="4682" y="7820"/>
                  <a:pt x="4698" y="7834"/>
                  <a:pt x="4762" y="7838"/>
                </a:cubicBezTo>
                <a:cubicBezTo>
                  <a:pt x="4814" y="7841"/>
                  <a:pt x="4918" y="7820"/>
                  <a:pt x="4961" y="7789"/>
                </a:cubicBezTo>
                <a:cubicBezTo>
                  <a:pt x="4998" y="7762"/>
                  <a:pt x="5090" y="7680"/>
                  <a:pt x="5110" y="7640"/>
                </a:cubicBezTo>
                <a:cubicBezTo>
                  <a:pt x="5120" y="7619"/>
                  <a:pt x="5110" y="7565"/>
                  <a:pt x="5110" y="7541"/>
                </a:cubicBezTo>
                <a:cubicBezTo>
                  <a:pt x="5065" y="7541"/>
                  <a:pt x="5045" y="7535"/>
                  <a:pt x="5011" y="7565"/>
                </a:cubicBezTo>
                <a:cubicBezTo>
                  <a:pt x="4965" y="7606"/>
                  <a:pt x="4941" y="7658"/>
                  <a:pt x="4936" y="7714"/>
                </a:cubicBezTo>
                <a:cubicBezTo>
                  <a:pt x="4932" y="7766"/>
                  <a:pt x="4949" y="7797"/>
                  <a:pt x="4961" y="7838"/>
                </a:cubicBezTo>
                <a:cubicBezTo>
                  <a:pt x="4976" y="7886"/>
                  <a:pt x="4983" y="7888"/>
                  <a:pt x="5035" y="78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55880" y="2581200"/>
            <a:ext cx="115920" cy="187560"/>
          </a:xfrm>
          <a:custGeom>
            <a:avLst/>
            <a:gdLst/>
            <a:ahLst/>
            <a:rect l="l" t="t" r="r" b="b"/>
            <a:pathLst>
              <a:path w="324" h="521">
                <a:moveTo>
                  <a:pt x="5680" y="7169"/>
                </a:moveTo>
                <a:cubicBezTo>
                  <a:pt x="5673" y="7265"/>
                  <a:pt x="5655" y="7343"/>
                  <a:pt x="5655" y="7441"/>
                </a:cubicBezTo>
                <a:cubicBezTo>
                  <a:pt x="5655" y="7515"/>
                  <a:pt x="5663" y="7578"/>
                  <a:pt x="5680" y="7640"/>
                </a:cubicBezTo>
                <a:cubicBezTo>
                  <a:pt x="5680" y="7665"/>
                  <a:pt x="5680" y="7673"/>
                  <a:pt x="5680" y="7689"/>
                </a:cubicBezTo>
              </a:path>
              <a:path w="324" h="521">
                <a:moveTo>
                  <a:pt x="5432" y="7392"/>
                </a:moveTo>
                <a:cubicBezTo>
                  <a:pt x="5514" y="7392"/>
                  <a:pt x="5579" y="7380"/>
                  <a:pt x="5655" y="7367"/>
                </a:cubicBezTo>
                <a:cubicBezTo>
                  <a:pt x="5705" y="7367"/>
                  <a:pt x="5722" y="7367"/>
                  <a:pt x="5755" y="73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51080" y="2419200"/>
            <a:ext cx="766800" cy="465120"/>
          </a:xfrm>
          <a:custGeom>
            <a:avLst/>
            <a:gdLst/>
            <a:ahLst/>
            <a:rect l="l" t="t" r="r" b="b"/>
            <a:pathLst>
              <a:path w="2134" h="1291">
                <a:moveTo>
                  <a:pt x="6251" y="6970"/>
                </a:moveTo>
                <a:cubicBezTo>
                  <a:pt x="6357" y="6970"/>
                  <a:pt x="6449" y="6979"/>
                  <a:pt x="6548" y="6995"/>
                </a:cubicBezTo>
                <a:cubicBezTo>
                  <a:pt x="6600" y="7003"/>
                  <a:pt x="6635" y="6999"/>
                  <a:pt x="6672" y="6970"/>
                </a:cubicBezTo>
              </a:path>
              <a:path w="2134" h="1291">
                <a:moveTo>
                  <a:pt x="6424" y="7020"/>
                </a:moveTo>
                <a:cubicBezTo>
                  <a:pt x="6424" y="7126"/>
                  <a:pt x="6419" y="7227"/>
                  <a:pt x="6449" y="7317"/>
                </a:cubicBezTo>
                <a:cubicBezTo>
                  <a:pt x="6451" y="7323"/>
                  <a:pt x="6449" y="7410"/>
                  <a:pt x="6449" y="7342"/>
                </a:cubicBezTo>
              </a:path>
              <a:path w="2134" h="1291">
                <a:moveTo>
                  <a:pt x="6598" y="7045"/>
                </a:moveTo>
                <a:cubicBezTo>
                  <a:pt x="6598" y="7126"/>
                  <a:pt x="6590" y="7168"/>
                  <a:pt x="6573" y="7243"/>
                </a:cubicBezTo>
                <a:cubicBezTo>
                  <a:pt x="6562" y="7289"/>
                  <a:pt x="6572" y="7325"/>
                  <a:pt x="6598" y="7342"/>
                </a:cubicBezTo>
              </a:path>
              <a:path w="2134" h="1291">
                <a:moveTo>
                  <a:pt x="7094" y="6846"/>
                </a:moveTo>
                <a:cubicBezTo>
                  <a:pt x="7052" y="6899"/>
                  <a:pt x="7026" y="6959"/>
                  <a:pt x="6995" y="7020"/>
                </a:cubicBezTo>
                <a:cubicBezTo>
                  <a:pt x="6940" y="7129"/>
                  <a:pt x="6893" y="7255"/>
                  <a:pt x="6846" y="7367"/>
                </a:cubicBezTo>
                <a:cubicBezTo>
                  <a:pt x="6806" y="7463"/>
                  <a:pt x="6782" y="7568"/>
                  <a:pt x="6747" y="7665"/>
                </a:cubicBezTo>
                <a:cubicBezTo>
                  <a:pt x="6723" y="7731"/>
                  <a:pt x="6690" y="7804"/>
                  <a:pt x="6672" y="7863"/>
                </a:cubicBezTo>
                <a:cubicBezTo>
                  <a:pt x="6654" y="7923"/>
                  <a:pt x="6684" y="7913"/>
                  <a:pt x="6697" y="7863"/>
                </a:cubicBezTo>
              </a:path>
              <a:path w="2134" h="1291">
                <a:moveTo>
                  <a:pt x="7045" y="7466"/>
                </a:moveTo>
                <a:cubicBezTo>
                  <a:pt x="7015" y="7516"/>
                  <a:pt x="6965" y="7560"/>
                  <a:pt x="6945" y="7590"/>
                </a:cubicBezTo>
                <a:cubicBezTo>
                  <a:pt x="6919" y="7629"/>
                  <a:pt x="6964" y="7662"/>
                  <a:pt x="6995" y="7665"/>
                </a:cubicBezTo>
                <a:cubicBezTo>
                  <a:pt x="7066" y="7673"/>
                  <a:pt x="7137" y="7672"/>
                  <a:pt x="7193" y="7640"/>
                </a:cubicBezTo>
                <a:cubicBezTo>
                  <a:pt x="7237" y="7618"/>
                  <a:pt x="7249" y="7615"/>
                  <a:pt x="7268" y="7590"/>
                </a:cubicBezTo>
              </a:path>
              <a:path w="2134" h="1291">
                <a:moveTo>
                  <a:pt x="7317" y="7317"/>
                </a:moveTo>
                <a:cubicBezTo>
                  <a:pt x="7292" y="7387"/>
                  <a:pt x="7252" y="7470"/>
                  <a:pt x="7243" y="7541"/>
                </a:cubicBezTo>
                <a:cubicBezTo>
                  <a:pt x="7232" y="7625"/>
                  <a:pt x="7223" y="7706"/>
                  <a:pt x="7218" y="7789"/>
                </a:cubicBezTo>
                <a:cubicBezTo>
                  <a:pt x="7215" y="7838"/>
                  <a:pt x="7218" y="7889"/>
                  <a:pt x="7218" y="7938"/>
                </a:cubicBezTo>
                <a:cubicBezTo>
                  <a:pt x="7269" y="7925"/>
                  <a:pt x="7264" y="7914"/>
                  <a:pt x="7293" y="7863"/>
                </a:cubicBezTo>
              </a:path>
              <a:path w="2134" h="1291">
                <a:moveTo>
                  <a:pt x="7441" y="6722"/>
                </a:moveTo>
                <a:cubicBezTo>
                  <a:pt x="7542" y="6786"/>
                  <a:pt x="7579" y="6816"/>
                  <a:pt x="7640" y="6921"/>
                </a:cubicBezTo>
                <a:cubicBezTo>
                  <a:pt x="7716" y="7053"/>
                  <a:pt x="7756" y="7177"/>
                  <a:pt x="7789" y="7317"/>
                </a:cubicBezTo>
                <a:cubicBezTo>
                  <a:pt x="7819" y="7444"/>
                  <a:pt x="7783" y="7494"/>
                  <a:pt x="7764" y="7615"/>
                </a:cubicBezTo>
                <a:cubicBezTo>
                  <a:pt x="7748" y="7712"/>
                  <a:pt x="7711" y="7763"/>
                  <a:pt x="7640" y="7838"/>
                </a:cubicBezTo>
                <a:cubicBezTo>
                  <a:pt x="7592" y="7889"/>
                  <a:pt x="7542" y="7917"/>
                  <a:pt x="7491" y="7962"/>
                </a:cubicBezTo>
                <a:cubicBezTo>
                  <a:pt x="7463" y="7987"/>
                  <a:pt x="7444" y="7997"/>
                  <a:pt x="7417" y="8012"/>
                </a:cubicBezTo>
                <a:cubicBezTo>
                  <a:pt x="7435" y="7989"/>
                  <a:pt x="7461" y="7950"/>
                  <a:pt x="7491" y="7913"/>
                </a:cubicBezTo>
              </a:path>
              <a:path w="2134" h="1291">
                <a:moveTo>
                  <a:pt x="8086" y="7392"/>
                </a:moveTo>
                <a:cubicBezTo>
                  <a:pt x="8169" y="7392"/>
                  <a:pt x="8267" y="7408"/>
                  <a:pt x="8334" y="7367"/>
                </a:cubicBezTo>
              </a:path>
              <a:path w="2134" h="1291">
                <a:moveTo>
                  <a:pt x="8136" y="7590"/>
                </a:moveTo>
                <a:cubicBezTo>
                  <a:pt x="8228" y="7616"/>
                  <a:pt x="8290" y="7640"/>
                  <a:pt x="8384" y="76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32080" y="2473200"/>
            <a:ext cx="1706760" cy="376200"/>
          </a:xfrm>
          <a:custGeom>
            <a:avLst/>
            <a:gdLst/>
            <a:ahLst/>
            <a:rect l="l" t="t" r="r" b="b"/>
            <a:pathLst>
              <a:path w="4739" h="1043">
                <a:moveTo>
                  <a:pt x="9302" y="7243"/>
                </a:moveTo>
                <a:cubicBezTo>
                  <a:pt x="9302" y="7197"/>
                  <a:pt x="9304" y="7175"/>
                  <a:pt x="9252" y="7169"/>
                </a:cubicBezTo>
                <a:cubicBezTo>
                  <a:pt x="9203" y="7164"/>
                  <a:pt x="9192" y="7181"/>
                  <a:pt x="9153" y="7193"/>
                </a:cubicBezTo>
                <a:cubicBezTo>
                  <a:pt x="9117" y="7205"/>
                  <a:pt x="9089" y="7231"/>
                  <a:pt x="9054" y="7243"/>
                </a:cubicBezTo>
                <a:cubicBezTo>
                  <a:pt x="9029" y="7243"/>
                  <a:pt x="9021" y="7243"/>
                  <a:pt x="9004" y="7243"/>
                </a:cubicBezTo>
                <a:cubicBezTo>
                  <a:pt x="9004" y="7291"/>
                  <a:pt x="8994" y="7301"/>
                  <a:pt x="9029" y="7317"/>
                </a:cubicBezTo>
                <a:cubicBezTo>
                  <a:pt x="9081" y="7341"/>
                  <a:pt x="9137" y="7378"/>
                  <a:pt x="9178" y="7417"/>
                </a:cubicBezTo>
                <a:cubicBezTo>
                  <a:pt x="9221" y="7457"/>
                  <a:pt x="9282" y="7507"/>
                  <a:pt x="9302" y="7565"/>
                </a:cubicBezTo>
                <a:cubicBezTo>
                  <a:pt x="9318" y="7611"/>
                  <a:pt x="9281" y="7637"/>
                  <a:pt x="9252" y="7665"/>
                </a:cubicBezTo>
                <a:cubicBezTo>
                  <a:pt x="9209" y="7707"/>
                  <a:pt x="9137" y="7689"/>
                  <a:pt x="9079" y="7689"/>
                </a:cubicBezTo>
                <a:cubicBezTo>
                  <a:pt x="9049" y="7689"/>
                  <a:pt x="8958" y="7663"/>
                  <a:pt x="8979" y="7615"/>
                </a:cubicBezTo>
                <a:cubicBezTo>
                  <a:pt x="9004" y="7590"/>
                  <a:pt x="9012" y="7582"/>
                  <a:pt x="9029" y="7565"/>
                </a:cubicBezTo>
              </a:path>
              <a:path w="4739" h="1043">
                <a:moveTo>
                  <a:pt x="9550" y="7243"/>
                </a:moveTo>
                <a:cubicBezTo>
                  <a:pt x="9550" y="7400"/>
                  <a:pt x="9550" y="7822"/>
                  <a:pt x="9550" y="7665"/>
                </a:cubicBezTo>
              </a:path>
              <a:path w="4739" h="1043">
                <a:moveTo>
                  <a:pt x="9599" y="7020"/>
                </a:moveTo>
                <a:cubicBezTo>
                  <a:pt x="9607" y="7020"/>
                  <a:pt x="9616" y="7020"/>
                  <a:pt x="9624" y="7020"/>
                </a:cubicBezTo>
              </a:path>
              <a:path w="4739" h="1043">
                <a:moveTo>
                  <a:pt x="9723" y="7466"/>
                </a:moveTo>
                <a:cubicBezTo>
                  <a:pt x="9723" y="7486"/>
                  <a:pt x="9723" y="7711"/>
                  <a:pt x="9723" y="7665"/>
                </a:cubicBezTo>
                <a:cubicBezTo>
                  <a:pt x="9723" y="7610"/>
                  <a:pt x="9760" y="7567"/>
                  <a:pt x="9773" y="7516"/>
                </a:cubicBezTo>
                <a:cubicBezTo>
                  <a:pt x="9787" y="7461"/>
                  <a:pt x="9806" y="7411"/>
                  <a:pt x="9847" y="7367"/>
                </a:cubicBezTo>
                <a:cubicBezTo>
                  <a:pt x="9897" y="7313"/>
                  <a:pt x="9945" y="7251"/>
                  <a:pt x="10021" y="7243"/>
                </a:cubicBezTo>
                <a:cubicBezTo>
                  <a:pt x="10052" y="7240"/>
                  <a:pt x="10106" y="7288"/>
                  <a:pt x="10120" y="7317"/>
                </a:cubicBezTo>
                <a:cubicBezTo>
                  <a:pt x="10157" y="7396"/>
                  <a:pt x="10145" y="7480"/>
                  <a:pt x="10145" y="7565"/>
                </a:cubicBezTo>
                <a:cubicBezTo>
                  <a:pt x="10145" y="7632"/>
                  <a:pt x="10152" y="7662"/>
                  <a:pt x="10170" y="7714"/>
                </a:cubicBezTo>
                <a:cubicBezTo>
                  <a:pt x="10189" y="7770"/>
                  <a:pt x="10170" y="7766"/>
                  <a:pt x="10170" y="7689"/>
                </a:cubicBezTo>
              </a:path>
              <a:path w="4739" h="1043">
                <a:moveTo>
                  <a:pt x="10443" y="6921"/>
                </a:moveTo>
                <a:cubicBezTo>
                  <a:pt x="10567" y="6921"/>
                  <a:pt x="10691" y="6921"/>
                  <a:pt x="10815" y="6921"/>
                </a:cubicBezTo>
              </a:path>
              <a:path w="4739" h="1043">
                <a:moveTo>
                  <a:pt x="10542" y="6995"/>
                </a:moveTo>
                <a:cubicBezTo>
                  <a:pt x="10542" y="7103"/>
                  <a:pt x="10502" y="7379"/>
                  <a:pt x="10567" y="7293"/>
                </a:cubicBezTo>
                <a:cubicBezTo>
                  <a:pt x="10567" y="7285"/>
                  <a:pt x="10567" y="7276"/>
                  <a:pt x="10567" y="7268"/>
                </a:cubicBezTo>
              </a:path>
              <a:path w="4739" h="1043">
                <a:moveTo>
                  <a:pt x="10740" y="6995"/>
                </a:moveTo>
                <a:cubicBezTo>
                  <a:pt x="10740" y="7078"/>
                  <a:pt x="10722" y="7139"/>
                  <a:pt x="10716" y="7218"/>
                </a:cubicBezTo>
                <a:cubicBezTo>
                  <a:pt x="10714" y="7243"/>
                  <a:pt x="10724" y="7306"/>
                  <a:pt x="10740" y="7317"/>
                </a:cubicBezTo>
                <a:cubicBezTo>
                  <a:pt x="10748" y="7317"/>
                  <a:pt x="10757" y="7317"/>
                  <a:pt x="10765" y="7317"/>
                </a:cubicBezTo>
              </a:path>
              <a:path w="4739" h="1043">
                <a:moveTo>
                  <a:pt x="11038" y="6871"/>
                </a:moveTo>
                <a:cubicBezTo>
                  <a:pt x="10993" y="6982"/>
                  <a:pt x="10956" y="7060"/>
                  <a:pt x="10914" y="7169"/>
                </a:cubicBezTo>
                <a:cubicBezTo>
                  <a:pt x="10867" y="7290"/>
                  <a:pt x="10833" y="7418"/>
                  <a:pt x="10790" y="7541"/>
                </a:cubicBezTo>
                <a:cubicBezTo>
                  <a:pt x="10767" y="7607"/>
                  <a:pt x="10732" y="7673"/>
                  <a:pt x="10716" y="7739"/>
                </a:cubicBezTo>
                <a:cubicBezTo>
                  <a:pt x="10704" y="7790"/>
                  <a:pt x="10681" y="7737"/>
                  <a:pt x="10716" y="7789"/>
                </a:cubicBezTo>
                <a:cubicBezTo>
                  <a:pt x="10716" y="7742"/>
                  <a:pt x="10720" y="7738"/>
                  <a:pt x="10740" y="7689"/>
                </a:cubicBezTo>
              </a:path>
              <a:path w="4739" h="1043">
                <a:moveTo>
                  <a:pt x="11038" y="7367"/>
                </a:moveTo>
                <a:cubicBezTo>
                  <a:pt x="10995" y="7483"/>
                  <a:pt x="10948" y="7578"/>
                  <a:pt x="10939" y="7689"/>
                </a:cubicBezTo>
                <a:cubicBezTo>
                  <a:pt x="10937" y="7711"/>
                  <a:pt x="10966" y="7778"/>
                  <a:pt x="10988" y="7789"/>
                </a:cubicBezTo>
                <a:cubicBezTo>
                  <a:pt x="11027" y="7809"/>
                  <a:pt x="11106" y="7783"/>
                  <a:pt x="11137" y="7764"/>
                </a:cubicBezTo>
                <a:cubicBezTo>
                  <a:pt x="11208" y="7720"/>
                  <a:pt x="11209" y="7672"/>
                  <a:pt x="11237" y="7615"/>
                </a:cubicBezTo>
                <a:cubicBezTo>
                  <a:pt x="11267" y="7552"/>
                  <a:pt x="11253" y="7549"/>
                  <a:pt x="11237" y="7516"/>
                </a:cubicBezTo>
                <a:cubicBezTo>
                  <a:pt x="11237" y="7508"/>
                  <a:pt x="11237" y="7499"/>
                  <a:pt x="11237" y="7491"/>
                </a:cubicBezTo>
                <a:cubicBezTo>
                  <a:pt x="11196" y="7532"/>
                  <a:pt x="11171" y="7569"/>
                  <a:pt x="11137" y="7615"/>
                </a:cubicBezTo>
                <a:cubicBezTo>
                  <a:pt x="11106" y="7656"/>
                  <a:pt x="11112" y="7688"/>
                  <a:pt x="11112" y="7739"/>
                </a:cubicBezTo>
                <a:cubicBezTo>
                  <a:pt x="11112" y="7775"/>
                  <a:pt x="11134" y="7810"/>
                  <a:pt x="11162" y="7813"/>
                </a:cubicBezTo>
                <a:cubicBezTo>
                  <a:pt x="11190" y="7813"/>
                  <a:pt x="11201" y="7811"/>
                  <a:pt x="11212" y="7789"/>
                </a:cubicBezTo>
              </a:path>
              <a:path w="4739" h="1043">
                <a:moveTo>
                  <a:pt x="11733" y="7268"/>
                </a:moveTo>
                <a:cubicBezTo>
                  <a:pt x="11750" y="7308"/>
                  <a:pt x="11757" y="7435"/>
                  <a:pt x="11757" y="7392"/>
                </a:cubicBezTo>
                <a:cubicBezTo>
                  <a:pt x="11757" y="7332"/>
                  <a:pt x="11747" y="7297"/>
                  <a:pt x="11733" y="7268"/>
                </a:cubicBezTo>
                <a:cubicBezTo>
                  <a:pt x="11728" y="7258"/>
                  <a:pt x="11685" y="7213"/>
                  <a:pt x="11658" y="7243"/>
                </a:cubicBezTo>
                <a:cubicBezTo>
                  <a:pt x="11619" y="7286"/>
                  <a:pt x="11580" y="7363"/>
                  <a:pt x="11559" y="7417"/>
                </a:cubicBezTo>
                <a:cubicBezTo>
                  <a:pt x="11529" y="7494"/>
                  <a:pt x="11494" y="7580"/>
                  <a:pt x="11509" y="7665"/>
                </a:cubicBezTo>
                <a:cubicBezTo>
                  <a:pt x="11528" y="7773"/>
                  <a:pt x="11554" y="7810"/>
                  <a:pt x="11658" y="7838"/>
                </a:cubicBezTo>
                <a:cubicBezTo>
                  <a:pt x="11692" y="7847"/>
                  <a:pt x="11782" y="7810"/>
                  <a:pt x="11807" y="7789"/>
                </a:cubicBezTo>
                <a:cubicBezTo>
                  <a:pt x="11824" y="7772"/>
                  <a:pt x="11840" y="7756"/>
                  <a:pt x="11857" y="7739"/>
                </a:cubicBezTo>
              </a:path>
              <a:path w="4739" h="1043">
                <a:moveTo>
                  <a:pt x="12005" y="7392"/>
                </a:moveTo>
                <a:cubicBezTo>
                  <a:pt x="11967" y="7481"/>
                  <a:pt x="11960" y="7554"/>
                  <a:pt x="11931" y="7640"/>
                </a:cubicBezTo>
                <a:cubicBezTo>
                  <a:pt x="11910" y="7701"/>
                  <a:pt x="11911" y="7740"/>
                  <a:pt x="11956" y="7789"/>
                </a:cubicBezTo>
                <a:cubicBezTo>
                  <a:pt x="11975" y="7810"/>
                  <a:pt x="12025" y="7829"/>
                  <a:pt x="12055" y="7813"/>
                </a:cubicBezTo>
                <a:cubicBezTo>
                  <a:pt x="12113" y="7782"/>
                  <a:pt x="12148" y="7747"/>
                  <a:pt x="12179" y="7689"/>
                </a:cubicBezTo>
                <a:cubicBezTo>
                  <a:pt x="12220" y="7612"/>
                  <a:pt x="12229" y="7583"/>
                  <a:pt x="12229" y="7491"/>
                </a:cubicBezTo>
                <a:cubicBezTo>
                  <a:pt x="12229" y="7442"/>
                  <a:pt x="12200" y="7352"/>
                  <a:pt x="12154" y="7342"/>
                </a:cubicBezTo>
                <a:cubicBezTo>
                  <a:pt x="12091" y="7328"/>
                  <a:pt x="12070" y="7352"/>
                  <a:pt x="12030" y="7392"/>
                </a:cubicBezTo>
                <a:cubicBezTo>
                  <a:pt x="11995" y="7427"/>
                  <a:pt x="12005" y="7439"/>
                  <a:pt x="12005" y="7491"/>
                </a:cubicBezTo>
              </a:path>
              <a:path w="4739" h="1043">
                <a:moveTo>
                  <a:pt x="12551" y="7243"/>
                </a:moveTo>
                <a:cubicBezTo>
                  <a:pt x="12436" y="7282"/>
                  <a:pt x="12452" y="7250"/>
                  <a:pt x="12452" y="7342"/>
                </a:cubicBezTo>
                <a:cubicBezTo>
                  <a:pt x="12452" y="7424"/>
                  <a:pt x="12532" y="7457"/>
                  <a:pt x="12576" y="7516"/>
                </a:cubicBezTo>
                <a:cubicBezTo>
                  <a:pt x="12614" y="7567"/>
                  <a:pt x="12601" y="7629"/>
                  <a:pt x="12601" y="7689"/>
                </a:cubicBezTo>
                <a:cubicBezTo>
                  <a:pt x="12601" y="7784"/>
                  <a:pt x="12564" y="7759"/>
                  <a:pt x="12502" y="7789"/>
                </a:cubicBezTo>
                <a:cubicBezTo>
                  <a:pt x="12478" y="7801"/>
                  <a:pt x="12409" y="7843"/>
                  <a:pt x="12378" y="7813"/>
                </a:cubicBezTo>
                <a:cubicBezTo>
                  <a:pt x="12359" y="7794"/>
                  <a:pt x="12357" y="7740"/>
                  <a:pt x="12353" y="7714"/>
                </a:cubicBezTo>
              </a:path>
              <a:path w="4739" h="1043">
                <a:moveTo>
                  <a:pt x="12874" y="6871"/>
                </a:moveTo>
                <a:cubicBezTo>
                  <a:pt x="12998" y="6871"/>
                  <a:pt x="13122" y="6871"/>
                  <a:pt x="13246" y="6871"/>
                </a:cubicBezTo>
              </a:path>
              <a:path w="4739" h="1043">
                <a:moveTo>
                  <a:pt x="13022" y="6896"/>
                </a:moveTo>
                <a:cubicBezTo>
                  <a:pt x="13022" y="7003"/>
                  <a:pt x="13022" y="7276"/>
                  <a:pt x="13022" y="7169"/>
                </a:cubicBezTo>
              </a:path>
              <a:path w="4739" h="1043">
                <a:moveTo>
                  <a:pt x="13196" y="6921"/>
                </a:moveTo>
                <a:cubicBezTo>
                  <a:pt x="13196" y="6954"/>
                  <a:pt x="13165" y="7160"/>
                  <a:pt x="13171" y="7193"/>
                </a:cubicBezTo>
                <a:cubicBezTo>
                  <a:pt x="13179" y="7193"/>
                  <a:pt x="13188" y="7193"/>
                  <a:pt x="13196" y="7193"/>
                </a:cubicBezTo>
              </a:path>
              <a:path w="4739" h="1043">
                <a:moveTo>
                  <a:pt x="13543" y="6921"/>
                </a:moveTo>
                <a:cubicBezTo>
                  <a:pt x="13467" y="7030"/>
                  <a:pt x="13456" y="7092"/>
                  <a:pt x="13395" y="7218"/>
                </a:cubicBezTo>
                <a:cubicBezTo>
                  <a:pt x="13351" y="7309"/>
                  <a:pt x="13307" y="7395"/>
                  <a:pt x="13271" y="7491"/>
                </a:cubicBezTo>
                <a:cubicBezTo>
                  <a:pt x="13245" y="7560"/>
                  <a:pt x="13187" y="7643"/>
                  <a:pt x="13171" y="7714"/>
                </a:cubicBezTo>
                <a:cubicBezTo>
                  <a:pt x="13159" y="7768"/>
                  <a:pt x="13134" y="7789"/>
                  <a:pt x="13122" y="7838"/>
                </a:cubicBezTo>
                <a:cubicBezTo>
                  <a:pt x="13154" y="7827"/>
                  <a:pt x="13144" y="7824"/>
                  <a:pt x="13171" y="7789"/>
                </a:cubicBezTo>
              </a:path>
              <a:path w="4739" h="1043">
                <a:moveTo>
                  <a:pt x="13469" y="7441"/>
                </a:moveTo>
                <a:cubicBezTo>
                  <a:pt x="13441" y="7487"/>
                  <a:pt x="13400" y="7539"/>
                  <a:pt x="13395" y="7590"/>
                </a:cubicBezTo>
                <a:cubicBezTo>
                  <a:pt x="13392" y="7617"/>
                  <a:pt x="13421" y="7637"/>
                  <a:pt x="13444" y="7640"/>
                </a:cubicBezTo>
                <a:cubicBezTo>
                  <a:pt x="13492" y="7646"/>
                  <a:pt x="13540" y="7683"/>
                  <a:pt x="13593" y="7665"/>
                </a:cubicBezTo>
                <a:cubicBezTo>
                  <a:pt x="13637" y="7643"/>
                  <a:pt x="13648" y="7640"/>
                  <a:pt x="13667" y="7615"/>
                </a:cubicBezTo>
              </a:path>
              <a:path w="4739" h="1043">
                <a:moveTo>
                  <a:pt x="13717" y="7293"/>
                </a:moveTo>
                <a:cubicBezTo>
                  <a:pt x="13693" y="7379"/>
                  <a:pt x="13686" y="7457"/>
                  <a:pt x="13667" y="7541"/>
                </a:cubicBezTo>
                <a:cubicBezTo>
                  <a:pt x="13650" y="7615"/>
                  <a:pt x="13630" y="7692"/>
                  <a:pt x="13618" y="7764"/>
                </a:cubicBezTo>
                <a:cubicBezTo>
                  <a:pt x="13607" y="7827"/>
                  <a:pt x="13609" y="7855"/>
                  <a:pt x="13593" y="7888"/>
                </a:cubicBezTo>
                <a:cubicBezTo>
                  <a:pt x="13593" y="7896"/>
                  <a:pt x="13593" y="7905"/>
                  <a:pt x="13593" y="7913"/>
                </a:cubicBezTo>
                <a:cubicBezTo>
                  <a:pt x="13621" y="7904"/>
                  <a:pt x="13634" y="7864"/>
                  <a:pt x="13643" y="78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70320" y="2544840"/>
            <a:ext cx="14292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14486" y="7069"/>
                </a:moveTo>
                <a:cubicBezTo>
                  <a:pt x="14475" y="7125"/>
                  <a:pt x="14473" y="7186"/>
                  <a:pt x="14461" y="7243"/>
                </a:cubicBezTo>
                <a:cubicBezTo>
                  <a:pt x="14438" y="7346"/>
                  <a:pt x="14436" y="7434"/>
                  <a:pt x="14436" y="7541"/>
                </a:cubicBezTo>
                <a:cubicBezTo>
                  <a:pt x="14436" y="7603"/>
                  <a:pt x="14446" y="7638"/>
                  <a:pt x="14461" y="7689"/>
                </a:cubicBezTo>
                <a:cubicBezTo>
                  <a:pt x="14461" y="7714"/>
                  <a:pt x="14461" y="7722"/>
                  <a:pt x="14461" y="7689"/>
                </a:cubicBezTo>
              </a:path>
              <a:path w="398" h="646">
                <a:moveTo>
                  <a:pt x="14362" y="7392"/>
                </a:moveTo>
                <a:cubicBezTo>
                  <a:pt x="14437" y="7392"/>
                  <a:pt x="14491" y="7405"/>
                  <a:pt x="14560" y="7417"/>
                </a:cubicBezTo>
                <a:cubicBezTo>
                  <a:pt x="14626" y="7428"/>
                  <a:pt x="14659" y="7409"/>
                  <a:pt x="14709" y="7392"/>
                </a:cubicBezTo>
                <a:cubicBezTo>
                  <a:pt x="14734" y="7392"/>
                  <a:pt x="14742" y="7392"/>
                  <a:pt x="14759" y="73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73800" y="2500200"/>
            <a:ext cx="795240" cy="357480"/>
          </a:xfrm>
          <a:custGeom>
            <a:avLst/>
            <a:gdLst/>
            <a:ahLst/>
            <a:rect l="l" t="t" r="r" b="b"/>
            <a:pathLst>
              <a:path w="2209" h="994">
                <a:moveTo>
                  <a:pt x="15553" y="7417"/>
                </a:moveTo>
                <a:cubicBezTo>
                  <a:pt x="15533" y="7457"/>
                  <a:pt x="15524" y="7463"/>
                  <a:pt x="15528" y="7491"/>
                </a:cubicBezTo>
                <a:cubicBezTo>
                  <a:pt x="15494" y="7449"/>
                  <a:pt x="15485" y="7404"/>
                  <a:pt x="15453" y="7367"/>
                </a:cubicBezTo>
                <a:cubicBezTo>
                  <a:pt x="15425" y="7334"/>
                  <a:pt x="15382" y="7327"/>
                  <a:pt x="15354" y="7367"/>
                </a:cubicBezTo>
                <a:cubicBezTo>
                  <a:pt x="15311" y="7429"/>
                  <a:pt x="15275" y="7475"/>
                  <a:pt x="15255" y="7541"/>
                </a:cubicBezTo>
                <a:cubicBezTo>
                  <a:pt x="15226" y="7635"/>
                  <a:pt x="15217" y="7701"/>
                  <a:pt x="15230" y="7789"/>
                </a:cubicBezTo>
                <a:cubicBezTo>
                  <a:pt x="15235" y="7822"/>
                  <a:pt x="15232" y="7878"/>
                  <a:pt x="15280" y="7888"/>
                </a:cubicBezTo>
                <a:cubicBezTo>
                  <a:pt x="15342" y="7901"/>
                  <a:pt x="15434" y="7889"/>
                  <a:pt x="15478" y="7838"/>
                </a:cubicBezTo>
                <a:cubicBezTo>
                  <a:pt x="15503" y="7789"/>
                  <a:pt x="15512" y="7772"/>
                  <a:pt x="15553" y="7764"/>
                </a:cubicBezTo>
              </a:path>
              <a:path w="2209" h="994">
                <a:moveTo>
                  <a:pt x="15701" y="7417"/>
                </a:moveTo>
                <a:cubicBezTo>
                  <a:pt x="15680" y="7489"/>
                  <a:pt x="15663" y="7569"/>
                  <a:pt x="15652" y="7640"/>
                </a:cubicBezTo>
                <a:cubicBezTo>
                  <a:pt x="15646" y="7679"/>
                  <a:pt x="15645" y="7760"/>
                  <a:pt x="15677" y="7789"/>
                </a:cubicBezTo>
                <a:cubicBezTo>
                  <a:pt x="15711" y="7820"/>
                  <a:pt x="15764" y="7819"/>
                  <a:pt x="15801" y="7789"/>
                </a:cubicBezTo>
                <a:cubicBezTo>
                  <a:pt x="15836" y="7761"/>
                  <a:pt x="15889" y="7710"/>
                  <a:pt x="15900" y="7665"/>
                </a:cubicBezTo>
                <a:cubicBezTo>
                  <a:pt x="15917" y="7592"/>
                  <a:pt x="15908" y="7457"/>
                  <a:pt x="15875" y="7392"/>
                </a:cubicBezTo>
                <a:cubicBezTo>
                  <a:pt x="15867" y="7384"/>
                  <a:pt x="15858" y="7375"/>
                  <a:pt x="15850" y="7367"/>
                </a:cubicBezTo>
                <a:cubicBezTo>
                  <a:pt x="15821" y="7389"/>
                  <a:pt x="15769" y="7403"/>
                  <a:pt x="15751" y="7441"/>
                </a:cubicBezTo>
                <a:cubicBezTo>
                  <a:pt x="15717" y="7512"/>
                  <a:pt x="15740" y="7556"/>
                  <a:pt x="15776" y="7615"/>
                </a:cubicBezTo>
              </a:path>
              <a:path w="2209" h="994">
                <a:moveTo>
                  <a:pt x="16272" y="7392"/>
                </a:moveTo>
                <a:cubicBezTo>
                  <a:pt x="16235" y="7408"/>
                  <a:pt x="16177" y="7421"/>
                  <a:pt x="16148" y="7441"/>
                </a:cubicBezTo>
                <a:cubicBezTo>
                  <a:pt x="16112" y="7465"/>
                  <a:pt x="16124" y="7520"/>
                  <a:pt x="16148" y="7541"/>
                </a:cubicBezTo>
                <a:cubicBezTo>
                  <a:pt x="16223" y="7606"/>
                  <a:pt x="16290" y="7662"/>
                  <a:pt x="16321" y="7764"/>
                </a:cubicBezTo>
                <a:cubicBezTo>
                  <a:pt x="16335" y="7810"/>
                  <a:pt x="16295" y="7853"/>
                  <a:pt x="16272" y="7863"/>
                </a:cubicBezTo>
                <a:cubicBezTo>
                  <a:pt x="16235" y="7880"/>
                  <a:pt x="16163" y="7926"/>
                  <a:pt x="16123" y="7913"/>
                </a:cubicBezTo>
                <a:cubicBezTo>
                  <a:pt x="16078" y="7898"/>
                  <a:pt x="16070" y="7869"/>
                  <a:pt x="16049" y="7838"/>
                </a:cubicBezTo>
                <a:cubicBezTo>
                  <a:pt x="16041" y="7830"/>
                  <a:pt x="16032" y="7821"/>
                  <a:pt x="16024" y="7813"/>
                </a:cubicBezTo>
              </a:path>
              <a:path w="2209" h="994">
                <a:moveTo>
                  <a:pt x="16619" y="7020"/>
                </a:moveTo>
                <a:cubicBezTo>
                  <a:pt x="16696" y="7030"/>
                  <a:pt x="16760" y="7045"/>
                  <a:pt x="16842" y="7045"/>
                </a:cubicBezTo>
                <a:cubicBezTo>
                  <a:pt x="16897" y="7045"/>
                  <a:pt x="16976" y="7066"/>
                  <a:pt x="16991" y="7020"/>
                </a:cubicBezTo>
              </a:path>
              <a:path w="2209" h="994">
                <a:moveTo>
                  <a:pt x="16718" y="7069"/>
                </a:moveTo>
                <a:cubicBezTo>
                  <a:pt x="16718" y="7084"/>
                  <a:pt x="16727" y="7388"/>
                  <a:pt x="16743" y="7367"/>
                </a:cubicBezTo>
                <a:cubicBezTo>
                  <a:pt x="16743" y="7359"/>
                  <a:pt x="16743" y="7350"/>
                  <a:pt x="16743" y="7342"/>
                </a:cubicBezTo>
              </a:path>
              <a:path w="2209" h="994">
                <a:moveTo>
                  <a:pt x="16942" y="7119"/>
                </a:moveTo>
                <a:cubicBezTo>
                  <a:pt x="16924" y="7185"/>
                  <a:pt x="16884" y="7282"/>
                  <a:pt x="16867" y="7317"/>
                </a:cubicBezTo>
                <a:cubicBezTo>
                  <a:pt x="16867" y="7342"/>
                  <a:pt x="16867" y="7350"/>
                  <a:pt x="16892" y="7342"/>
                </a:cubicBezTo>
              </a:path>
              <a:path w="2209" h="994">
                <a:moveTo>
                  <a:pt x="17239" y="6945"/>
                </a:moveTo>
                <a:cubicBezTo>
                  <a:pt x="17195" y="7071"/>
                  <a:pt x="17128" y="7190"/>
                  <a:pt x="17090" y="7317"/>
                </a:cubicBezTo>
                <a:cubicBezTo>
                  <a:pt x="17055" y="7435"/>
                  <a:pt x="17011" y="7549"/>
                  <a:pt x="16966" y="7665"/>
                </a:cubicBezTo>
                <a:cubicBezTo>
                  <a:pt x="16937" y="7739"/>
                  <a:pt x="16909" y="7813"/>
                  <a:pt x="16892" y="7888"/>
                </a:cubicBezTo>
                <a:cubicBezTo>
                  <a:pt x="16888" y="7905"/>
                  <a:pt x="16849" y="7957"/>
                  <a:pt x="16867" y="7913"/>
                </a:cubicBezTo>
                <a:cubicBezTo>
                  <a:pt x="16875" y="7896"/>
                  <a:pt x="16884" y="7880"/>
                  <a:pt x="16892" y="7863"/>
                </a:cubicBezTo>
              </a:path>
              <a:path w="2209" h="994">
                <a:moveTo>
                  <a:pt x="17214" y="7516"/>
                </a:moveTo>
                <a:cubicBezTo>
                  <a:pt x="17202" y="7613"/>
                  <a:pt x="17134" y="7608"/>
                  <a:pt x="17115" y="7689"/>
                </a:cubicBezTo>
                <a:cubicBezTo>
                  <a:pt x="17103" y="7742"/>
                  <a:pt x="17090" y="7807"/>
                  <a:pt x="17090" y="7863"/>
                </a:cubicBezTo>
                <a:cubicBezTo>
                  <a:pt x="17090" y="7882"/>
                  <a:pt x="17135" y="7926"/>
                  <a:pt x="17165" y="7913"/>
                </a:cubicBezTo>
                <a:cubicBezTo>
                  <a:pt x="17204" y="7896"/>
                  <a:pt x="17281" y="7876"/>
                  <a:pt x="17314" y="7838"/>
                </a:cubicBezTo>
                <a:cubicBezTo>
                  <a:pt x="17339" y="7809"/>
                  <a:pt x="17404" y="7699"/>
                  <a:pt x="17413" y="7665"/>
                </a:cubicBezTo>
                <a:cubicBezTo>
                  <a:pt x="17413" y="7615"/>
                  <a:pt x="17413" y="7598"/>
                  <a:pt x="17413" y="7565"/>
                </a:cubicBezTo>
                <a:cubicBezTo>
                  <a:pt x="17389" y="7573"/>
                  <a:pt x="17348" y="7614"/>
                  <a:pt x="17314" y="7640"/>
                </a:cubicBezTo>
                <a:cubicBezTo>
                  <a:pt x="17261" y="7680"/>
                  <a:pt x="17244" y="7752"/>
                  <a:pt x="17239" y="7813"/>
                </a:cubicBezTo>
                <a:cubicBezTo>
                  <a:pt x="17235" y="7864"/>
                  <a:pt x="17251" y="7873"/>
                  <a:pt x="17264" y="7913"/>
                </a:cubicBezTo>
                <a:cubicBezTo>
                  <a:pt x="17277" y="7953"/>
                  <a:pt x="17312" y="7938"/>
                  <a:pt x="17363" y="7938"/>
                </a:cubicBezTo>
              </a:path>
              <a:path w="2209" h="994">
                <a:moveTo>
                  <a:pt x="17338" y="7293"/>
                </a:moveTo>
                <a:cubicBezTo>
                  <a:pt x="17293" y="7383"/>
                  <a:pt x="17253" y="7473"/>
                  <a:pt x="17214" y="7565"/>
                </a:cubicBezTo>
                <a:cubicBezTo>
                  <a:pt x="17189" y="7625"/>
                  <a:pt x="17170" y="7678"/>
                  <a:pt x="17165" y="7739"/>
                </a:cubicBezTo>
                <a:cubicBezTo>
                  <a:pt x="17165" y="7764"/>
                  <a:pt x="17165" y="7772"/>
                  <a:pt x="17165" y="77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92880" y="2517840"/>
            <a:ext cx="341280" cy="312840"/>
          </a:xfrm>
          <a:custGeom>
            <a:avLst/>
            <a:gdLst/>
            <a:ahLst/>
            <a:rect l="l" t="t" r="r" b="b"/>
            <a:pathLst>
              <a:path w="944" h="869">
                <a:moveTo>
                  <a:pt x="18058" y="7218"/>
                </a:moveTo>
                <a:cubicBezTo>
                  <a:pt x="18019" y="7247"/>
                  <a:pt x="17972" y="7243"/>
                  <a:pt x="17934" y="7268"/>
                </a:cubicBezTo>
                <a:cubicBezTo>
                  <a:pt x="17892" y="7296"/>
                  <a:pt x="17841" y="7315"/>
                  <a:pt x="17835" y="7367"/>
                </a:cubicBezTo>
                <a:cubicBezTo>
                  <a:pt x="17833" y="7387"/>
                  <a:pt x="17913" y="7497"/>
                  <a:pt x="17934" y="7516"/>
                </a:cubicBezTo>
                <a:cubicBezTo>
                  <a:pt x="18006" y="7578"/>
                  <a:pt x="18035" y="7592"/>
                  <a:pt x="18058" y="7689"/>
                </a:cubicBezTo>
                <a:cubicBezTo>
                  <a:pt x="18072" y="7751"/>
                  <a:pt x="18048" y="7774"/>
                  <a:pt x="18008" y="7813"/>
                </a:cubicBezTo>
                <a:cubicBezTo>
                  <a:pt x="17962" y="7859"/>
                  <a:pt x="17951" y="7863"/>
                  <a:pt x="17884" y="7863"/>
                </a:cubicBezTo>
                <a:cubicBezTo>
                  <a:pt x="17823" y="7863"/>
                  <a:pt x="17779" y="7820"/>
                  <a:pt x="17760" y="7764"/>
                </a:cubicBezTo>
                <a:cubicBezTo>
                  <a:pt x="17760" y="7739"/>
                  <a:pt x="17760" y="7731"/>
                  <a:pt x="17760" y="7714"/>
                </a:cubicBezTo>
              </a:path>
              <a:path w="944" h="869">
                <a:moveTo>
                  <a:pt x="18207" y="7417"/>
                </a:moveTo>
                <a:cubicBezTo>
                  <a:pt x="18202" y="7547"/>
                  <a:pt x="18182" y="7642"/>
                  <a:pt x="18182" y="7764"/>
                </a:cubicBezTo>
                <a:cubicBezTo>
                  <a:pt x="18182" y="7796"/>
                  <a:pt x="18165" y="7849"/>
                  <a:pt x="18157" y="7789"/>
                </a:cubicBezTo>
                <a:cubicBezTo>
                  <a:pt x="18157" y="7781"/>
                  <a:pt x="18157" y="7772"/>
                  <a:pt x="18157" y="7764"/>
                </a:cubicBezTo>
              </a:path>
              <a:path w="944" h="869">
                <a:moveTo>
                  <a:pt x="18281" y="7020"/>
                </a:moveTo>
                <a:cubicBezTo>
                  <a:pt x="18304" y="6997"/>
                  <a:pt x="18308" y="6989"/>
                  <a:pt x="18331" y="6995"/>
                </a:cubicBezTo>
              </a:path>
              <a:path w="944" h="869">
                <a:moveTo>
                  <a:pt x="18380" y="7640"/>
                </a:moveTo>
                <a:cubicBezTo>
                  <a:pt x="18380" y="7673"/>
                  <a:pt x="18380" y="7706"/>
                  <a:pt x="18380" y="7739"/>
                </a:cubicBezTo>
                <a:cubicBezTo>
                  <a:pt x="18380" y="7780"/>
                  <a:pt x="18380" y="7706"/>
                  <a:pt x="18380" y="7665"/>
                </a:cubicBezTo>
                <a:cubicBezTo>
                  <a:pt x="18380" y="7613"/>
                  <a:pt x="18384" y="7536"/>
                  <a:pt x="18405" y="7491"/>
                </a:cubicBezTo>
                <a:cubicBezTo>
                  <a:pt x="18420" y="7459"/>
                  <a:pt x="18520" y="7403"/>
                  <a:pt x="18554" y="7392"/>
                </a:cubicBezTo>
                <a:cubicBezTo>
                  <a:pt x="18603" y="7376"/>
                  <a:pt x="18651" y="7399"/>
                  <a:pt x="18678" y="7441"/>
                </a:cubicBezTo>
                <a:cubicBezTo>
                  <a:pt x="18720" y="7506"/>
                  <a:pt x="18703" y="7590"/>
                  <a:pt x="18703" y="7665"/>
                </a:cubicBezTo>
                <a:cubicBezTo>
                  <a:pt x="18703" y="7697"/>
                  <a:pt x="18678" y="7793"/>
                  <a:pt x="18678" y="77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0" y="2482920"/>
            <a:ext cx="285840" cy="36648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19050" y="6945"/>
                </a:moveTo>
                <a:cubicBezTo>
                  <a:pt x="19152" y="6945"/>
                  <a:pt x="19206" y="6926"/>
                  <a:pt x="19298" y="6921"/>
                </a:cubicBezTo>
                <a:cubicBezTo>
                  <a:pt x="19356" y="6918"/>
                  <a:pt x="19396" y="6935"/>
                  <a:pt x="19422" y="6896"/>
                </a:cubicBezTo>
              </a:path>
              <a:path w="795" h="1018">
                <a:moveTo>
                  <a:pt x="19149" y="7020"/>
                </a:moveTo>
                <a:cubicBezTo>
                  <a:pt x="19138" y="7092"/>
                  <a:pt x="19100" y="7217"/>
                  <a:pt x="19124" y="7268"/>
                </a:cubicBezTo>
              </a:path>
              <a:path w="795" h="1018">
                <a:moveTo>
                  <a:pt x="19298" y="7045"/>
                </a:moveTo>
                <a:cubicBezTo>
                  <a:pt x="19298" y="7128"/>
                  <a:pt x="19279" y="7171"/>
                  <a:pt x="19273" y="7243"/>
                </a:cubicBezTo>
                <a:cubicBezTo>
                  <a:pt x="19273" y="7251"/>
                  <a:pt x="19273" y="7260"/>
                  <a:pt x="19273" y="7268"/>
                </a:cubicBezTo>
              </a:path>
              <a:path w="795" h="1018">
                <a:moveTo>
                  <a:pt x="19745" y="6896"/>
                </a:moveTo>
                <a:cubicBezTo>
                  <a:pt x="19675" y="7029"/>
                  <a:pt x="19611" y="7163"/>
                  <a:pt x="19546" y="7293"/>
                </a:cubicBezTo>
                <a:cubicBezTo>
                  <a:pt x="19487" y="7411"/>
                  <a:pt x="19410" y="7523"/>
                  <a:pt x="19348" y="7640"/>
                </a:cubicBezTo>
                <a:cubicBezTo>
                  <a:pt x="19345" y="7645"/>
                  <a:pt x="19256" y="7801"/>
                  <a:pt x="19248" y="7789"/>
                </a:cubicBezTo>
                <a:cubicBezTo>
                  <a:pt x="19248" y="7772"/>
                  <a:pt x="19248" y="7756"/>
                  <a:pt x="19248" y="7739"/>
                </a:cubicBezTo>
              </a:path>
              <a:path w="795" h="1018">
                <a:moveTo>
                  <a:pt x="19571" y="7491"/>
                </a:moveTo>
                <a:cubicBezTo>
                  <a:pt x="19527" y="7585"/>
                  <a:pt x="19521" y="7567"/>
                  <a:pt x="19521" y="7640"/>
                </a:cubicBezTo>
                <a:cubicBezTo>
                  <a:pt x="19613" y="7640"/>
                  <a:pt x="19635" y="7641"/>
                  <a:pt x="19720" y="7590"/>
                </a:cubicBezTo>
              </a:path>
              <a:path w="795" h="1018">
                <a:moveTo>
                  <a:pt x="19844" y="7441"/>
                </a:moveTo>
                <a:cubicBezTo>
                  <a:pt x="19784" y="7573"/>
                  <a:pt x="19745" y="7648"/>
                  <a:pt x="19745" y="7789"/>
                </a:cubicBezTo>
                <a:cubicBezTo>
                  <a:pt x="19745" y="7849"/>
                  <a:pt x="19758" y="7858"/>
                  <a:pt x="19745" y="79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19240" y="2820960"/>
            <a:ext cx="4965840" cy="992160"/>
          </a:xfrm>
          <a:custGeom>
            <a:avLst/>
            <a:gdLst/>
            <a:ahLst/>
            <a:rect l="l" t="t" r="r" b="b"/>
            <a:pathLst>
              <a:path w="13793" h="2755">
                <a:moveTo>
                  <a:pt x="8161" y="8483"/>
                </a:moveTo>
                <a:cubicBezTo>
                  <a:pt x="8219" y="8483"/>
                  <a:pt x="8276" y="8483"/>
                  <a:pt x="8334" y="8483"/>
                </a:cubicBezTo>
              </a:path>
              <a:path w="13793" h="2755">
                <a:moveTo>
                  <a:pt x="8111" y="8657"/>
                </a:moveTo>
                <a:cubicBezTo>
                  <a:pt x="8169" y="8657"/>
                  <a:pt x="8227" y="8657"/>
                  <a:pt x="8285" y="8657"/>
                </a:cubicBezTo>
              </a:path>
              <a:path w="13793" h="2755">
                <a:moveTo>
                  <a:pt x="9054" y="8111"/>
                </a:moveTo>
                <a:cubicBezTo>
                  <a:pt x="9054" y="8235"/>
                  <a:pt x="9054" y="8359"/>
                  <a:pt x="9054" y="8483"/>
                </a:cubicBezTo>
              </a:path>
              <a:path w="13793" h="2755">
                <a:moveTo>
                  <a:pt x="8806" y="8558"/>
                </a:moveTo>
                <a:cubicBezTo>
                  <a:pt x="8942" y="8558"/>
                  <a:pt x="9080" y="8561"/>
                  <a:pt x="9203" y="8582"/>
                </a:cubicBezTo>
                <a:cubicBezTo>
                  <a:pt x="9244" y="8582"/>
                  <a:pt x="9252" y="8582"/>
                  <a:pt x="9277" y="8582"/>
                </a:cubicBezTo>
              </a:path>
              <a:path w="13793" h="2755">
                <a:moveTo>
                  <a:pt x="8930" y="8781"/>
                </a:moveTo>
                <a:cubicBezTo>
                  <a:pt x="8974" y="8759"/>
                  <a:pt x="8970" y="8731"/>
                  <a:pt x="9029" y="8731"/>
                </a:cubicBezTo>
                <a:cubicBezTo>
                  <a:pt x="9168" y="8731"/>
                  <a:pt x="9094" y="8722"/>
                  <a:pt x="9153" y="8781"/>
                </a:cubicBezTo>
                <a:cubicBezTo>
                  <a:pt x="9178" y="8781"/>
                  <a:pt x="9186" y="8781"/>
                  <a:pt x="9203" y="8781"/>
                </a:cubicBezTo>
                <a:cubicBezTo>
                  <a:pt x="9190" y="8843"/>
                  <a:pt x="9148" y="8871"/>
                  <a:pt x="9128" y="8930"/>
                </a:cubicBezTo>
                <a:cubicBezTo>
                  <a:pt x="9106" y="8994"/>
                  <a:pt x="9060" y="8984"/>
                  <a:pt x="9029" y="9029"/>
                </a:cubicBezTo>
                <a:cubicBezTo>
                  <a:pt x="9008" y="9060"/>
                  <a:pt x="8939" y="9137"/>
                  <a:pt x="8930" y="9153"/>
                </a:cubicBezTo>
                <a:cubicBezTo>
                  <a:pt x="8905" y="9199"/>
                  <a:pt x="8879" y="9227"/>
                  <a:pt x="8905" y="9227"/>
                </a:cubicBezTo>
                <a:cubicBezTo>
                  <a:pt x="8968" y="9227"/>
                  <a:pt x="8952" y="9189"/>
                  <a:pt x="9004" y="9178"/>
                </a:cubicBezTo>
                <a:cubicBezTo>
                  <a:pt x="9086" y="9160"/>
                  <a:pt x="9129" y="9203"/>
                  <a:pt x="9178" y="9227"/>
                </a:cubicBezTo>
                <a:cubicBezTo>
                  <a:pt x="9235" y="9255"/>
                  <a:pt x="9246" y="9215"/>
                  <a:pt x="9252" y="9178"/>
                </a:cubicBezTo>
              </a:path>
              <a:path w="13793" h="2755">
                <a:moveTo>
                  <a:pt x="9674" y="8706"/>
                </a:moveTo>
                <a:cubicBezTo>
                  <a:pt x="9649" y="8706"/>
                  <a:pt x="9641" y="8706"/>
                  <a:pt x="9674" y="8706"/>
                </a:cubicBezTo>
              </a:path>
              <a:path w="13793" h="2755">
                <a:moveTo>
                  <a:pt x="10145" y="8334"/>
                </a:moveTo>
                <a:cubicBezTo>
                  <a:pt x="10145" y="8425"/>
                  <a:pt x="10143" y="8506"/>
                  <a:pt x="10120" y="8558"/>
                </a:cubicBezTo>
                <a:cubicBezTo>
                  <a:pt x="10120" y="8566"/>
                  <a:pt x="10120" y="8574"/>
                  <a:pt x="10120" y="8582"/>
                </a:cubicBezTo>
                <a:cubicBezTo>
                  <a:pt x="10150" y="8533"/>
                  <a:pt x="10145" y="8495"/>
                  <a:pt x="10145" y="8434"/>
                </a:cubicBezTo>
                <a:cubicBezTo>
                  <a:pt x="10145" y="8366"/>
                  <a:pt x="10152" y="8338"/>
                  <a:pt x="10170" y="8285"/>
                </a:cubicBezTo>
                <a:cubicBezTo>
                  <a:pt x="10182" y="8249"/>
                  <a:pt x="10187" y="8226"/>
                  <a:pt x="10195" y="8210"/>
                </a:cubicBezTo>
                <a:cubicBezTo>
                  <a:pt x="10222" y="8158"/>
                  <a:pt x="10213" y="8192"/>
                  <a:pt x="10269" y="8161"/>
                </a:cubicBezTo>
                <a:cubicBezTo>
                  <a:pt x="10314" y="8136"/>
                  <a:pt x="10364" y="8123"/>
                  <a:pt x="10418" y="8111"/>
                </a:cubicBezTo>
                <a:cubicBezTo>
                  <a:pt x="10486" y="8095"/>
                  <a:pt x="10570" y="8111"/>
                  <a:pt x="10641" y="8111"/>
                </a:cubicBezTo>
              </a:path>
              <a:path w="13793" h="2755">
                <a:moveTo>
                  <a:pt x="10319" y="8334"/>
                </a:moveTo>
                <a:cubicBezTo>
                  <a:pt x="10384" y="8334"/>
                  <a:pt x="10406" y="8315"/>
                  <a:pt x="10468" y="8310"/>
                </a:cubicBezTo>
                <a:cubicBezTo>
                  <a:pt x="10504" y="8307"/>
                  <a:pt x="10525" y="8334"/>
                  <a:pt x="10567" y="8334"/>
                </a:cubicBezTo>
                <a:cubicBezTo>
                  <a:pt x="10567" y="8384"/>
                  <a:pt x="10562" y="8448"/>
                  <a:pt x="10517" y="8483"/>
                </a:cubicBezTo>
                <a:cubicBezTo>
                  <a:pt x="10488" y="8505"/>
                  <a:pt x="10444" y="8538"/>
                  <a:pt x="10418" y="8558"/>
                </a:cubicBezTo>
                <a:cubicBezTo>
                  <a:pt x="10383" y="8584"/>
                  <a:pt x="10352" y="8631"/>
                  <a:pt x="10344" y="8657"/>
                </a:cubicBezTo>
                <a:cubicBezTo>
                  <a:pt x="10439" y="8657"/>
                  <a:pt x="10593" y="8687"/>
                  <a:pt x="10666" y="8632"/>
                </a:cubicBezTo>
              </a:path>
              <a:path w="13793" h="2755">
                <a:moveTo>
                  <a:pt x="10096" y="8781"/>
                </a:moveTo>
                <a:cubicBezTo>
                  <a:pt x="10303" y="8781"/>
                  <a:pt x="10509" y="8781"/>
                  <a:pt x="10716" y="8781"/>
                </a:cubicBezTo>
              </a:path>
              <a:path w="13793" h="2755">
                <a:moveTo>
                  <a:pt x="10269" y="8954"/>
                </a:moveTo>
                <a:cubicBezTo>
                  <a:pt x="10307" y="8927"/>
                  <a:pt x="10321" y="8930"/>
                  <a:pt x="10368" y="8930"/>
                </a:cubicBezTo>
                <a:cubicBezTo>
                  <a:pt x="10423" y="8930"/>
                  <a:pt x="10413" y="8880"/>
                  <a:pt x="10492" y="8880"/>
                </a:cubicBezTo>
                <a:cubicBezTo>
                  <a:pt x="10562" y="8880"/>
                  <a:pt x="10549" y="8906"/>
                  <a:pt x="10542" y="8930"/>
                </a:cubicBezTo>
                <a:cubicBezTo>
                  <a:pt x="10527" y="8982"/>
                  <a:pt x="10490" y="9043"/>
                  <a:pt x="10443" y="9079"/>
                </a:cubicBezTo>
                <a:cubicBezTo>
                  <a:pt x="10419" y="9097"/>
                  <a:pt x="10368" y="9144"/>
                  <a:pt x="10344" y="9178"/>
                </a:cubicBezTo>
                <a:cubicBezTo>
                  <a:pt x="10322" y="9209"/>
                  <a:pt x="10276" y="9277"/>
                  <a:pt x="10244" y="9302"/>
                </a:cubicBezTo>
                <a:cubicBezTo>
                  <a:pt x="10219" y="9322"/>
                  <a:pt x="10253" y="9302"/>
                  <a:pt x="10294" y="9302"/>
                </a:cubicBezTo>
                <a:cubicBezTo>
                  <a:pt x="10421" y="9302"/>
                  <a:pt x="10553" y="9299"/>
                  <a:pt x="10666" y="9327"/>
                </a:cubicBezTo>
                <a:cubicBezTo>
                  <a:pt x="10674" y="9329"/>
                  <a:pt x="10777" y="9331"/>
                  <a:pt x="10740" y="9302"/>
                </a:cubicBezTo>
                <a:cubicBezTo>
                  <a:pt x="10732" y="9302"/>
                  <a:pt x="10724" y="9302"/>
                  <a:pt x="10716" y="9302"/>
                </a:cubicBezTo>
              </a:path>
              <a:path w="13793" h="2755">
                <a:moveTo>
                  <a:pt x="11509" y="8483"/>
                </a:moveTo>
                <a:cubicBezTo>
                  <a:pt x="11509" y="8620"/>
                  <a:pt x="11510" y="8758"/>
                  <a:pt x="11534" y="8880"/>
                </a:cubicBezTo>
                <a:cubicBezTo>
                  <a:pt x="11534" y="8897"/>
                  <a:pt x="11534" y="8913"/>
                  <a:pt x="11534" y="8930"/>
                </a:cubicBezTo>
              </a:path>
              <a:path w="13793" h="2755">
                <a:moveTo>
                  <a:pt x="11336" y="8706"/>
                </a:moveTo>
                <a:cubicBezTo>
                  <a:pt x="11388" y="8729"/>
                  <a:pt x="11406" y="8731"/>
                  <a:pt x="11460" y="8731"/>
                </a:cubicBezTo>
                <a:cubicBezTo>
                  <a:pt x="11551" y="8731"/>
                  <a:pt x="11631" y="8732"/>
                  <a:pt x="11708" y="8706"/>
                </a:cubicBezTo>
                <a:cubicBezTo>
                  <a:pt x="11733" y="8706"/>
                  <a:pt x="11741" y="8706"/>
                  <a:pt x="11708" y="8706"/>
                </a:cubicBezTo>
              </a:path>
              <a:path w="13793" h="2755">
                <a:moveTo>
                  <a:pt x="12402" y="8334"/>
                </a:moveTo>
                <a:cubicBezTo>
                  <a:pt x="12402" y="8398"/>
                  <a:pt x="12392" y="8425"/>
                  <a:pt x="12378" y="8483"/>
                </a:cubicBezTo>
                <a:cubicBezTo>
                  <a:pt x="12372" y="8508"/>
                  <a:pt x="12349" y="8694"/>
                  <a:pt x="12353" y="8706"/>
                </a:cubicBezTo>
                <a:cubicBezTo>
                  <a:pt x="12362" y="8737"/>
                  <a:pt x="12353" y="8668"/>
                  <a:pt x="12353" y="8632"/>
                </a:cubicBezTo>
                <a:cubicBezTo>
                  <a:pt x="12353" y="8551"/>
                  <a:pt x="12332" y="8482"/>
                  <a:pt x="12328" y="8409"/>
                </a:cubicBezTo>
                <a:cubicBezTo>
                  <a:pt x="12325" y="8342"/>
                  <a:pt x="12317" y="8287"/>
                  <a:pt x="12353" y="8260"/>
                </a:cubicBezTo>
                <a:cubicBezTo>
                  <a:pt x="12400" y="8225"/>
                  <a:pt x="12440" y="8235"/>
                  <a:pt x="12502" y="8235"/>
                </a:cubicBezTo>
                <a:cubicBezTo>
                  <a:pt x="12576" y="8235"/>
                  <a:pt x="12616" y="8240"/>
                  <a:pt x="12675" y="8260"/>
                </a:cubicBezTo>
                <a:cubicBezTo>
                  <a:pt x="12713" y="8273"/>
                  <a:pt x="12717" y="8260"/>
                  <a:pt x="12725" y="8235"/>
                </a:cubicBezTo>
              </a:path>
              <a:path w="13793" h="2755">
                <a:moveTo>
                  <a:pt x="12526" y="8409"/>
                </a:moveTo>
                <a:cubicBezTo>
                  <a:pt x="12620" y="8409"/>
                  <a:pt x="12609" y="8403"/>
                  <a:pt x="12675" y="8359"/>
                </a:cubicBezTo>
                <a:cubicBezTo>
                  <a:pt x="12683" y="8359"/>
                  <a:pt x="12692" y="8359"/>
                  <a:pt x="12700" y="8359"/>
                </a:cubicBezTo>
                <a:cubicBezTo>
                  <a:pt x="12711" y="8427"/>
                  <a:pt x="12730" y="8411"/>
                  <a:pt x="12675" y="8483"/>
                </a:cubicBezTo>
                <a:cubicBezTo>
                  <a:pt x="12647" y="8520"/>
                  <a:pt x="12555" y="8516"/>
                  <a:pt x="12576" y="8558"/>
                </a:cubicBezTo>
                <a:cubicBezTo>
                  <a:pt x="12590" y="8585"/>
                  <a:pt x="12682" y="8525"/>
                  <a:pt x="12700" y="8582"/>
                </a:cubicBezTo>
                <a:cubicBezTo>
                  <a:pt x="12726" y="8667"/>
                  <a:pt x="12695" y="8658"/>
                  <a:pt x="12675" y="8731"/>
                </a:cubicBezTo>
                <a:cubicBezTo>
                  <a:pt x="12675" y="8748"/>
                  <a:pt x="12675" y="8764"/>
                  <a:pt x="12675" y="8781"/>
                </a:cubicBezTo>
                <a:cubicBezTo>
                  <a:pt x="12617" y="8781"/>
                  <a:pt x="12560" y="8781"/>
                  <a:pt x="12502" y="8781"/>
                </a:cubicBezTo>
              </a:path>
              <a:path w="13793" h="2755">
                <a:moveTo>
                  <a:pt x="12254" y="8781"/>
                </a:moveTo>
                <a:cubicBezTo>
                  <a:pt x="12444" y="8781"/>
                  <a:pt x="12964" y="8781"/>
                  <a:pt x="12774" y="8781"/>
                </a:cubicBezTo>
              </a:path>
              <a:path w="13793" h="2755">
                <a:moveTo>
                  <a:pt x="12402" y="8954"/>
                </a:moveTo>
                <a:cubicBezTo>
                  <a:pt x="12447" y="8954"/>
                  <a:pt x="12462" y="8934"/>
                  <a:pt x="12502" y="8930"/>
                </a:cubicBezTo>
                <a:cubicBezTo>
                  <a:pt x="12550" y="8925"/>
                  <a:pt x="12602" y="8930"/>
                  <a:pt x="12650" y="8930"/>
                </a:cubicBezTo>
                <a:cubicBezTo>
                  <a:pt x="12650" y="8964"/>
                  <a:pt x="12646" y="9056"/>
                  <a:pt x="12626" y="9079"/>
                </a:cubicBezTo>
                <a:cubicBezTo>
                  <a:pt x="12604" y="9105"/>
                  <a:pt x="12552" y="9134"/>
                  <a:pt x="12526" y="9178"/>
                </a:cubicBezTo>
                <a:cubicBezTo>
                  <a:pt x="12497" y="9227"/>
                  <a:pt x="12421" y="9268"/>
                  <a:pt x="12402" y="9302"/>
                </a:cubicBezTo>
                <a:cubicBezTo>
                  <a:pt x="12378" y="9345"/>
                  <a:pt x="12383" y="9383"/>
                  <a:pt x="12328" y="9401"/>
                </a:cubicBezTo>
                <a:cubicBezTo>
                  <a:pt x="12292" y="9413"/>
                  <a:pt x="12275" y="9451"/>
                  <a:pt x="12303" y="9451"/>
                </a:cubicBezTo>
                <a:cubicBezTo>
                  <a:pt x="12419" y="9451"/>
                  <a:pt x="12534" y="9451"/>
                  <a:pt x="12650" y="9451"/>
                </a:cubicBezTo>
              </a:path>
              <a:path w="13793" h="2755">
                <a:moveTo>
                  <a:pt x="13146" y="8855"/>
                </a:moveTo>
                <a:lnTo>
                  <a:pt x="13146" y="8855"/>
                </a:lnTo>
              </a:path>
              <a:path w="13793" h="2755">
                <a:moveTo>
                  <a:pt x="13494" y="8434"/>
                </a:moveTo>
                <a:cubicBezTo>
                  <a:pt x="13494" y="8517"/>
                  <a:pt x="13475" y="8560"/>
                  <a:pt x="13469" y="8632"/>
                </a:cubicBezTo>
                <a:cubicBezTo>
                  <a:pt x="13469" y="8667"/>
                  <a:pt x="13474" y="8684"/>
                  <a:pt x="13494" y="8706"/>
                </a:cubicBezTo>
                <a:cubicBezTo>
                  <a:pt x="13494" y="8638"/>
                  <a:pt x="13464" y="8542"/>
                  <a:pt x="13469" y="8483"/>
                </a:cubicBezTo>
                <a:cubicBezTo>
                  <a:pt x="13475" y="8404"/>
                  <a:pt x="13493" y="8366"/>
                  <a:pt x="13543" y="8334"/>
                </a:cubicBezTo>
                <a:cubicBezTo>
                  <a:pt x="13589" y="8304"/>
                  <a:pt x="13621" y="8302"/>
                  <a:pt x="13667" y="8285"/>
                </a:cubicBezTo>
                <a:cubicBezTo>
                  <a:pt x="13727" y="8264"/>
                  <a:pt x="13751" y="8260"/>
                  <a:pt x="13816" y="8260"/>
                </a:cubicBezTo>
                <a:cubicBezTo>
                  <a:pt x="13861" y="8260"/>
                  <a:pt x="13876" y="8245"/>
                  <a:pt x="13915" y="8235"/>
                </a:cubicBezTo>
              </a:path>
              <a:path w="13793" h="2755">
                <a:moveTo>
                  <a:pt x="13643" y="8483"/>
                </a:moveTo>
                <a:cubicBezTo>
                  <a:pt x="13702" y="8483"/>
                  <a:pt x="13714" y="8445"/>
                  <a:pt x="13767" y="8434"/>
                </a:cubicBezTo>
                <a:cubicBezTo>
                  <a:pt x="13805" y="8426"/>
                  <a:pt x="13852" y="8434"/>
                  <a:pt x="13891" y="8434"/>
                </a:cubicBezTo>
                <a:cubicBezTo>
                  <a:pt x="13883" y="8488"/>
                  <a:pt x="13862" y="8530"/>
                  <a:pt x="13841" y="8582"/>
                </a:cubicBezTo>
                <a:cubicBezTo>
                  <a:pt x="13810" y="8660"/>
                  <a:pt x="13745" y="8675"/>
                  <a:pt x="13692" y="8706"/>
                </a:cubicBezTo>
                <a:cubicBezTo>
                  <a:pt x="13658" y="8726"/>
                  <a:pt x="13642" y="8776"/>
                  <a:pt x="13618" y="8806"/>
                </a:cubicBezTo>
                <a:cubicBezTo>
                  <a:pt x="13710" y="8806"/>
                  <a:pt x="13702" y="8812"/>
                  <a:pt x="13767" y="8855"/>
                </a:cubicBezTo>
                <a:cubicBezTo>
                  <a:pt x="13837" y="8902"/>
                  <a:pt x="13883" y="8827"/>
                  <a:pt x="13915" y="8806"/>
                </a:cubicBezTo>
                <a:cubicBezTo>
                  <a:pt x="13933" y="8794"/>
                  <a:pt x="13968" y="8787"/>
                  <a:pt x="13990" y="8781"/>
                </a:cubicBezTo>
              </a:path>
              <a:path w="13793" h="2755">
                <a:moveTo>
                  <a:pt x="13444" y="8930"/>
                </a:moveTo>
                <a:cubicBezTo>
                  <a:pt x="13534" y="8949"/>
                  <a:pt x="13602" y="8954"/>
                  <a:pt x="13692" y="8954"/>
                </a:cubicBezTo>
                <a:cubicBezTo>
                  <a:pt x="13766" y="8954"/>
                  <a:pt x="13841" y="8954"/>
                  <a:pt x="13915" y="8954"/>
                </a:cubicBezTo>
              </a:path>
              <a:path w="13793" h="2755">
                <a:moveTo>
                  <a:pt x="13667" y="9153"/>
                </a:moveTo>
                <a:cubicBezTo>
                  <a:pt x="13667" y="9136"/>
                  <a:pt x="13667" y="9120"/>
                  <a:pt x="13667" y="9103"/>
                </a:cubicBezTo>
                <a:cubicBezTo>
                  <a:pt x="13712" y="9103"/>
                  <a:pt x="13727" y="9081"/>
                  <a:pt x="13767" y="9079"/>
                </a:cubicBezTo>
                <a:cubicBezTo>
                  <a:pt x="13821" y="9076"/>
                  <a:pt x="13895" y="9066"/>
                  <a:pt x="13915" y="9103"/>
                </a:cubicBezTo>
                <a:cubicBezTo>
                  <a:pt x="13948" y="9164"/>
                  <a:pt x="13939" y="9190"/>
                  <a:pt x="13915" y="9252"/>
                </a:cubicBezTo>
                <a:cubicBezTo>
                  <a:pt x="13892" y="9311"/>
                  <a:pt x="13829" y="9346"/>
                  <a:pt x="13791" y="9376"/>
                </a:cubicBezTo>
                <a:cubicBezTo>
                  <a:pt x="13740" y="9416"/>
                  <a:pt x="13714" y="9437"/>
                  <a:pt x="13667" y="9475"/>
                </a:cubicBezTo>
                <a:cubicBezTo>
                  <a:pt x="13643" y="9494"/>
                  <a:pt x="13620" y="9531"/>
                  <a:pt x="13618" y="9550"/>
                </a:cubicBezTo>
                <a:cubicBezTo>
                  <a:pt x="13618" y="9566"/>
                  <a:pt x="13618" y="9583"/>
                  <a:pt x="13618" y="9599"/>
                </a:cubicBezTo>
                <a:cubicBezTo>
                  <a:pt x="13783" y="9599"/>
                  <a:pt x="14229" y="9599"/>
                  <a:pt x="14064" y="9599"/>
                </a:cubicBezTo>
              </a:path>
              <a:path w="13793" h="2755">
                <a:moveTo>
                  <a:pt x="14684" y="8632"/>
                </a:moveTo>
                <a:cubicBezTo>
                  <a:pt x="14742" y="8632"/>
                  <a:pt x="14800" y="8632"/>
                  <a:pt x="14858" y="8632"/>
                </a:cubicBezTo>
              </a:path>
              <a:path w="13793" h="2755">
                <a:moveTo>
                  <a:pt x="14610" y="8781"/>
                </a:moveTo>
                <a:cubicBezTo>
                  <a:pt x="14703" y="8801"/>
                  <a:pt x="14715" y="8822"/>
                  <a:pt x="14784" y="8781"/>
                </a:cubicBezTo>
              </a:path>
              <a:path w="13793" h="2755">
                <a:moveTo>
                  <a:pt x="15429" y="8558"/>
                </a:moveTo>
                <a:cubicBezTo>
                  <a:pt x="15429" y="8632"/>
                  <a:pt x="15429" y="8707"/>
                  <a:pt x="15429" y="8781"/>
                </a:cubicBezTo>
                <a:cubicBezTo>
                  <a:pt x="15466" y="8755"/>
                  <a:pt x="15453" y="8692"/>
                  <a:pt x="15453" y="8632"/>
                </a:cubicBezTo>
                <a:cubicBezTo>
                  <a:pt x="15453" y="8534"/>
                  <a:pt x="15455" y="8450"/>
                  <a:pt x="15478" y="8359"/>
                </a:cubicBezTo>
                <a:cubicBezTo>
                  <a:pt x="15485" y="8332"/>
                  <a:pt x="15498" y="8312"/>
                  <a:pt x="15528" y="8310"/>
                </a:cubicBezTo>
                <a:cubicBezTo>
                  <a:pt x="15586" y="8306"/>
                  <a:pt x="15614" y="8285"/>
                  <a:pt x="15677" y="8285"/>
                </a:cubicBezTo>
                <a:cubicBezTo>
                  <a:pt x="15760" y="8285"/>
                  <a:pt x="15842" y="8285"/>
                  <a:pt x="15925" y="8285"/>
                </a:cubicBezTo>
              </a:path>
              <a:path w="13793" h="2755">
                <a:moveTo>
                  <a:pt x="15652" y="8483"/>
                </a:moveTo>
                <a:cubicBezTo>
                  <a:pt x="15730" y="8467"/>
                  <a:pt x="15731" y="8434"/>
                  <a:pt x="15801" y="8434"/>
                </a:cubicBezTo>
                <a:cubicBezTo>
                  <a:pt x="15867" y="8434"/>
                  <a:pt x="15923" y="8411"/>
                  <a:pt x="15949" y="8483"/>
                </a:cubicBezTo>
                <a:cubicBezTo>
                  <a:pt x="15959" y="8512"/>
                  <a:pt x="15897" y="8615"/>
                  <a:pt x="15875" y="8632"/>
                </a:cubicBezTo>
                <a:cubicBezTo>
                  <a:pt x="15847" y="8654"/>
                  <a:pt x="15777" y="8697"/>
                  <a:pt x="15751" y="8731"/>
                </a:cubicBezTo>
                <a:cubicBezTo>
                  <a:pt x="15719" y="8773"/>
                  <a:pt x="15712" y="8774"/>
                  <a:pt x="15701" y="8806"/>
                </a:cubicBezTo>
                <a:cubicBezTo>
                  <a:pt x="15813" y="8806"/>
                  <a:pt x="15926" y="8810"/>
                  <a:pt x="16024" y="8781"/>
                </a:cubicBezTo>
                <a:cubicBezTo>
                  <a:pt x="16049" y="8781"/>
                  <a:pt x="16057" y="8781"/>
                  <a:pt x="16073" y="8781"/>
                </a:cubicBezTo>
              </a:path>
              <a:path w="13793" h="2755">
                <a:moveTo>
                  <a:pt x="15404" y="8930"/>
                </a:moveTo>
                <a:cubicBezTo>
                  <a:pt x="15578" y="8930"/>
                  <a:pt x="15751" y="8930"/>
                  <a:pt x="15925" y="8930"/>
                </a:cubicBezTo>
              </a:path>
              <a:path w="13793" h="2755">
                <a:moveTo>
                  <a:pt x="15677" y="9103"/>
                </a:moveTo>
                <a:cubicBezTo>
                  <a:pt x="15650" y="9145"/>
                  <a:pt x="15558" y="9245"/>
                  <a:pt x="15577" y="9302"/>
                </a:cubicBezTo>
                <a:cubicBezTo>
                  <a:pt x="15605" y="9330"/>
                  <a:pt x="15614" y="9343"/>
                  <a:pt x="15602" y="9376"/>
                </a:cubicBezTo>
                <a:cubicBezTo>
                  <a:pt x="15705" y="9376"/>
                  <a:pt x="15844" y="9410"/>
                  <a:pt x="15900" y="9327"/>
                </a:cubicBezTo>
              </a:path>
              <a:path w="13793" h="2755">
                <a:moveTo>
                  <a:pt x="15900" y="9079"/>
                </a:moveTo>
                <a:cubicBezTo>
                  <a:pt x="15880" y="9176"/>
                  <a:pt x="15861" y="9279"/>
                  <a:pt x="15850" y="9376"/>
                </a:cubicBezTo>
                <a:cubicBezTo>
                  <a:pt x="15840" y="9462"/>
                  <a:pt x="15840" y="9549"/>
                  <a:pt x="15825" y="9624"/>
                </a:cubicBezTo>
                <a:cubicBezTo>
                  <a:pt x="15818" y="9659"/>
                  <a:pt x="15835" y="9733"/>
                  <a:pt x="15850" y="9748"/>
                </a:cubicBezTo>
                <a:cubicBezTo>
                  <a:pt x="15893" y="9748"/>
                  <a:pt x="15907" y="9731"/>
                  <a:pt x="15900" y="9674"/>
                </a:cubicBezTo>
              </a:path>
              <a:path w="13793" h="2755">
                <a:moveTo>
                  <a:pt x="16644" y="8558"/>
                </a:moveTo>
                <a:cubicBezTo>
                  <a:pt x="16644" y="8707"/>
                  <a:pt x="16644" y="8855"/>
                  <a:pt x="16644" y="9004"/>
                </a:cubicBezTo>
              </a:path>
              <a:path w="13793" h="2755">
                <a:moveTo>
                  <a:pt x="16446" y="8731"/>
                </a:moveTo>
                <a:cubicBezTo>
                  <a:pt x="16510" y="8722"/>
                  <a:pt x="16548" y="8706"/>
                  <a:pt x="16619" y="8706"/>
                </a:cubicBezTo>
                <a:cubicBezTo>
                  <a:pt x="16669" y="8706"/>
                  <a:pt x="16718" y="8706"/>
                  <a:pt x="16768" y="8706"/>
                </a:cubicBezTo>
              </a:path>
              <a:path w="13793" h="2755">
                <a:moveTo>
                  <a:pt x="17066" y="8409"/>
                </a:moveTo>
                <a:cubicBezTo>
                  <a:pt x="17066" y="8558"/>
                  <a:pt x="17066" y="8706"/>
                  <a:pt x="17066" y="8855"/>
                </a:cubicBezTo>
                <a:cubicBezTo>
                  <a:pt x="17103" y="8830"/>
                  <a:pt x="17090" y="8766"/>
                  <a:pt x="17090" y="8706"/>
                </a:cubicBezTo>
                <a:cubicBezTo>
                  <a:pt x="17090" y="8627"/>
                  <a:pt x="17086" y="8560"/>
                  <a:pt x="17115" y="8508"/>
                </a:cubicBezTo>
                <a:cubicBezTo>
                  <a:pt x="17139" y="8464"/>
                  <a:pt x="17193" y="8434"/>
                  <a:pt x="17214" y="8409"/>
                </a:cubicBezTo>
                <a:cubicBezTo>
                  <a:pt x="17265" y="8346"/>
                  <a:pt x="17274" y="8324"/>
                  <a:pt x="17363" y="8310"/>
                </a:cubicBezTo>
                <a:cubicBezTo>
                  <a:pt x="17423" y="8300"/>
                  <a:pt x="17436" y="8277"/>
                  <a:pt x="17487" y="8260"/>
                </a:cubicBezTo>
                <a:cubicBezTo>
                  <a:pt x="17506" y="8254"/>
                  <a:pt x="17542" y="8260"/>
                  <a:pt x="17562" y="8260"/>
                </a:cubicBezTo>
              </a:path>
              <a:path w="13793" h="2755">
                <a:moveTo>
                  <a:pt x="17462" y="8434"/>
                </a:moveTo>
                <a:cubicBezTo>
                  <a:pt x="17424" y="8532"/>
                  <a:pt x="17388" y="8604"/>
                  <a:pt x="17388" y="8706"/>
                </a:cubicBezTo>
                <a:cubicBezTo>
                  <a:pt x="17388" y="8759"/>
                  <a:pt x="17411" y="8831"/>
                  <a:pt x="17462" y="8855"/>
                </a:cubicBezTo>
                <a:cubicBezTo>
                  <a:pt x="17541" y="8891"/>
                  <a:pt x="17670" y="8852"/>
                  <a:pt x="17711" y="8806"/>
                </a:cubicBezTo>
                <a:cubicBezTo>
                  <a:pt x="17760" y="8751"/>
                  <a:pt x="17760" y="8750"/>
                  <a:pt x="17760" y="8657"/>
                </a:cubicBezTo>
                <a:cubicBezTo>
                  <a:pt x="17760" y="8612"/>
                  <a:pt x="17729" y="8597"/>
                  <a:pt x="17686" y="8582"/>
                </a:cubicBezTo>
                <a:cubicBezTo>
                  <a:pt x="17661" y="8595"/>
                  <a:pt x="17608" y="8627"/>
                  <a:pt x="17587" y="8657"/>
                </a:cubicBezTo>
                <a:cubicBezTo>
                  <a:pt x="17538" y="8728"/>
                  <a:pt x="17518" y="8768"/>
                  <a:pt x="17512" y="8855"/>
                </a:cubicBezTo>
                <a:cubicBezTo>
                  <a:pt x="17512" y="8888"/>
                  <a:pt x="17512" y="8905"/>
                  <a:pt x="17512" y="8930"/>
                </a:cubicBezTo>
              </a:path>
              <a:path w="13793" h="2755">
                <a:moveTo>
                  <a:pt x="16966" y="9004"/>
                </a:moveTo>
                <a:cubicBezTo>
                  <a:pt x="17081" y="9004"/>
                  <a:pt x="17810" y="8991"/>
                  <a:pt x="17785" y="8954"/>
                </a:cubicBezTo>
                <a:cubicBezTo>
                  <a:pt x="17777" y="8954"/>
                  <a:pt x="17768" y="8954"/>
                  <a:pt x="17760" y="8954"/>
                </a:cubicBezTo>
              </a:path>
              <a:path w="13793" h="2755">
                <a:moveTo>
                  <a:pt x="17289" y="9302"/>
                </a:moveTo>
                <a:cubicBezTo>
                  <a:pt x="17246" y="9372"/>
                  <a:pt x="17243" y="9383"/>
                  <a:pt x="17214" y="9451"/>
                </a:cubicBezTo>
                <a:cubicBezTo>
                  <a:pt x="17269" y="9451"/>
                  <a:pt x="17249" y="9472"/>
                  <a:pt x="17289" y="9475"/>
                </a:cubicBezTo>
                <a:cubicBezTo>
                  <a:pt x="17370" y="9481"/>
                  <a:pt x="17455" y="9475"/>
                  <a:pt x="17537" y="9475"/>
                </a:cubicBezTo>
              </a:path>
              <a:path w="13793" h="2755">
                <a:moveTo>
                  <a:pt x="17587" y="9227"/>
                </a:moveTo>
                <a:cubicBezTo>
                  <a:pt x="17561" y="9329"/>
                  <a:pt x="17562" y="9419"/>
                  <a:pt x="17562" y="9525"/>
                </a:cubicBezTo>
                <a:cubicBezTo>
                  <a:pt x="17562" y="9614"/>
                  <a:pt x="17573" y="9698"/>
                  <a:pt x="17587" y="9773"/>
                </a:cubicBezTo>
                <a:cubicBezTo>
                  <a:pt x="17599" y="9834"/>
                  <a:pt x="17587" y="9908"/>
                  <a:pt x="17587" y="9971"/>
                </a:cubicBezTo>
              </a:path>
              <a:path w="13793" h="2755">
                <a:moveTo>
                  <a:pt x="18132" y="8855"/>
                </a:moveTo>
                <a:cubicBezTo>
                  <a:pt x="18182" y="8855"/>
                  <a:pt x="18231" y="8855"/>
                  <a:pt x="18281" y="8855"/>
                </a:cubicBezTo>
              </a:path>
              <a:path w="13793" h="2755">
                <a:moveTo>
                  <a:pt x="18107" y="9004"/>
                </a:moveTo>
                <a:cubicBezTo>
                  <a:pt x="18140" y="9004"/>
                  <a:pt x="18174" y="9004"/>
                  <a:pt x="18207" y="9004"/>
                </a:cubicBezTo>
              </a:path>
              <a:path w="13793" h="2755">
                <a:moveTo>
                  <a:pt x="18827" y="8582"/>
                </a:moveTo>
                <a:cubicBezTo>
                  <a:pt x="18827" y="8698"/>
                  <a:pt x="18827" y="8814"/>
                  <a:pt x="18827" y="8930"/>
                </a:cubicBezTo>
                <a:cubicBezTo>
                  <a:pt x="18827" y="8763"/>
                  <a:pt x="18812" y="8591"/>
                  <a:pt x="18852" y="8434"/>
                </a:cubicBezTo>
                <a:cubicBezTo>
                  <a:pt x="18865" y="8384"/>
                  <a:pt x="18868" y="8340"/>
                  <a:pt x="18926" y="8334"/>
                </a:cubicBezTo>
                <a:cubicBezTo>
                  <a:pt x="18972" y="8329"/>
                  <a:pt x="19001" y="8297"/>
                  <a:pt x="19050" y="8285"/>
                </a:cubicBezTo>
                <a:cubicBezTo>
                  <a:pt x="19094" y="8274"/>
                  <a:pt x="19156" y="8267"/>
                  <a:pt x="19199" y="8260"/>
                </a:cubicBezTo>
                <a:cubicBezTo>
                  <a:pt x="19245" y="8252"/>
                  <a:pt x="19301" y="8260"/>
                  <a:pt x="19348" y="8260"/>
                </a:cubicBezTo>
              </a:path>
              <a:path w="13793" h="2755">
                <a:moveTo>
                  <a:pt x="19100" y="8434"/>
                </a:moveTo>
                <a:cubicBezTo>
                  <a:pt x="19151" y="8427"/>
                  <a:pt x="19173" y="8409"/>
                  <a:pt x="19224" y="8409"/>
                </a:cubicBezTo>
                <a:cubicBezTo>
                  <a:pt x="19253" y="8409"/>
                  <a:pt x="19311" y="8395"/>
                  <a:pt x="19323" y="8434"/>
                </a:cubicBezTo>
                <a:cubicBezTo>
                  <a:pt x="19339" y="8484"/>
                  <a:pt x="19301" y="8598"/>
                  <a:pt x="19273" y="8632"/>
                </a:cubicBezTo>
                <a:cubicBezTo>
                  <a:pt x="19253" y="8656"/>
                  <a:pt x="19198" y="8696"/>
                  <a:pt x="19174" y="8731"/>
                </a:cubicBezTo>
                <a:cubicBezTo>
                  <a:pt x="19130" y="8794"/>
                  <a:pt x="19096" y="8781"/>
                  <a:pt x="19075" y="8855"/>
                </a:cubicBezTo>
                <a:cubicBezTo>
                  <a:pt x="19182" y="8855"/>
                  <a:pt x="19290" y="8855"/>
                  <a:pt x="19397" y="8855"/>
                </a:cubicBezTo>
              </a:path>
              <a:path w="13793" h="2755">
                <a:moveTo>
                  <a:pt x="19943" y="8483"/>
                </a:moveTo>
                <a:cubicBezTo>
                  <a:pt x="19943" y="8571"/>
                  <a:pt x="19954" y="8657"/>
                  <a:pt x="19968" y="8731"/>
                </a:cubicBezTo>
                <a:cubicBezTo>
                  <a:pt x="19968" y="8773"/>
                  <a:pt x="19968" y="8781"/>
                  <a:pt x="19968" y="8806"/>
                </a:cubicBezTo>
              </a:path>
              <a:path w="13793" h="2755">
                <a:moveTo>
                  <a:pt x="19745" y="8632"/>
                </a:moveTo>
                <a:cubicBezTo>
                  <a:pt x="19877" y="8632"/>
                  <a:pt x="20009" y="8632"/>
                  <a:pt x="20141" y="8632"/>
                </a:cubicBezTo>
              </a:path>
              <a:path w="13793" h="2755">
                <a:moveTo>
                  <a:pt x="20389" y="8508"/>
                </a:moveTo>
                <a:cubicBezTo>
                  <a:pt x="20389" y="8592"/>
                  <a:pt x="20389" y="8859"/>
                  <a:pt x="20389" y="8855"/>
                </a:cubicBezTo>
                <a:cubicBezTo>
                  <a:pt x="20389" y="8733"/>
                  <a:pt x="20385" y="8622"/>
                  <a:pt x="20414" y="8508"/>
                </a:cubicBezTo>
                <a:cubicBezTo>
                  <a:pt x="20432" y="8435"/>
                  <a:pt x="20446" y="8412"/>
                  <a:pt x="20489" y="8359"/>
                </a:cubicBezTo>
                <a:cubicBezTo>
                  <a:pt x="20533" y="8304"/>
                  <a:pt x="20583" y="8356"/>
                  <a:pt x="20638" y="8334"/>
                </a:cubicBezTo>
                <a:cubicBezTo>
                  <a:pt x="20677" y="8318"/>
                  <a:pt x="20722" y="8298"/>
                  <a:pt x="20762" y="8285"/>
                </a:cubicBezTo>
                <a:cubicBezTo>
                  <a:pt x="20781" y="8279"/>
                  <a:pt x="20816" y="8285"/>
                  <a:pt x="20836" y="8285"/>
                </a:cubicBezTo>
              </a:path>
              <a:path w="13793" h="2755">
                <a:moveTo>
                  <a:pt x="20737" y="8434"/>
                </a:moveTo>
                <a:cubicBezTo>
                  <a:pt x="20682" y="8551"/>
                  <a:pt x="20659" y="8581"/>
                  <a:pt x="20638" y="8706"/>
                </a:cubicBezTo>
                <a:cubicBezTo>
                  <a:pt x="20626" y="8778"/>
                  <a:pt x="20689" y="8778"/>
                  <a:pt x="20712" y="8806"/>
                </a:cubicBezTo>
                <a:cubicBezTo>
                  <a:pt x="20720" y="8822"/>
                  <a:pt x="20729" y="8839"/>
                  <a:pt x="20737" y="8855"/>
                </a:cubicBezTo>
                <a:cubicBezTo>
                  <a:pt x="20788" y="8855"/>
                  <a:pt x="20825" y="8831"/>
                  <a:pt x="20861" y="8806"/>
                </a:cubicBezTo>
                <a:cubicBezTo>
                  <a:pt x="20907" y="8774"/>
                  <a:pt x="20967" y="8711"/>
                  <a:pt x="20985" y="8657"/>
                </a:cubicBezTo>
                <a:cubicBezTo>
                  <a:pt x="21005" y="8596"/>
                  <a:pt x="20953" y="8582"/>
                  <a:pt x="20910" y="8582"/>
                </a:cubicBezTo>
                <a:cubicBezTo>
                  <a:pt x="20898" y="8588"/>
                  <a:pt x="20818" y="8636"/>
                  <a:pt x="20811" y="8657"/>
                </a:cubicBezTo>
                <a:cubicBezTo>
                  <a:pt x="20792" y="8717"/>
                  <a:pt x="20813" y="8802"/>
                  <a:pt x="20836" y="8855"/>
                </a:cubicBezTo>
              </a:path>
              <a:path w="13793" h="2755">
                <a:moveTo>
                  <a:pt x="18703" y="9029"/>
                </a:moveTo>
                <a:cubicBezTo>
                  <a:pt x="19015" y="9029"/>
                  <a:pt x="19324" y="9021"/>
                  <a:pt x="19621" y="9079"/>
                </a:cubicBezTo>
                <a:cubicBezTo>
                  <a:pt x="19959" y="9145"/>
                  <a:pt x="20550" y="9079"/>
                  <a:pt x="20811" y="9079"/>
                </a:cubicBezTo>
              </a:path>
              <a:path w="13793" h="2755">
                <a:moveTo>
                  <a:pt x="19844" y="9376"/>
                </a:moveTo>
                <a:cubicBezTo>
                  <a:pt x="19836" y="9416"/>
                  <a:pt x="19814" y="9469"/>
                  <a:pt x="19794" y="9500"/>
                </a:cubicBezTo>
                <a:cubicBezTo>
                  <a:pt x="19766" y="9542"/>
                  <a:pt x="19672" y="9554"/>
                  <a:pt x="19695" y="9599"/>
                </a:cubicBezTo>
                <a:cubicBezTo>
                  <a:pt x="19712" y="9631"/>
                  <a:pt x="19759" y="9612"/>
                  <a:pt x="19794" y="9624"/>
                </a:cubicBezTo>
                <a:cubicBezTo>
                  <a:pt x="19887" y="9655"/>
                  <a:pt x="20044" y="9624"/>
                  <a:pt x="20141" y="9624"/>
                </a:cubicBezTo>
              </a:path>
              <a:path w="13793" h="2755">
                <a:moveTo>
                  <a:pt x="20216" y="9327"/>
                </a:moveTo>
                <a:cubicBezTo>
                  <a:pt x="20216" y="9409"/>
                  <a:pt x="20204" y="9474"/>
                  <a:pt x="20191" y="9550"/>
                </a:cubicBezTo>
                <a:cubicBezTo>
                  <a:pt x="20173" y="9659"/>
                  <a:pt x="20179" y="9788"/>
                  <a:pt x="20166" y="9897"/>
                </a:cubicBezTo>
                <a:cubicBezTo>
                  <a:pt x="20159" y="9955"/>
                  <a:pt x="20145" y="10016"/>
                  <a:pt x="20141" y="10071"/>
                </a:cubicBezTo>
                <a:cubicBezTo>
                  <a:pt x="20140" y="10088"/>
                  <a:pt x="20141" y="10282"/>
                  <a:pt x="20141" y="10145"/>
                </a:cubicBezTo>
                <a:cubicBezTo>
                  <a:pt x="20141" y="10137"/>
                  <a:pt x="20141" y="10128"/>
                  <a:pt x="20141" y="10120"/>
                </a:cubicBezTo>
              </a:path>
              <a:path w="13793" h="2755">
                <a:moveTo>
                  <a:pt x="18554" y="8037"/>
                </a:moveTo>
                <a:cubicBezTo>
                  <a:pt x="18477" y="8087"/>
                  <a:pt x="18451" y="8090"/>
                  <a:pt x="18405" y="8161"/>
                </a:cubicBezTo>
                <a:cubicBezTo>
                  <a:pt x="18389" y="8186"/>
                  <a:pt x="18354" y="8257"/>
                  <a:pt x="18355" y="8285"/>
                </a:cubicBezTo>
                <a:cubicBezTo>
                  <a:pt x="18358" y="8339"/>
                  <a:pt x="18374" y="8361"/>
                  <a:pt x="18405" y="8409"/>
                </a:cubicBezTo>
                <a:cubicBezTo>
                  <a:pt x="18435" y="8456"/>
                  <a:pt x="18471" y="8432"/>
                  <a:pt x="18479" y="8508"/>
                </a:cubicBezTo>
                <a:cubicBezTo>
                  <a:pt x="18487" y="8582"/>
                  <a:pt x="18444" y="8598"/>
                  <a:pt x="18430" y="8657"/>
                </a:cubicBezTo>
                <a:cubicBezTo>
                  <a:pt x="18410" y="8743"/>
                  <a:pt x="18381" y="8787"/>
                  <a:pt x="18355" y="8855"/>
                </a:cubicBezTo>
                <a:cubicBezTo>
                  <a:pt x="18325" y="8933"/>
                  <a:pt x="18308" y="8942"/>
                  <a:pt x="18331" y="9004"/>
                </a:cubicBezTo>
                <a:cubicBezTo>
                  <a:pt x="18370" y="9107"/>
                  <a:pt x="18407" y="9105"/>
                  <a:pt x="18479" y="9178"/>
                </a:cubicBezTo>
                <a:cubicBezTo>
                  <a:pt x="18560" y="9261"/>
                  <a:pt x="18619" y="9291"/>
                  <a:pt x="18579" y="9376"/>
                </a:cubicBezTo>
                <a:cubicBezTo>
                  <a:pt x="18550" y="9437"/>
                  <a:pt x="18513" y="9447"/>
                  <a:pt x="18479" y="9500"/>
                </a:cubicBezTo>
                <a:cubicBezTo>
                  <a:pt x="18435" y="9569"/>
                  <a:pt x="18413" y="9604"/>
                  <a:pt x="18380" y="9674"/>
                </a:cubicBezTo>
                <a:cubicBezTo>
                  <a:pt x="18363" y="9711"/>
                  <a:pt x="18360" y="9760"/>
                  <a:pt x="18380" y="9823"/>
                </a:cubicBezTo>
                <a:cubicBezTo>
                  <a:pt x="18399" y="9885"/>
                  <a:pt x="18466" y="9888"/>
                  <a:pt x="18529" y="9922"/>
                </a:cubicBezTo>
                <a:cubicBezTo>
                  <a:pt x="18575" y="9947"/>
                  <a:pt x="18622" y="9990"/>
                  <a:pt x="18653" y="10046"/>
                </a:cubicBezTo>
                <a:cubicBezTo>
                  <a:pt x="18677" y="10088"/>
                  <a:pt x="18625" y="10089"/>
                  <a:pt x="18604" y="10145"/>
                </a:cubicBezTo>
                <a:cubicBezTo>
                  <a:pt x="18589" y="10187"/>
                  <a:pt x="18569" y="10212"/>
                  <a:pt x="18579" y="10269"/>
                </a:cubicBezTo>
                <a:cubicBezTo>
                  <a:pt x="18587" y="10315"/>
                  <a:pt x="18652" y="10397"/>
                  <a:pt x="18703" y="10418"/>
                </a:cubicBezTo>
                <a:cubicBezTo>
                  <a:pt x="18762" y="10442"/>
                  <a:pt x="18942" y="10484"/>
                  <a:pt x="19000" y="10492"/>
                </a:cubicBezTo>
                <a:cubicBezTo>
                  <a:pt x="19142" y="10512"/>
                  <a:pt x="19294" y="10472"/>
                  <a:pt x="19422" y="10517"/>
                </a:cubicBezTo>
                <a:cubicBezTo>
                  <a:pt x="19484" y="10539"/>
                  <a:pt x="19504" y="10580"/>
                  <a:pt x="19596" y="10592"/>
                </a:cubicBezTo>
                <a:cubicBezTo>
                  <a:pt x="19780" y="10615"/>
                  <a:pt x="20048" y="10633"/>
                  <a:pt x="20216" y="10567"/>
                </a:cubicBezTo>
                <a:cubicBezTo>
                  <a:pt x="20271" y="10545"/>
                  <a:pt x="20339" y="10428"/>
                  <a:pt x="20365" y="10418"/>
                </a:cubicBezTo>
                <a:cubicBezTo>
                  <a:pt x="20526" y="10354"/>
                  <a:pt x="20720" y="10447"/>
                  <a:pt x="20886" y="10368"/>
                </a:cubicBezTo>
                <a:cubicBezTo>
                  <a:pt x="20959" y="10333"/>
                  <a:pt x="21015" y="10282"/>
                  <a:pt x="21059" y="10220"/>
                </a:cubicBezTo>
                <a:cubicBezTo>
                  <a:pt x="21101" y="10162"/>
                  <a:pt x="21123" y="10125"/>
                  <a:pt x="21134" y="10071"/>
                </a:cubicBezTo>
                <a:cubicBezTo>
                  <a:pt x="21126" y="10063"/>
                  <a:pt x="21117" y="10054"/>
                  <a:pt x="21109" y="10046"/>
                </a:cubicBezTo>
                <a:cubicBezTo>
                  <a:pt x="21149" y="10025"/>
                  <a:pt x="21188" y="9999"/>
                  <a:pt x="21233" y="9971"/>
                </a:cubicBezTo>
                <a:cubicBezTo>
                  <a:pt x="21296" y="9932"/>
                  <a:pt x="21368" y="9910"/>
                  <a:pt x="21431" y="9847"/>
                </a:cubicBezTo>
                <a:cubicBezTo>
                  <a:pt x="21508" y="9770"/>
                  <a:pt x="21595" y="9611"/>
                  <a:pt x="21580" y="9500"/>
                </a:cubicBezTo>
                <a:cubicBezTo>
                  <a:pt x="21572" y="9442"/>
                  <a:pt x="21533" y="9444"/>
                  <a:pt x="21530" y="9376"/>
                </a:cubicBezTo>
                <a:cubicBezTo>
                  <a:pt x="21529" y="9343"/>
                  <a:pt x="21535" y="9347"/>
                  <a:pt x="21580" y="9302"/>
                </a:cubicBezTo>
                <a:cubicBezTo>
                  <a:pt x="21609" y="9273"/>
                  <a:pt x="21685" y="9220"/>
                  <a:pt x="21729" y="9178"/>
                </a:cubicBezTo>
                <a:cubicBezTo>
                  <a:pt x="21813" y="9096"/>
                  <a:pt x="21876" y="9005"/>
                  <a:pt x="21903" y="8880"/>
                </a:cubicBezTo>
                <a:cubicBezTo>
                  <a:pt x="21928" y="8768"/>
                  <a:pt x="21856" y="8704"/>
                  <a:pt x="21803" y="8632"/>
                </a:cubicBezTo>
                <a:cubicBezTo>
                  <a:pt x="21768" y="8584"/>
                  <a:pt x="21682" y="8611"/>
                  <a:pt x="21654" y="8558"/>
                </a:cubicBezTo>
                <a:cubicBezTo>
                  <a:pt x="21623" y="8498"/>
                  <a:pt x="21671" y="8461"/>
                  <a:pt x="21654" y="8409"/>
                </a:cubicBezTo>
                <a:cubicBezTo>
                  <a:pt x="21636" y="8355"/>
                  <a:pt x="21616" y="8281"/>
                  <a:pt x="21580" y="8235"/>
                </a:cubicBezTo>
                <a:cubicBezTo>
                  <a:pt x="21462" y="8084"/>
                  <a:pt x="21386" y="8098"/>
                  <a:pt x="21208" y="8086"/>
                </a:cubicBezTo>
                <a:cubicBezTo>
                  <a:pt x="21125" y="8080"/>
                  <a:pt x="21060" y="8106"/>
                  <a:pt x="20985" y="8111"/>
                </a:cubicBezTo>
                <a:cubicBezTo>
                  <a:pt x="20925" y="8115"/>
                  <a:pt x="20906" y="8114"/>
                  <a:pt x="20861" y="8086"/>
                </a:cubicBezTo>
                <a:cubicBezTo>
                  <a:pt x="20803" y="8051"/>
                  <a:pt x="20789" y="7981"/>
                  <a:pt x="20737" y="7938"/>
                </a:cubicBezTo>
                <a:cubicBezTo>
                  <a:pt x="20666" y="7880"/>
                  <a:pt x="20554" y="7840"/>
                  <a:pt x="20464" y="7838"/>
                </a:cubicBezTo>
                <a:cubicBezTo>
                  <a:pt x="20342" y="7835"/>
                  <a:pt x="20212" y="7888"/>
                  <a:pt x="20092" y="7913"/>
                </a:cubicBezTo>
                <a:cubicBezTo>
                  <a:pt x="20010" y="7930"/>
                  <a:pt x="19945" y="7963"/>
                  <a:pt x="19869" y="7987"/>
                </a:cubicBezTo>
                <a:cubicBezTo>
                  <a:pt x="19831" y="7999"/>
                  <a:pt x="19813" y="8012"/>
                  <a:pt x="19769" y="8012"/>
                </a:cubicBezTo>
                <a:cubicBezTo>
                  <a:pt x="19707" y="8012"/>
                  <a:pt x="19656" y="7982"/>
                  <a:pt x="19596" y="7962"/>
                </a:cubicBezTo>
                <a:cubicBezTo>
                  <a:pt x="19497" y="7928"/>
                  <a:pt x="19431" y="7907"/>
                  <a:pt x="19323" y="7913"/>
                </a:cubicBezTo>
                <a:cubicBezTo>
                  <a:pt x="19181" y="7921"/>
                  <a:pt x="19105" y="7949"/>
                  <a:pt x="18976" y="8012"/>
                </a:cubicBezTo>
                <a:cubicBezTo>
                  <a:pt x="18945" y="8027"/>
                  <a:pt x="18884" y="8063"/>
                  <a:pt x="18852" y="8062"/>
                </a:cubicBezTo>
                <a:cubicBezTo>
                  <a:pt x="18802" y="8061"/>
                  <a:pt x="18810" y="8024"/>
                  <a:pt x="18777" y="8012"/>
                </a:cubicBezTo>
                <a:cubicBezTo>
                  <a:pt x="18697" y="7983"/>
                  <a:pt x="18708" y="7946"/>
                  <a:pt x="18628" y="7987"/>
                </a:cubicBezTo>
                <a:cubicBezTo>
                  <a:pt x="18582" y="8011"/>
                  <a:pt x="18563" y="8057"/>
                  <a:pt x="18529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69960" y="3894120"/>
            <a:ext cx="1322280" cy="428760"/>
          </a:xfrm>
          <a:custGeom>
            <a:avLst/>
            <a:gdLst/>
            <a:ahLst/>
            <a:rect l="l" t="t" r="r" b="b"/>
            <a:pathLst>
              <a:path w="3672" h="1191">
                <a:moveTo>
                  <a:pt x="2158" y="11485"/>
                </a:moveTo>
                <a:cubicBezTo>
                  <a:pt x="2132" y="11544"/>
                  <a:pt x="2133" y="11582"/>
                  <a:pt x="2133" y="11509"/>
                </a:cubicBezTo>
                <a:cubicBezTo>
                  <a:pt x="2133" y="11459"/>
                  <a:pt x="2122" y="11451"/>
                  <a:pt x="2108" y="11410"/>
                </a:cubicBezTo>
                <a:cubicBezTo>
                  <a:pt x="2095" y="11370"/>
                  <a:pt x="2083" y="11341"/>
                  <a:pt x="2034" y="11336"/>
                </a:cubicBezTo>
                <a:cubicBezTo>
                  <a:pt x="1990" y="11331"/>
                  <a:pt x="1960" y="11346"/>
                  <a:pt x="1935" y="11385"/>
                </a:cubicBezTo>
                <a:cubicBezTo>
                  <a:pt x="1900" y="11439"/>
                  <a:pt x="1870" y="11496"/>
                  <a:pt x="1860" y="11559"/>
                </a:cubicBezTo>
                <a:cubicBezTo>
                  <a:pt x="1848" y="11632"/>
                  <a:pt x="1854" y="11717"/>
                  <a:pt x="1885" y="11782"/>
                </a:cubicBezTo>
                <a:cubicBezTo>
                  <a:pt x="1904" y="11822"/>
                  <a:pt x="1952" y="11890"/>
                  <a:pt x="2009" y="11881"/>
                </a:cubicBezTo>
                <a:cubicBezTo>
                  <a:pt x="2040" y="11876"/>
                  <a:pt x="2097" y="11846"/>
                  <a:pt x="2133" y="11832"/>
                </a:cubicBezTo>
              </a:path>
              <a:path w="3672" h="1191">
                <a:moveTo>
                  <a:pt x="2381" y="11485"/>
                </a:moveTo>
                <a:cubicBezTo>
                  <a:pt x="2367" y="11555"/>
                  <a:pt x="2317" y="11687"/>
                  <a:pt x="2332" y="11757"/>
                </a:cubicBezTo>
                <a:cubicBezTo>
                  <a:pt x="2347" y="11826"/>
                  <a:pt x="2356" y="11881"/>
                  <a:pt x="2431" y="11906"/>
                </a:cubicBezTo>
                <a:cubicBezTo>
                  <a:pt x="2496" y="11927"/>
                  <a:pt x="2522" y="11937"/>
                  <a:pt x="2580" y="11906"/>
                </a:cubicBezTo>
                <a:cubicBezTo>
                  <a:pt x="2665" y="11860"/>
                  <a:pt x="2686" y="11845"/>
                  <a:pt x="2729" y="11757"/>
                </a:cubicBezTo>
                <a:cubicBezTo>
                  <a:pt x="2755" y="11704"/>
                  <a:pt x="2769" y="11619"/>
                  <a:pt x="2753" y="11559"/>
                </a:cubicBezTo>
                <a:cubicBezTo>
                  <a:pt x="2743" y="11523"/>
                  <a:pt x="2686" y="11428"/>
                  <a:pt x="2654" y="11410"/>
                </a:cubicBezTo>
                <a:cubicBezTo>
                  <a:pt x="2580" y="11369"/>
                  <a:pt x="2512" y="11423"/>
                  <a:pt x="2480" y="11485"/>
                </a:cubicBezTo>
                <a:cubicBezTo>
                  <a:pt x="2462" y="11520"/>
                  <a:pt x="2488" y="11561"/>
                  <a:pt x="2505" y="11584"/>
                </a:cubicBezTo>
              </a:path>
              <a:path w="3672" h="1191">
                <a:moveTo>
                  <a:pt x="3101" y="11410"/>
                </a:moveTo>
                <a:cubicBezTo>
                  <a:pt x="3065" y="11410"/>
                  <a:pt x="3027" y="11417"/>
                  <a:pt x="3001" y="11435"/>
                </a:cubicBezTo>
                <a:cubicBezTo>
                  <a:pt x="2957" y="11465"/>
                  <a:pt x="2959" y="11467"/>
                  <a:pt x="2927" y="11509"/>
                </a:cubicBezTo>
                <a:cubicBezTo>
                  <a:pt x="2951" y="11517"/>
                  <a:pt x="2980" y="11551"/>
                  <a:pt x="3001" y="11584"/>
                </a:cubicBezTo>
                <a:cubicBezTo>
                  <a:pt x="3042" y="11648"/>
                  <a:pt x="3105" y="11677"/>
                  <a:pt x="3150" y="11733"/>
                </a:cubicBezTo>
                <a:cubicBezTo>
                  <a:pt x="3182" y="11773"/>
                  <a:pt x="3175" y="11811"/>
                  <a:pt x="3175" y="11857"/>
                </a:cubicBezTo>
                <a:cubicBezTo>
                  <a:pt x="3175" y="11865"/>
                  <a:pt x="3175" y="11873"/>
                  <a:pt x="3175" y="11881"/>
                </a:cubicBezTo>
                <a:cubicBezTo>
                  <a:pt x="3128" y="11881"/>
                  <a:pt x="3007" y="11902"/>
                  <a:pt x="3001" y="11857"/>
                </a:cubicBezTo>
                <a:cubicBezTo>
                  <a:pt x="3001" y="11832"/>
                  <a:pt x="3001" y="11824"/>
                  <a:pt x="3001" y="11807"/>
                </a:cubicBezTo>
              </a:path>
              <a:path w="3672" h="1191">
                <a:moveTo>
                  <a:pt x="3746" y="10815"/>
                </a:moveTo>
                <a:cubicBezTo>
                  <a:pt x="3733" y="10865"/>
                  <a:pt x="3692" y="10911"/>
                  <a:pt x="3671" y="10964"/>
                </a:cubicBezTo>
                <a:cubicBezTo>
                  <a:pt x="3627" y="11075"/>
                  <a:pt x="3583" y="11171"/>
                  <a:pt x="3547" y="11286"/>
                </a:cubicBezTo>
                <a:cubicBezTo>
                  <a:pt x="3513" y="11393"/>
                  <a:pt x="3439" y="11567"/>
                  <a:pt x="3448" y="11683"/>
                </a:cubicBezTo>
                <a:cubicBezTo>
                  <a:pt x="3453" y="11746"/>
                  <a:pt x="3471" y="11874"/>
                  <a:pt x="3497" y="11931"/>
                </a:cubicBezTo>
                <a:cubicBezTo>
                  <a:pt x="3529" y="12001"/>
                  <a:pt x="3570" y="11989"/>
                  <a:pt x="3621" y="11981"/>
                </a:cubicBezTo>
                <a:cubicBezTo>
                  <a:pt x="3629" y="11981"/>
                  <a:pt x="3638" y="11981"/>
                  <a:pt x="3646" y="11981"/>
                </a:cubicBezTo>
              </a:path>
              <a:path w="3672" h="1191">
                <a:moveTo>
                  <a:pt x="3894" y="11013"/>
                </a:moveTo>
                <a:cubicBezTo>
                  <a:pt x="3993" y="10992"/>
                  <a:pt x="4067" y="10988"/>
                  <a:pt x="4167" y="10988"/>
                </a:cubicBezTo>
                <a:cubicBezTo>
                  <a:pt x="4231" y="10988"/>
                  <a:pt x="4290" y="11000"/>
                  <a:pt x="4341" y="10964"/>
                </a:cubicBezTo>
              </a:path>
              <a:path w="3672" h="1191">
                <a:moveTo>
                  <a:pt x="4018" y="10964"/>
                </a:moveTo>
                <a:cubicBezTo>
                  <a:pt x="4018" y="11071"/>
                  <a:pt x="4018" y="11162"/>
                  <a:pt x="4043" y="11261"/>
                </a:cubicBezTo>
                <a:cubicBezTo>
                  <a:pt x="4043" y="11286"/>
                  <a:pt x="4043" y="11294"/>
                  <a:pt x="4068" y="11286"/>
                </a:cubicBezTo>
              </a:path>
              <a:path w="3672" h="1191">
                <a:moveTo>
                  <a:pt x="4217" y="11063"/>
                </a:moveTo>
                <a:cubicBezTo>
                  <a:pt x="4217" y="11108"/>
                  <a:pt x="4192" y="11319"/>
                  <a:pt x="4242" y="11336"/>
                </a:cubicBezTo>
              </a:path>
              <a:path w="3672" h="1191">
                <a:moveTo>
                  <a:pt x="4589" y="10964"/>
                </a:moveTo>
                <a:cubicBezTo>
                  <a:pt x="4540" y="11092"/>
                  <a:pt x="4484" y="11207"/>
                  <a:pt x="4440" y="11336"/>
                </a:cubicBezTo>
                <a:cubicBezTo>
                  <a:pt x="4408" y="11431"/>
                  <a:pt x="4362" y="11544"/>
                  <a:pt x="4316" y="11633"/>
                </a:cubicBezTo>
                <a:cubicBezTo>
                  <a:pt x="4274" y="11714"/>
                  <a:pt x="4232" y="11791"/>
                  <a:pt x="4217" y="11881"/>
                </a:cubicBezTo>
                <a:cubicBezTo>
                  <a:pt x="4215" y="11895"/>
                  <a:pt x="4192" y="12020"/>
                  <a:pt x="4192" y="11956"/>
                </a:cubicBezTo>
              </a:path>
              <a:path w="3672" h="1191">
                <a:moveTo>
                  <a:pt x="4589" y="11658"/>
                </a:moveTo>
                <a:cubicBezTo>
                  <a:pt x="4551" y="11751"/>
                  <a:pt x="4514" y="11810"/>
                  <a:pt x="4514" y="11906"/>
                </a:cubicBezTo>
                <a:cubicBezTo>
                  <a:pt x="4514" y="11959"/>
                  <a:pt x="4567" y="11978"/>
                  <a:pt x="4614" y="11981"/>
                </a:cubicBezTo>
                <a:cubicBezTo>
                  <a:pt x="4670" y="11985"/>
                  <a:pt x="4746" y="11975"/>
                  <a:pt x="4787" y="11931"/>
                </a:cubicBezTo>
                <a:cubicBezTo>
                  <a:pt x="4842" y="11871"/>
                  <a:pt x="4811" y="11843"/>
                  <a:pt x="4837" y="11782"/>
                </a:cubicBezTo>
                <a:cubicBezTo>
                  <a:pt x="4862" y="11757"/>
                  <a:pt x="4870" y="11749"/>
                  <a:pt x="4837" y="11733"/>
                </a:cubicBezTo>
                <a:cubicBezTo>
                  <a:pt x="4787" y="11745"/>
                  <a:pt x="4780" y="11764"/>
                  <a:pt x="4762" y="11807"/>
                </a:cubicBezTo>
                <a:cubicBezTo>
                  <a:pt x="4740" y="11859"/>
                  <a:pt x="4738" y="11877"/>
                  <a:pt x="4738" y="11931"/>
                </a:cubicBezTo>
                <a:cubicBezTo>
                  <a:pt x="4738" y="11967"/>
                  <a:pt x="4759" y="12002"/>
                  <a:pt x="4787" y="12005"/>
                </a:cubicBezTo>
                <a:cubicBezTo>
                  <a:pt x="4795" y="12005"/>
                  <a:pt x="4804" y="12005"/>
                  <a:pt x="4812" y="12005"/>
                </a:cubicBezTo>
              </a:path>
              <a:path w="3672" h="1191">
                <a:moveTo>
                  <a:pt x="5333" y="11286"/>
                </a:moveTo>
                <a:cubicBezTo>
                  <a:pt x="5333" y="11361"/>
                  <a:pt x="5320" y="11416"/>
                  <a:pt x="5308" y="11485"/>
                </a:cubicBezTo>
                <a:cubicBezTo>
                  <a:pt x="5292" y="11578"/>
                  <a:pt x="5308" y="11686"/>
                  <a:pt x="5308" y="11782"/>
                </a:cubicBezTo>
              </a:path>
              <a:path w="3672" h="1191">
                <a:moveTo>
                  <a:pt x="5135" y="11485"/>
                </a:moveTo>
                <a:cubicBezTo>
                  <a:pt x="5267" y="11485"/>
                  <a:pt x="5399" y="11485"/>
                  <a:pt x="5531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43080" y="3946680"/>
            <a:ext cx="581040" cy="546120"/>
          </a:xfrm>
          <a:custGeom>
            <a:avLst/>
            <a:gdLst/>
            <a:ahLst/>
            <a:rect l="l" t="t" r="r" b="b"/>
            <a:pathLst>
              <a:path w="1613" h="1514">
                <a:moveTo>
                  <a:pt x="5953" y="11038"/>
                </a:moveTo>
                <a:cubicBezTo>
                  <a:pt x="6085" y="11038"/>
                  <a:pt x="6218" y="11038"/>
                  <a:pt x="6350" y="11038"/>
                </a:cubicBezTo>
              </a:path>
              <a:path w="1613" h="1514">
                <a:moveTo>
                  <a:pt x="6077" y="11063"/>
                </a:moveTo>
                <a:cubicBezTo>
                  <a:pt x="6054" y="11190"/>
                  <a:pt x="6051" y="11224"/>
                  <a:pt x="6077" y="11336"/>
                </a:cubicBezTo>
                <a:cubicBezTo>
                  <a:pt x="6087" y="11381"/>
                  <a:pt x="6078" y="11395"/>
                  <a:pt x="6102" y="11435"/>
                </a:cubicBezTo>
              </a:path>
              <a:path w="1613" h="1514">
                <a:moveTo>
                  <a:pt x="6226" y="11063"/>
                </a:moveTo>
                <a:cubicBezTo>
                  <a:pt x="6250" y="11152"/>
                  <a:pt x="6251" y="11218"/>
                  <a:pt x="6251" y="11311"/>
                </a:cubicBezTo>
                <a:cubicBezTo>
                  <a:pt x="6251" y="11371"/>
                  <a:pt x="6240" y="11395"/>
                  <a:pt x="6300" y="11410"/>
                </a:cubicBezTo>
              </a:path>
              <a:path w="1613" h="1514">
                <a:moveTo>
                  <a:pt x="6772" y="10988"/>
                </a:moveTo>
                <a:cubicBezTo>
                  <a:pt x="6733" y="11103"/>
                  <a:pt x="6698" y="11225"/>
                  <a:pt x="6648" y="11336"/>
                </a:cubicBezTo>
                <a:cubicBezTo>
                  <a:pt x="6598" y="11446"/>
                  <a:pt x="6550" y="11549"/>
                  <a:pt x="6499" y="11658"/>
                </a:cubicBezTo>
                <a:cubicBezTo>
                  <a:pt x="6455" y="11751"/>
                  <a:pt x="6390" y="11835"/>
                  <a:pt x="6350" y="11931"/>
                </a:cubicBezTo>
                <a:cubicBezTo>
                  <a:pt x="6343" y="11949"/>
                  <a:pt x="6292" y="12088"/>
                  <a:pt x="6300" y="12105"/>
                </a:cubicBezTo>
                <a:cubicBezTo>
                  <a:pt x="6300" y="12129"/>
                  <a:pt x="6300" y="12137"/>
                  <a:pt x="6325" y="12129"/>
                </a:cubicBezTo>
              </a:path>
              <a:path w="1613" h="1514">
                <a:moveTo>
                  <a:pt x="6722" y="11782"/>
                </a:moveTo>
                <a:cubicBezTo>
                  <a:pt x="6695" y="11816"/>
                  <a:pt x="6627" y="11866"/>
                  <a:pt x="6623" y="11906"/>
                </a:cubicBezTo>
                <a:cubicBezTo>
                  <a:pt x="6617" y="11959"/>
                  <a:pt x="6659" y="11956"/>
                  <a:pt x="6697" y="11956"/>
                </a:cubicBezTo>
                <a:cubicBezTo>
                  <a:pt x="6766" y="11956"/>
                  <a:pt x="6807" y="11955"/>
                  <a:pt x="6871" y="11931"/>
                </a:cubicBezTo>
              </a:path>
              <a:path w="1613" h="1514">
                <a:moveTo>
                  <a:pt x="6970" y="11658"/>
                </a:moveTo>
                <a:cubicBezTo>
                  <a:pt x="6950" y="11729"/>
                  <a:pt x="6946" y="11841"/>
                  <a:pt x="6921" y="11906"/>
                </a:cubicBezTo>
                <a:cubicBezTo>
                  <a:pt x="6901" y="11957"/>
                  <a:pt x="6896" y="11992"/>
                  <a:pt x="6896" y="12055"/>
                </a:cubicBezTo>
                <a:cubicBezTo>
                  <a:pt x="6896" y="12097"/>
                  <a:pt x="6893" y="12138"/>
                  <a:pt x="6921" y="12105"/>
                </a:cubicBezTo>
                <a:cubicBezTo>
                  <a:pt x="6929" y="12097"/>
                  <a:pt x="6937" y="12088"/>
                  <a:pt x="6945" y="12080"/>
                </a:cubicBezTo>
              </a:path>
              <a:path w="1613" h="1514">
                <a:moveTo>
                  <a:pt x="7243" y="10964"/>
                </a:moveTo>
                <a:cubicBezTo>
                  <a:pt x="7352" y="11073"/>
                  <a:pt x="7375" y="11147"/>
                  <a:pt x="7441" y="11286"/>
                </a:cubicBezTo>
                <a:cubicBezTo>
                  <a:pt x="7505" y="11420"/>
                  <a:pt x="7552" y="11583"/>
                  <a:pt x="7565" y="11733"/>
                </a:cubicBezTo>
                <a:cubicBezTo>
                  <a:pt x="7576" y="11854"/>
                  <a:pt x="7575" y="11989"/>
                  <a:pt x="7541" y="12105"/>
                </a:cubicBezTo>
                <a:cubicBezTo>
                  <a:pt x="7506" y="12223"/>
                  <a:pt x="7477" y="12289"/>
                  <a:pt x="7392" y="12378"/>
                </a:cubicBezTo>
                <a:cubicBezTo>
                  <a:pt x="7327" y="12446"/>
                  <a:pt x="7301" y="12446"/>
                  <a:pt x="7218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1960" y="5106960"/>
            <a:ext cx="2054160" cy="590400"/>
          </a:xfrm>
          <a:custGeom>
            <a:avLst/>
            <a:gdLst/>
            <a:ahLst/>
            <a:rect l="l" t="t" r="r" b="b"/>
            <a:pathLst>
              <a:path w="5706" h="1638">
                <a:moveTo>
                  <a:pt x="1885" y="14188"/>
                </a:moveTo>
                <a:cubicBezTo>
                  <a:pt x="1906" y="14287"/>
                  <a:pt x="1910" y="14361"/>
                  <a:pt x="1910" y="14461"/>
                </a:cubicBezTo>
                <a:cubicBezTo>
                  <a:pt x="1910" y="14566"/>
                  <a:pt x="1896" y="14658"/>
                  <a:pt x="1885" y="14759"/>
                </a:cubicBezTo>
                <a:cubicBezTo>
                  <a:pt x="1877" y="14831"/>
                  <a:pt x="1890" y="14916"/>
                  <a:pt x="1860" y="14982"/>
                </a:cubicBezTo>
                <a:cubicBezTo>
                  <a:pt x="1845" y="15016"/>
                  <a:pt x="1837" y="15023"/>
                  <a:pt x="1811" y="15032"/>
                </a:cubicBezTo>
              </a:path>
              <a:path w="5706" h="1638">
                <a:moveTo>
                  <a:pt x="1563" y="14635"/>
                </a:moveTo>
                <a:cubicBezTo>
                  <a:pt x="1644" y="14635"/>
                  <a:pt x="1665" y="14657"/>
                  <a:pt x="1736" y="14660"/>
                </a:cubicBezTo>
                <a:cubicBezTo>
                  <a:pt x="1816" y="14664"/>
                  <a:pt x="1878" y="14684"/>
                  <a:pt x="1960" y="14684"/>
                </a:cubicBezTo>
                <a:cubicBezTo>
                  <a:pt x="2035" y="14684"/>
                  <a:pt x="2124" y="14703"/>
                  <a:pt x="2183" y="14660"/>
                </a:cubicBezTo>
                <a:cubicBezTo>
                  <a:pt x="2125" y="14660"/>
                  <a:pt x="2144" y="14667"/>
                  <a:pt x="2108" y="14709"/>
                </a:cubicBezTo>
                <a:cubicBezTo>
                  <a:pt x="2066" y="14757"/>
                  <a:pt x="2038" y="14797"/>
                  <a:pt x="2034" y="14858"/>
                </a:cubicBezTo>
                <a:cubicBezTo>
                  <a:pt x="2031" y="14907"/>
                  <a:pt x="2031" y="14958"/>
                  <a:pt x="2084" y="14982"/>
                </a:cubicBezTo>
                <a:cubicBezTo>
                  <a:pt x="2111" y="14994"/>
                  <a:pt x="2169" y="14984"/>
                  <a:pt x="2183" y="14957"/>
                </a:cubicBezTo>
                <a:cubicBezTo>
                  <a:pt x="2199" y="14925"/>
                  <a:pt x="2226" y="14866"/>
                  <a:pt x="2232" y="14833"/>
                </a:cubicBezTo>
                <a:cubicBezTo>
                  <a:pt x="2244" y="14772"/>
                  <a:pt x="2223" y="14755"/>
                  <a:pt x="2208" y="14709"/>
                </a:cubicBezTo>
                <a:cubicBezTo>
                  <a:pt x="2191" y="14657"/>
                  <a:pt x="2230" y="14784"/>
                  <a:pt x="2232" y="14808"/>
                </a:cubicBezTo>
                <a:cubicBezTo>
                  <a:pt x="2235" y="14854"/>
                  <a:pt x="2233" y="14897"/>
                  <a:pt x="2257" y="14932"/>
                </a:cubicBezTo>
                <a:cubicBezTo>
                  <a:pt x="2292" y="14983"/>
                  <a:pt x="2312" y="14991"/>
                  <a:pt x="2356" y="14957"/>
                </a:cubicBezTo>
              </a:path>
              <a:path w="5706" h="1638">
                <a:moveTo>
                  <a:pt x="2456" y="14709"/>
                </a:moveTo>
                <a:cubicBezTo>
                  <a:pt x="2482" y="14773"/>
                  <a:pt x="2480" y="14813"/>
                  <a:pt x="2480" y="14883"/>
                </a:cubicBezTo>
                <a:cubicBezTo>
                  <a:pt x="2480" y="14941"/>
                  <a:pt x="2480" y="14998"/>
                  <a:pt x="2480" y="15056"/>
                </a:cubicBezTo>
                <a:cubicBezTo>
                  <a:pt x="2526" y="15041"/>
                  <a:pt x="2516" y="15009"/>
                  <a:pt x="2530" y="14957"/>
                </a:cubicBezTo>
                <a:cubicBezTo>
                  <a:pt x="2548" y="14892"/>
                  <a:pt x="2584" y="14833"/>
                  <a:pt x="2629" y="14784"/>
                </a:cubicBezTo>
                <a:cubicBezTo>
                  <a:pt x="2664" y="14745"/>
                  <a:pt x="2693" y="14752"/>
                  <a:pt x="2729" y="14784"/>
                </a:cubicBezTo>
                <a:cubicBezTo>
                  <a:pt x="2780" y="14829"/>
                  <a:pt x="2799" y="14864"/>
                  <a:pt x="2803" y="14932"/>
                </a:cubicBezTo>
                <a:cubicBezTo>
                  <a:pt x="2807" y="14997"/>
                  <a:pt x="2773" y="15187"/>
                  <a:pt x="2828" y="15205"/>
                </a:cubicBezTo>
              </a:path>
              <a:path w="5706" h="1638">
                <a:moveTo>
                  <a:pt x="3200" y="14387"/>
                </a:moveTo>
                <a:cubicBezTo>
                  <a:pt x="3191" y="14458"/>
                  <a:pt x="3174" y="14518"/>
                  <a:pt x="3150" y="14585"/>
                </a:cubicBezTo>
                <a:cubicBezTo>
                  <a:pt x="3111" y="14697"/>
                  <a:pt x="3101" y="14791"/>
                  <a:pt x="3101" y="14908"/>
                </a:cubicBezTo>
                <a:cubicBezTo>
                  <a:pt x="3101" y="14997"/>
                  <a:pt x="3078" y="15146"/>
                  <a:pt x="3125" y="15230"/>
                </a:cubicBezTo>
                <a:cubicBezTo>
                  <a:pt x="3140" y="15256"/>
                  <a:pt x="3178" y="15283"/>
                  <a:pt x="3200" y="15304"/>
                </a:cubicBezTo>
                <a:cubicBezTo>
                  <a:pt x="3212" y="15268"/>
                  <a:pt x="3216" y="15280"/>
                  <a:pt x="3249" y="15230"/>
                </a:cubicBezTo>
              </a:path>
              <a:path w="5706" h="1638">
                <a:moveTo>
                  <a:pt x="3373" y="14536"/>
                </a:moveTo>
                <a:cubicBezTo>
                  <a:pt x="3465" y="14520"/>
                  <a:pt x="3531" y="14511"/>
                  <a:pt x="3621" y="14511"/>
                </a:cubicBezTo>
                <a:cubicBezTo>
                  <a:pt x="3678" y="14511"/>
                  <a:pt x="3697" y="14521"/>
                  <a:pt x="3721" y="14486"/>
                </a:cubicBezTo>
              </a:path>
              <a:path w="5706" h="1638">
                <a:moveTo>
                  <a:pt x="3522" y="14536"/>
                </a:moveTo>
                <a:cubicBezTo>
                  <a:pt x="3522" y="14631"/>
                  <a:pt x="3520" y="14705"/>
                  <a:pt x="3547" y="14784"/>
                </a:cubicBezTo>
                <a:cubicBezTo>
                  <a:pt x="3547" y="14808"/>
                  <a:pt x="3547" y="14816"/>
                  <a:pt x="3572" y="14808"/>
                </a:cubicBezTo>
              </a:path>
              <a:path w="5706" h="1638">
                <a:moveTo>
                  <a:pt x="3721" y="14511"/>
                </a:moveTo>
                <a:cubicBezTo>
                  <a:pt x="3721" y="14627"/>
                  <a:pt x="3721" y="14742"/>
                  <a:pt x="3721" y="14858"/>
                </a:cubicBezTo>
              </a:path>
              <a:path w="5706" h="1638">
                <a:moveTo>
                  <a:pt x="4018" y="14585"/>
                </a:moveTo>
                <a:cubicBezTo>
                  <a:pt x="4011" y="14712"/>
                  <a:pt x="4004" y="14835"/>
                  <a:pt x="3969" y="14957"/>
                </a:cubicBezTo>
                <a:cubicBezTo>
                  <a:pt x="3943" y="15048"/>
                  <a:pt x="3929" y="15146"/>
                  <a:pt x="3894" y="15230"/>
                </a:cubicBezTo>
                <a:cubicBezTo>
                  <a:pt x="3888" y="15246"/>
                  <a:pt x="3837" y="15371"/>
                  <a:pt x="3845" y="15379"/>
                </a:cubicBezTo>
                <a:cubicBezTo>
                  <a:pt x="3880" y="15379"/>
                  <a:pt x="3893" y="15370"/>
                  <a:pt x="3894" y="15329"/>
                </a:cubicBezTo>
              </a:path>
              <a:path w="5706" h="1638">
                <a:moveTo>
                  <a:pt x="4118" y="15007"/>
                </a:moveTo>
                <a:cubicBezTo>
                  <a:pt x="4158" y="15076"/>
                  <a:pt x="4122" y="15125"/>
                  <a:pt x="4118" y="15205"/>
                </a:cubicBezTo>
                <a:cubicBezTo>
                  <a:pt x="4115" y="15267"/>
                  <a:pt x="4103" y="15351"/>
                  <a:pt x="4142" y="15404"/>
                </a:cubicBezTo>
                <a:cubicBezTo>
                  <a:pt x="4169" y="15441"/>
                  <a:pt x="4238" y="15521"/>
                  <a:pt x="4291" y="15503"/>
                </a:cubicBezTo>
                <a:cubicBezTo>
                  <a:pt x="4322" y="15493"/>
                  <a:pt x="4366" y="15428"/>
                  <a:pt x="4390" y="15404"/>
                </a:cubicBezTo>
                <a:cubicBezTo>
                  <a:pt x="4440" y="15353"/>
                  <a:pt x="4424" y="15309"/>
                  <a:pt x="4415" y="15255"/>
                </a:cubicBezTo>
                <a:cubicBezTo>
                  <a:pt x="4415" y="15230"/>
                  <a:pt x="4415" y="15222"/>
                  <a:pt x="4415" y="15205"/>
                </a:cubicBezTo>
                <a:cubicBezTo>
                  <a:pt x="4381" y="15205"/>
                  <a:pt x="4335" y="15192"/>
                  <a:pt x="4316" y="15230"/>
                </a:cubicBezTo>
                <a:cubicBezTo>
                  <a:pt x="4300" y="15262"/>
                  <a:pt x="4274" y="15363"/>
                  <a:pt x="4291" y="15404"/>
                </a:cubicBezTo>
                <a:cubicBezTo>
                  <a:pt x="4304" y="15436"/>
                  <a:pt x="4339" y="15447"/>
                  <a:pt x="4366" y="15453"/>
                </a:cubicBezTo>
              </a:path>
              <a:path w="5706" h="1638">
                <a:moveTo>
                  <a:pt x="4812" y="14883"/>
                </a:moveTo>
                <a:cubicBezTo>
                  <a:pt x="4812" y="15040"/>
                  <a:pt x="4815" y="15141"/>
                  <a:pt x="4837" y="15280"/>
                </a:cubicBezTo>
                <a:cubicBezTo>
                  <a:pt x="4846" y="15338"/>
                  <a:pt x="4849" y="15378"/>
                  <a:pt x="4862" y="15429"/>
                </a:cubicBezTo>
              </a:path>
              <a:path w="5706" h="1638">
                <a:moveTo>
                  <a:pt x="4713" y="15032"/>
                </a:moveTo>
                <a:cubicBezTo>
                  <a:pt x="4790" y="15073"/>
                  <a:pt x="4848" y="15101"/>
                  <a:pt x="4936" y="15106"/>
                </a:cubicBezTo>
                <a:cubicBezTo>
                  <a:pt x="4981" y="15106"/>
                  <a:pt x="4994" y="15109"/>
                  <a:pt x="5011" y="15081"/>
                </a:cubicBezTo>
              </a:path>
              <a:path w="5706" h="1638">
                <a:moveTo>
                  <a:pt x="5234" y="14684"/>
                </a:moveTo>
                <a:cubicBezTo>
                  <a:pt x="5339" y="14684"/>
                  <a:pt x="5411" y="14704"/>
                  <a:pt x="5507" y="14709"/>
                </a:cubicBezTo>
                <a:cubicBezTo>
                  <a:pt x="5568" y="14712"/>
                  <a:pt x="5575" y="14708"/>
                  <a:pt x="5631" y="14684"/>
                </a:cubicBezTo>
              </a:path>
              <a:path w="5706" h="1638">
                <a:moveTo>
                  <a:pt x="5432" y="14709"/>
                </a:moveTo>
                <a:cubicBezTo>
                  <a:pt x="5411" y="14829"/>
                  <a:pt x="5403" y="14861"/>
                  <a:pt x="5432" y="14957"/>
                </a:cubicBezTo>
                <a:cubicBezTo>
                  <a:pt x="5445" y="15001"/>
                  <a:pt x="5426" y="14991"/>
                  <a:pt x="5457" y="15032"/>
                </a:cubicBezTo>
              </a:path>
              <a:path w="5706" h="1638">
                <a:moveTo>
                  <a:pt x="5556" y="14759"/>
                </a:moveTo>
                <a:cubicBezTo>
                  <a:pt x="5563" y="14870"/>
                  <a:pt x="5579" y="14917"/>
                  <a:pt x="5606" y="15007"/>
                </a:cubicBezTo>
                <a:cubicBezTo>
                  <a:pt x="5620" y="15053"/>
                  <a:pt x="5638" y="15064"/>
                  <a:pt x="5680" y="15081"/>
                </a:cubicBezTo>
              </a:path>
              <a:path w="5706" h="1638">
                <a:moveTo>
                  <a:pt x="6052" y="14684"/>
                </a:moveTo>
                <a:cubicBezTo>
                  <a:pt x="6022" y="14777"/>
                  <a:pt x="5985" y="14865"/>
                  <a:pt x="5953" y="14957"/>
                </a:cubicBezTo>
                <a:cubicBezTo>
                  <a:pt x="5917" y="15060"/>
                  <a:pt x="5864" y="15150"/>
                  <a:pt x="5829" y="15255"/>
                </a:cubicBezTo>
                <a:cubicBezTo>
                  <a:pt x="5799" y="15343"/>
                  <a:pt x="5747" y="15437"/>
                  <a:pt x="5730" y="15528"/>
                </a:cubicBezTo>
                <a:cubicBezTo>
                  <a:pt x="5720" y="15579"/>
                  <a:pt x="5673" y="15637"/>
                  <a:pt x="5705" y="15677"/>
                </a:cubicBezTo>
                <a:cubicBezTo>
                  <a:pt x="5719" y="15695"/>
                  <a:pt x="5730" y="15705"/>
                  <a:pt x="5730" y="15677"/>
                </a:cubicBezTo>
              </a:path>
              <a:path w="5706" h="1638">
                <a:moveTo>
                  <a:pt x="6028" y="15354"/>
                </a:moveTo>
                <a:cubicBezTo>
                  <a:pt x="6028" y="15362"/>
                  <a:pt x="6028" y="15371"/>
                  <a:pt x="6028" y="15379"/>
                </a:cubicBezTo>
                <a:cubicBezTo>
                  <a:pt x="5986" y="15393"/>
                  <a:pt x="6003" y="15427"/>
                  <a:pt x="6003" y="15478"/>
                </a:cubicBezTo>
                <a:cubicBezTo>
                  <a:pt x="6003" y="15514"/>
                  <a:pt x="6008" y="15565"/>
                  <a:pt x="6052" y="15577"/>
                </a:cubicBezTo>
                <a:cubicBezTo>
                  <a:pt x="6079" y="15585"/>
                  <a:pt x="6148" y="15577"/>
                  <a:pt x="6176" y="15577"/>
                </a:cubicBezTo>
              </a:path>
              <a:path w="5706" h="1638">
                <a:moveTo>
                  <a:pt x="6226" y="15255"/>
                </a:moveTo>
                <a:cubicBezTo>
                  <a:pt x="6226" y="15324"/>
                  <a:pt x="6204" y="15383"/>
                  <a:pt x="6201" y="15453"/>
                </a:cubicBezTo>
                <a:cubicBezTo>
                  <a:pt x="6198" y="15516"/>
                  <a:pt x="6168" y="15651"/>
                  <a:pt x="6176" y="15701"/>
                </a:cubicBezTo>
                <a:cubicBezTo>
                  <a:pt x="6180" y="15724"/>
                  <a:pt x="6215" y="15839"/>
                  <a:pt x="6251" y="15776"/>
                </a:cubicBezTo>
                <a:cubicBezTo>
                  <a:pt x="6251" y="15768"/>
                  <a:pt x="6251" y="15759"/>
                  <a:pt x="6251" y="15751"/>
                </a:cubicBezTo>
              </a:path>
              <a:path w="5706" h="1638">
                <a:moveTo>
                  <a:pt x="6524" y="14759"/>
                </a:moveTo>
                <a:cubicBezTo>
                  <a:pt x="6568" y="14894"/>
                  <a:pt x="6631" y="15022"/>
                  <a:pt x="6672" y="15156"/>
                </a:cubicBezTo>
                <a:cubicBezTo>
                  <a:pt x="6703" y="15260"/>
                  <a:pt x="6763" y="15393"/>
                  <a:pt x="6747" y="15503"/>
                </a:cubicBezTo>
                <a:cubicBezTo>
                  <a:pt x="6736" y="15576"/>
                  <a:pt x="6715" y="15664"/>
                  <a:pt x="6672" y="15726"/>
                </a:cubicBezTo>
                <a:cubicBezTo>
                  <a:pt x="6660" y="15743"/>
                  <a:pt x="6599" y="15837"/>
                  <a:pt x="6573" y="15825"/>
                </a:cubicBezTo>
                <a:cubicBezTo>
                  <a:pt x="6573" y="15817"/>
                  <a:pt x="6573" y="15809"/>
                  <a:pt x="6573" y="15801"/>
                </a:cubicBezTo>
              </a:path>
              <a:path w="5706" h="1638">
                <a:moveTo>
                  <a:pt x="6945" y="15304"/>
                </a:moveTo>
                <a:cubicBezTo>
                  <a:pt x="7029" y="15285"/>
                  <a:pt x="7044" y="15280"/>
                  <a:pt x="7119" y="15280"/>
                </a:cubicBezTo>
              </a:path>
              <a:path w="5706" h="1638">
                <a:moveTo>
                  <a:pt x="7069" y="15503"/>
                </a:moveTo>
                <a:cubicBezTo>
                  <a:pt x="7119" y="15533"/>
                  <a:pt x="7156" y="15528"/>
                  <a:pt x="7218" y="15528"/>
                </a:cubicBezTo>
                <a:cubicBezTo>
                  <a:pt x="7235" y="15528"/>
                  <a:pt x="7251" y="15528"/>
                  <a:pt x="7268" y="155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30680" y="3990960"/>
            <a:ext cx="2143080" cy="403200"/>
          </a:xfrm>
          <a:custGeom>
            <a:avLst/>
            <a:gdLst/>
            <a:ahLst/>
            <a:rect l="l" t="t" r="r" b="b"/>
            <a:pathLst>
              <a:path w="5954" h="1117">
                <a:moveTo>
                  <a:pt x="7863" y="11460"/>
                </a:moveTo>
                <a:cubicBezTo>
                  <a:pt x="7931" y="11460"/>
                  <a:pt x="7982" y="11467"/>
                  <a:pt x="8037" y="11485"/>
                </a:cubicBezTo>
                <a:cubicBezTo>
                  <a:pt x="8056" y="11491"/>
                  <a:pt x="8091" y="11485"/>
                  <a:pt x="8111" y="11485"/>
                </a:cubicBezTo>
              </a:path>
              <a:path w="5954" h="1117">
                <a:moveTo>
                  <a:pt x="7863" y="11609"/>
                </a:moveTo>
                <a:cubicBezTo>
                  <a:pt x="7916" y="11609"/>
                  <a:pt x="7945" y="11616"/>
                  <a:pt x="7987" y="11584"/>
                </a:cubicBezTo>
              </a:path>
              <a:path w="5954" h="1117">
                <a:moveTo>
                  <a:pt x="8682" y="11336"/>
                </a:moveTo>
                <a:cubicBezTo>
                  <a:pt x="8666" y="11314"/>
                  <a:pt x="8642" y="11266"/>
                  <a:pt x="8632" y="11261"/>
                </a:cubicBezTo>
                <a:cubicBezTo>
                  <a:pt x="8596" y="11243"/>
                  <a:pt x="8532" y="11264"/>
                  <a:pt x="8508" y="11286"/>
                </a:cubicBezTo>
                <a:cubicBezTo>
                  <a:pt x="8483" y="11308"/>
                  <a:pt x="8453" y="11355"/>
                  <a:pt x="8434" y="11385"/>
                </a:cubicBezTo>
                <a:cubicBezTo>
                  <a:pt x="8395" y="11446"/>
                  <a:pt x="8365" y="11486"/>
                  <a:pt x="8359" y="11559"/>
                </a:cubicBezTo>
                <a:cubicBezTo>
                  <a:pt x="8355" y="11615"/>
                  <a:pt x="8350" y="11665"/>
                  <a:pt x="8384" y="11708"/>
                </a:cubicBezTo>
                <a:cubicBezTo>
                  <a:pt x="8408" y="11738"/>
                  <a:pt x="8474" y="11800"/>
                  <a:pt x="8508" y="11807"/>
                </a:cubicBezTo>
                <a:cubicBezTo>
                  <a:pt x="8568" y="11819"/>
                  <a:pt x="8637" y="11816"/>
                  <a:pt x="8682" y="11782"/>
                </a:cubicBezTo>
              </a:path>
              <a:path w="5954" h="1117">
                <a:moveTo>
                  <a:pt x="8830" y="11534"/>
                </a:moveTo>
                <a:cubicBezTo>
                  <a:pt x="8822" y="11620"/>
                  <a:pt x="8816" y="11636"/>
                  <a:pt x="8830" y="11708"/>
                </a:cubicBezTo>
                <a:cubicBezTo>
                  <a:pt x="8840" y="11759"/>
                  <a:pt x="8847" y="11819"/>
                  <a:pt x="8905" y="11832"/>
                </a:cubicBezTo>
                <a:cubicBezTo>
                  <a:pt x="8947" y="11841"/>
                  <a:pt x="8995" y="11830"/>
                  <a:pt x="9029" y="11807"/>
                </a:cubicBezTo>
                <a:cubicBezTo>
                  <a:pt x="9087" y="11768"/>
                  <a:pt x="9123" y="11695"/>
                  <a:pt x="9128" y="11633"/>
                </a:cubicBezTo>
                <a:cubicBezTo>
                  <a:pt x="9133" y="11573"/>
                  <a:pt x="9118" y="11554"/>
                  <a:pt x="9103" y="11509"/>
                </a:cubicBezTo>
                <a:cubicBezTo>
                  <a:pt x="9089" y="11469"/>
                  <a:pt x="9077" y="11440"/>
                  <a:pt x="9029" y="11435"/>
                </a:cubicBezTo>
                <a:cubicBezTo>
                  <a:pt x="8977" y="11429"/>
                  <a:pt x="8974" y="11450"/>
                  <a:pt x="8954" y="11460"/>
                </a:cubicBezTo>
                <a:cubicBezTo>
                  <a:pt x="8929" y="11473"/>
                  <a:pt x="8908" y="11492"/>
                  <a:pt x="8905" y="11534"/>
                </a:cubicBezTo>
                <a:cubicBezTo>
                  <a:pt x="8900" y="11610"/>
                  <a:pt x="8887" y="11597"/>
                  <a:pt x="8905" y="11633"/>
                </a:cubicBezTo>
                <a:cubicBezTo>
                  <a:pt x="8905" y="11641"/>
                  <a:pt x="8905" y="11650"/>
                  <a:pt x="8905" y="11658"/>
                </a:cubicBezTo>
              </a:path>
              <a:path w="5954" h="1117">
                <a:moveTo>
                  <a:pt x="9426" y="11410"/>
                </a:moveTo>
                <a:cubicBezTo>
                  <a:pt x="9372" y="11410"/>
                  <a:pt x="9334" y="11397"/>
                  <a:pt x="9327" y="11460"/>
                </a:cubicBezTo>
                <a:cubicBezTo>
                  <a:pt x="9322" y="11504"/>
                  <a:pt x="9358" y="11520"/>
                  <a:pt x="9376" y="11534"/>
                </a:cubicBezTo>
                <a:cubicBezTo>
                  <a:pt x="9418" y="11566"/>
                  <a:pt x="9494" y="11633"/>
                  <a:pt x="9500" y="11683"/>
                </a:cubicBezTo>
                <a:cubicBezTo>
                  <a:pt x="9503" y="11707"/>
                  <a:pt x="9490" y="11773"/>
                  <a:pt x="9475" y="11782"/>
                </a:cubicBezTo>
                <a:cubicBezTo>
                  <a:pt x="9423" y="11811"/>
                  <a:pt x="9381" y="11807"/>
                  <a:pt x="9327" y="11807"/>
                </a:cubicBezTo>
                <a:cubicBezTo>
                  <a:pt x="9272" y="11807"/>
                  <a:pt x="9309" y="11756"/>
                  <a:pt x="9327" y="11733"/>
                </a:cubicBezTo>
              </a:path>
              <a:path w="5954" h="1117">
                <a:moveTo>
                  <a:pt x="9773" y="11112"/>
                </a:moveTo>
                <a:cubicBezTo>
                  <a:pt x="9890" y="11112"/>
                  <a:pt x="10072" y="11145"/>
                  <a:pt x="10170" y="11088"/>
                </a:cubicBezTo>
              </a:path>
              <a:path w="5954" h="1117">
                <a:moveTo>
                  <a:pt x="9872" y="11212"/>
                </a:moveTo>
                <a:cubicBezTo>
                  <a:pt x="9885" y="11269"/>
                  <a:pt x="9851" y="11349"/>
                  <a:pt x="9897" y="11385"/>
                </a:cubicBezTo>
                <a:cubicBezTo>
                  <a:pt x="9905" y="11385"/>
                  <a:pt x="9914" y="11385"/>
                  <a:pt x="9922" y="11385"/>
                </a:cubicBezTo>
              </a:path>
              <a:path w="5954" h="1117">
                <a:moveTo>
                  <a:pt x="10071" y="11162"/>
                </a:moveTo>
                <a:cubicBezTo>
                  <a:pt x="10071" y="11261"/>
                  <a:pt x="10071" y="11361"/>
                  <a:pt x="10071" y="11460"/>
                </a:cubicBezTo>
              </a:path>
              <a:path w="5954" h="1117">
                <a:moveTo>
                  <a:pt x="10393" y="11088"/>
                </a:moveTo>
                <a:cubicBezTo>
                  <a:pt x="10369" y="11174"/>
                  <a:pt x="10355" y="11253"/>
                  <a:pt x="10319" y="11336"/>
                </a:cubicBezTo>
                <a:cubicBezTo>
                  <a:pt x="10271" y="11447"/>
                  <a:pt x="10212" y="11541"/>
                  <a:pt x="10170" y="11658"/>
                </a:cubicBezTo>
                <a:cubicBezTo>
                  <a:pt x="10147" y="11722"/>
                  <a:pt x="10111" y="11821"/>
                  <a:pt x="10096" y="11881"/>
                </a:cubicBezTo>
                <a:cubicBezTo>
                  <a:pt x="10085" y="11925"/>
                  <a:pt x="10071" y="12050"/>
                  <a:pt x="10071" y="12005"/>
                </a:cubicBezTo>
                <a:cubicBezTo>
                  <a:pt x="10071" y="11969"/>
                  <a:pt x="10096" y="11956"/>
                  <a:pt x="10120" y="11931"/>
                </a:cubicBezTo>
              </a:path>
              <a:path w="5954" h="1117">
                <a:moveTo>
                  <a:pt x="10393" y="11633"/>
                </a:moveTo>
                <a:cubicBezTo>
                  <a:pt x="10371" y="11694"/>
                  <a:pt x="10330" y="11777"/>
                  <a:pt x="10319" y="11832"/>
                </a:cubicBezTo>
                <a:cubicBezTo>
                  <a:pt x="10306" y="11897"/>
                  <a:pt x="10313" y="11965"/>
                  <a:pt x="10368" y="12005"/>
                </a:cubicBezTo>
                <a:cubicBezTo>
                  <a:pt x="10406" y="12032"/>
                  <a:pt x="10482" y="12010"/>
                  <a:pt x="10517" y="12005"/>
                </a:cubicBezTo>
                <a:cubicBezTo>
                  <a:pt x="10570" y="11997"/>
                  <a:pt x="10575" y="11998"/>
                  <a:pt x="10616" y="11956"/>
                </a:cubicBezTo>
                <a:cubicBezTo>
                  <a:pt x="10655" y="11917"/>
                  <a:pt x="10666" y="11885"/>
                  <a:pt x="10666" y="11832"/>
                </a:cubicBezTo>
                <a:cubicBezTo>
                  <a:pt x="10666" y="11807"/>
                  <a:pt x="10666" y="11799"/>
                  <a:pt x="10666" y="11782"/>
                </a:cubicBezTo>
                <a:cubicBezTo>
                  <a:pt x="10620" y="11782"/>
                  <a:pt x="10602" y="11776"/>
                  <a:pt x="10567" y="11807"/>
                </a:cubicBezTo>
                <a:cubicBezTo>
                  <a:pt x="10536" y="11835"/>
                  <a:pt x="10532" y="11872"/>
                  <a:pt x="10517" y="11906"/>
                </a:cubicBezTo>
                <a:cubicBezTo>
                  <a:pt x="10485" y="11980"/>
                  <a:pt x="10487" y="11976"/>
                  <a:pt x="10542" y="12030"/>
                </a:cubicBezTo>
              </a:path>
              <a:path w="5954" h="1117">
                <a:moveTo>
                  <a:pt x="11162" y="11460"/>
                </a:moveTo>
                <a:cubicBezTo>
                  <a:pt x="11201" y="11498"/>
                  <a:pt x="11218" y="11530"/>
                  <a:pt x="11212" y="11485"/>
                </a:cubicBezTo>
                <a:cubicBezTo>
                  <a:pt x="11196" y="11436"/>
                  <a:pt x="11175" y="11464"/>
                  <a:pt x="11137" y="11485"/>
                </a:cubicBezTo>
                <a:cubicBezTo>
                  <a:pt x="11082" y="11516"/>
                  <a:pt x="11025" y="11556"/>
                  <a:pt x="10988" y="11609"/>
                </a:cubicBezTo>
                <a:cubicBezTo>
                  <a:pt x="10955" y="11657"/>
                  <a:pt x="10907" y="11781"/>
                  <a:pt x="10914" y="11832"/>
                </a:cubicBezTo>
                <a:cubicBezTo>
                  <a:pt x="10920" y="11872"/>
                  <a:pt x="10933" y="11905"/>
                  <a:pt x="10964" y="11931"/>
                </a:cubicBezTo>
                <a:cubicBezTo>
                  <a:pt x="11004" y="11964"/>
                  <a:pt x="11084" y="11999"/>
                  <a:pt x="11137" y="11981"/>
                </a:cubicBezTo>
                <a:cubicBezTo>
                  <a:pt x="11201" y="11949"/>
                  <a:pt x="11232" y="11937"/>
                  <a:pt x="11286" y="11931"/>
                </a:cubicBezTo>
              </a:path>
              <a:path w="5954" h="1117">
                <a:moveTo>
                  <a:pt x="11410" y="11584"/>
                </a:moveTo>
                <a:cubicBezTo>
                  <a:pt x="11402" y="11618"/>
                  <a:pt x="11338" y="11783"/>
                  <a:pt x="11361" y="11832"/>
                </a:cubicBezTo>
                <a:cubicBezTo>
                  <a:pt x="11378" y="11868"/>
                  <a:pt x="11393" y="11901"/>
                  <a:pt x="11435" y="11906"/>
                </a:cubicBezTo>
                <a:cubicBezTo>
                  <a:pt x="11489" y="11912"/>
                  <a:pt x="11508" y="11894"/>
                  <a:pt x="11559" y="11881"/>
                </a:cubicBezTo>
                <a:cubicBezTo>
                  <a:pt x="11607" y="11869"/>
                  <a:pt x="11670" y="11813"/>
                  <a:pt x="11683" y="11757"/>
                </a:cubicBezTo>
                <a:cubicBezTo>
                  <a:pt x="11692" y="11717"/>
                  <a:pt x="11727" y="11628"/>
                  <a:pt x="11708" y="11584"/>
                </a:cubicBezTo>
                <a:cubicBezTo>
                  <a:pt x="11696" y="11556"/>
                  <a:pt x="11633" y="11517"/>
                  <a:pt x="11609" y="11509"/>
                </a:cubicBezTo>
                <a:cubicBezTo>
                  <a:pt x="11568" y="11495"/>
                  <a:pt x="11488" y="11560"/>
                  <a:pt x="11460" y="11584"/>
                </a:cubicBezTo>
                <a:cubicBezTo>
                  <a:pt x="11425" y="11614"/>
                  <a:pt x="11435" y="11641"/>
                  <a:pt x="11435" y="11683"/>
                </a:cubicBezTo>
              </a:path>
              <a:path w="5954" h="1117">
                <a:moveTo>
                  <a:pt x="11956" y="11485"/>
                </a:moveTo>
                <a:cubicBezTo>
                  <a:pt x="11930" y="11507"/>
                  <a:pt x="11856" y="11539"/>
                  <a:pt x="11881" y="11584"/>
                </a:cubicBezTo>
                <a:cubicBezTo>
                  <a:pt x="11902" y="11622"/>
                  <a:pt x="11923" y="11650"/>
                  <a:pt x="11956" y="11683"/>
                </a:cubicBezTo>
                <a:cubicBezTo>
                  <a:pt x="12011" y="11738"/>
                  <a:pt x="12015" y="11766"/>
                  <a:pt x="12055" y="11832"/>
                </a:cubicBezTo>
                <a:cubicBezTo>
                  <a:pt x="12063" y="11840"/>
                  <a:pt x="12072" y="11849"/>
                  <a:pt x="12080" y="11857"/>
                </a:cubicBezTo>
                <a:cubicBezTo>
                  <a:pt x="12042" y="11894"/>
                  <a:pt x="12033" y="11906"/>
                  <a:pt x="11981" y="11906"/>
                </a:cubicBezTo>
                <a:cubicBezTo>
                  <a:pt x="11938" y="11906"/>
                  <a:pt x="11862" y="11924"/>
                  <a:pt x="11857" y="11881"/>
                </a:cubicBezTo>
                <a:cubicBezTo>
                  <a:pt x="11857" y="11873"/>
                  <a:pt x="11857" y="11865"/>
                  <a:pt x="11857" y="11857"/>
                </a:cubicBezTo>
              </a:path>
              <a:path w="5954" h="1117">
                <a:moveTo>
                  <a:pt x="12204" y="11137"/>
                </a:moveTo>
                <a:cubicBezTo>
                  <a:pt x="12285" y="11115"/>
                  <a:pt x="12344" y="11112"/>
                  <a:pt x="12427" y="11112"/>
                </a:cubicBezTo>
                <a:cubicBezTo>
                  <a:pt x="12468" y="11112"/>
                  <a:pt x="12510" y="11112"/>
                  <a:pt x="12551" y="11112"/>
                </a:cubicBezTo>
              </a:path>
              <a:path w="5954" h="1117">
                <a:moveTo>
                  <a:pt x="12353" y="11162"/>
                </a:moveTo>
                <a:cubicBezTo>
                  <a:pt x="12347" y="11251"/>
                  <a:pt x="12328" y="11321"/>
                  <a:pt x="12328" y="11410"/>
                </a:cubicBezTo>
                <a:cubicBezTo>
                  <a:pt x="12328" y="11451"/>
                  <a:pt x="12328" y="11526"/>
                  <a:pt x="12328" y="11485"/>
                </a:cubicBezTo>
              </a:path>
              <a:path w="5954" h="1117">
                <a:moveTo>
                  <a:pt x="12477" y="11212"/>
                </a:moveTo>
                <a:cubicBezTo>
                  <a:pt x="12477" y="11307"/>
                  <a:pt x="12459" y="11354"/>
                  <a:pt x="12452" y="11435"/>
                </a:cubicBezTo>
                <a:cubicBezTo>
                  <a:pt x="12452" y="11443"/>
                  <a:pt x="12452" y="11452"/>
                  <a:pt x="12452" y="11460"/>
                </a:cubicBezTo>
              </a:path>
              <a:path w="5954" h="1117">
                <a:moveTo>
                  <a:pt x="12799" y="11212"/>
                </a:moveTo>
                <a:cubicBezTo>
                  <a:pt x="12750" y="11318"/>
                  <a:pt x="12712" y="11423"/>
                  <a:pt x="12675" y="11534"/>
                </a:cubicBezTo>
                <a:cubicBezTo>
                  <a:pt x="12647" y="11619"/>
                  <a:pt x="12607" y="11699"/>
                  <a:pt x="12576" y="11782"/>
                </a:cubicBezTo>
                <a:cubicBezTo>
                  <a:pt x="12552" y="11845"/>
                  <a:pt x="12542" y="11917"/>
                  <a:pt x="12526" y="11981"/>
                </a:cubicBezTo>
                <a:cubicBezTo>
                  <a:pt x="12510" y="12042"/>
                  <a:pt x="12540" y="12032"/>
                  <a:pt x="12576" y="12005"/>
                </a:cubicBezTo>
              </a:path>
              <a:path w="5954" h="1117">
                <a:moveTo>
                  <a:pt x="12774" y="11683"/>
                </a:moveTo>
                <a:cubicBezTo>
                  <a:pt x="12757" y="11724"/>
                  <a:pt x="12729" y="11767"/>
                  <a:pt x="12725" y="11807"/>
                </a:cubicBezTo>
                <a:cubicBezTo>
                  <a:pt x="12719" y="11863"/>
                  <a:pt x="12743" y="11887"/>
                  <a:pt x="12799" y="11906"/>
                </a:cubicBezTo>
                <a:cubicBezTo>
                  <a:pt x="12838" y="11919"/>
                  <a:pt x="12866" y="11889"/>
                  <a:pt x="12898" y="11881"/>
                </a:cubicBezTo>
              </a:path>
              <a:path w="5954" h="1117">
                <a:moveTo>
                  <a:pt x="12998" y="11584"/>
                </a:moveTo>
                <a:cubicBezTo>
                  <a:pt x="12986" y="11631"/>
                  <a:pt x="12955" y="11681"/>
                  <a:pt x="12948" y="11733"/>
                </a:cubicBezTo>
                <a:cubicBezTo>
                  <a:pt x="12937" y="11819"/>
                  <a:pt x="12912" y="11899"/>
                  <a:pt x="12898" y="11981"/>
                </a:cubicBezTo>
                <a:cubicBezTo>
                  <a:pt x="12892" y="12019"/>
                  <a:pt x="12891" y="12095"/>
                  <a:pt x="12874" y="12129"/>
                </a:cubicBezTo>
                <a:cubicBezTo>
                  <a:pt x="12861" y="12154"/>
                  <a:pt x="12849" y="12225"/>
                  <a:pt x="12849" y="12179"/>
                </a:cubicBezTo>
              </a:path>
              <a:path w="5954" h="1117">
                <a:moveTo>
                  <a:pt x="13271" y="11857"/>
                </a:moveTo>
                <a:cubicBezTo>
                  <a:pt x="13331" y="11857"/>
                  <a:pt x="13371" y="11871"/>
                  <a:pt x="13419" y="11881"/>
                </a:cubicBezTo>
                <a:cubicBezTo>
                  <a:pt x="13483" y="11894"/>
                  <a:pt x="13563" y="11895"/>
                  <a:pt x="13618" y="11906"/>
                </a:cubicBezTo>
                <a:cubicBezTo>
                  <a:pt x="13669" y="11916"/>
                  <a:pt x="13804" y="11918"/>
                  <a:pt x="13816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33960" y="4037040"/>
            <a:ext cx="1527120" cy="419040"/>
          </a:xfrm>
          <a:custGeom>
            <a:avLst/>
            <a:gdLst/>
            <a:ahLst/>
            <a:rect l="l" t="t" r="r" b="b"/>
            <a:pathLst>
              <a:path w="4242" h="1167">
                <a:moveTo>
                  <a:pt x="14461" y="11683"/>
                </a:moveTo>
                <a:cubicBezTo>
                  <a:pt x="14421" y="11623"/>
                  <a:pt x="14430" y="11633"/>
                  <a:pt x="14362" y="11633"/>
                </a:cubicBezTo>
                <a:cubicBezTo>
                  <a:pt x="14318" y="11633"/>
                  <a:pt x="14323" y="11631"/>
                  <a:pt x="14288" y="11658"/>
                </a:cubicBezTo>
                <a:cubicBezTo>
                  <a:pt x="14297" y="11687"/>
                  <a:pt x="14308" y="11701"/>
                  <a:pt x="14337" y="11733"/>
                </a:cubicBezTo>
                <a:cubicBezTo>
                  <a:pt x="14382" y="11782"/>
                  <a:pt x="14420" y="11831"/>
                  <a:pt x="14461" y="11881"/>
                </a:cubicBezTo>
                <a:cubicBezTo>
                  <a:pt x="14501" y="11929"/>
                  <a:pt x="14529" y="11971"/>
                  <a:pt x="14536" y="12030"/>
                </a:cubicBezTo>
                <a:cubicBezTo>
                  <a:pt x="14541" y="12072"/>
                  <a:pt x="14527" y="12091"/>
                  <a:pt x="14486" y="12105"/>
                </a:cubicBezTo>
                <a:cubicBezTo>
                  <a:pt x="14448" y="12118"/>
                  <a:pt x="14389" y="12098"/>
                  <a:pt x="14362" y="12080"/>
                </a:cubicBezTo>
                <a:cubicBezTo>
                  <a:pt x="14326" y="12056"/>
                  <a:pt x="14278" y="11993"/>
                  <a:pt x="14263" y="11956"/>
                </a:cubicBezTo>
                <a:cubicBezTo>
                  <a:pt x="14256" y="11939"/>
                  <a:pt x="14263" y="11900"/>
                  <a:pt x="14263" y="11881"/>
                </a:cubicBezTo>
              </a:path>
              <a:path w="4242" h="1167">
                <a:moveTo>
                  <a:pt x="14734" y="11757"/>
                </a:moveTo>
                <a:cubicBezTo>
                  <a:pt x="14728" y="11841"/>
                  <a:pt x="14709" y="11878"/>
                  <a:pt x="14709" y="11956"/>
                </a:cubicBezTo>
                <a:cubicBezTo>
                  <a:pt x="14709" y="11963"/>
                  <a:pt x="14709" y="12046"/>
                  <a:pt x="14709" y="11981"/>
                </a:cubicBezTo>
              </a:path>
              <a:path w="4242" h="1167">
                <a:moveTo>
                  <a:pt x="14709" y="11410"/>
                </a:moveTo>
                <a:cubicBezTo>
                  <a:pt x="14717" y="11410"/>
                  <a:pt x="14726" y="11410"/>
                  <a:pt x="14734" y="11410"/>
                </a:cubicBezTo>
              </a:path>
              <a:path w="4242" h="1167">
                <a:moveTo>
                  <a:pt x="14908" y="11881"/>
                </a:moveTo>
                <a:cubicBezTo>
                  <a:pt x="14908" y="11939"/>
                  <a:pt x="14907" y="12082"/>
                  <a:pt x="14932" y="12030"/>
                </a:cubicBezTo>
                <a:cubicBezTo>
                  <a:pt x="14948" y="11997"/>
                  <a:pt x="14975" y="11939"/>
                  <a:pt x="14982" y="11906"/>
                </a:cubicBezTo>
                <a:cubicBezTo>
                  <a:pt x="14997" y="11830"/>
                  <a:pt x="15008" y="11772"/>
                  <a:pt x="15056" y="11708"/>
                </a:cubicBezTo>
                <a:cubicBezTo>
                  <a:pt x="15078" y="11678"/>
                  <a:pt x="15138" y="11616"/>
                  <a:pt x="15180" y="11633"/>
                </a:cubicBezTo>
                <a:cubicBezTo>
                  <a:pt x="15230" y="11653"/>
                  <a:pt x="15271" y="11738"/>
                  <a:pt x="15280" y="11782"/>
                </a:cubicBezTo>
                <a:cubicBezTo>
                  <a:pt x="15293" y="11844"/>
                  <a:pt x="15294" y="11928"/>
                  <a:pt x="15304" y="11981"/>
                </a:cubicBezTo>
                <a:cubicBezTo>
                  <a:pt x="15315" y="12044"/>
                  <a:pt x="15297" y="12058"/>
                  <a:pt x="15354" y="12030"/>
                </a:cubicBezTo>
              </a:path>
              <a:path w="4242" h="1167">
                <a:moveTo>
                  <a:pt x="15503" y="11311"/>
                </a:moveTo>
                <a:cubicBezTo>
                  <a:pt x="15632" y="11341"/>
                  <a:pt x="15646" y="11328"/>
                  <a:pt x="15776" y="11311"/>
                </a:cubicBezTo>
                <a:cubicBezTo>
                  <a:pt x="15820" y="11311"/>
                  <a:pt x="15834" y="11314"/>
                  <a:pt x="15850" y="11286"/>
                </a:cubicBezTo>
              </a:path>
              <a:path w="4242" h="1167">
                <a:moveTo>
                  <a:pt x="15602" y="11410"/>
                </a:moveTo>
                <a:cubicBezTo>
                  <a:pt x="15587" y="11491"/>
                  <a:pt x="15577" y="11535"/>
                  <a:pt x="15577" y="11609"/>
                </a:cubicBezTo>
                <a:cubicBezTo>
                  <a:pt x="15577" y="11617"/>
                  <a:pt x="15577" y="11625"/>
                  <a:pt x="15577" y="11633"/>
                </a:cubicBezTo>
              </a:path>
              <a:path w="4242" h="1167">
                <a:moveTo>
                  <a:pt x="15726" y="11361"/>
                </a:moveTo>
                <a:cubicBezTo>
                  <a:pt x="15726" y="11452"/>
                  <a:pt x="15726" y="11542"/>
                  <a:pt x="15726" y="11633"/>
                </a:cubicBezTo>
              </a:path>
              <a:path w="4242" h="1167">
                <a:moveTo>
                  <a:pt x="16049" y="11237"/>
                </a:moveTo>
                <a:cubicBezTo>
                  <a:pt x="16021" y="11385"/>
                  <a:pt x="15975" y="11474"/>
                  <a:pt x="15925" y="11609"/>
                </a:cubicBezTo>
                <a:cubicBezTo>
                  <a:pt x="15890" y="11703"/>
                  <a:pt x="15864" y="11793"/>
                  <a:pt x="15825" y="11881"/>
                </a:cubicBezTo>
                <a:cubicBezTo>
                  <a:pt x="15797" y="11943"/>
                  <a:pt x="15758" y="12018"/>
                  <a:pt x="15751" y="12080"/>
                </a:cubicBezTo>
                <a:cubicBezTo>
                  <a:pt x="15745" y="12134"/>
                  <a:pt x="15753" y="12135"/>
                  <a:pt x="15776" y="12105"/>
                </a:cubicBezTo>
                <a:cubicBezTo>
                  <a:pt x="15784" y="12097"/>
                  <a:pt x="15793" y="12088"/>
                  <a:pt x="15801" y="12080"/>
                </a:cubicBezTo>
              </a:path>
              <a:path w="4242" h="1167">
                <a:moveTo>
                  <a:pt x="15999" y="11832"/>
                </a:moveTo>
                <a:cubicBezTo>
                  <a:pt x="15988" y="11871"/>
                  <a:pt x="15904" y="12036"/>
                  <a:pt x="15925" y="12080"/>
                </a:cubicBezTo>
                <a:cubicBezTo>
                  <a:pt x="15936" y="12103"/>
                  <a:pt x="16017" y="12129"/>
                  <a:pt x="16049" y="12129"/>
                </a:cubicBezTo>
                <a:cubicBezTo>
                  <a:pt x="16131" y="12129"/>
                  <a:pt x="16144" y="12094"/>
                  <a:pt x="16197" y="12055"/>
                </a:cubicBezTo>
                <a:cubicBezTo>
                  <a:pt x="16256" y="12011"/>
                  <a:pt x="16276" y="12000"/>
                  <a:pt x="16297" y="11931"/>
                </a:cubicBezTo>
                <a:cubicBezTo>
                  <a:pt x="16297" y="11923"/>
                  <a:pt x="16297" y="11914"/>
                  <a:pt x="16297" y="11906"/>
                </a:cubicBezTo>
                <a:cubicBezTo>
                  <a:pt x="16255" y="11875"/>
                  <a:pt x="16214" y="11883"/>
                  <a:pt x="16173" y="11931"/>
                </a:cubicBezTo>
                <a:cubicBezTo>
                  <a:pt x="16148" y="11960"/>
                  <a:pt x="16089" y="12044"/>
                  <a:pt x="16073" y="12080"/>
                </a:cubicBezTo>
                <a:cubicBezTo>
                  <a:pt x="16062" y="12104"/>
                  <a:pt x="16069" y="12170"/>
                  <a:pt x="16098" y="12179"/>
                </a:cubicBezTo>
                <a:cubicBezTo>
                  <a:pt x="16115" y="12179"/>
                  <a:pt x="16131" y="12179"/>
                  <a:pt x="16148" y="12179"/>
                </a:cubicBezTo>
              </a:path>
              <a:path w="4242" h="1167">
                <a:moveTo>
                  <a:pt x="16718" y="11584"/>
                </a:moveTo>
                <a:cubicBezTo>
                  <a:pt x="16668" y="11584"/>
                  <a:pt x="16660" y="11595"/>
                  <a:pt x="16619" y="11609"/>
                </a:cubicBezTo>
                <a:cubicBezTo>
                  <a:pt x="16596" y="11617"/>
                  <a:pt x="16526" y="11640"/>
                  <a:pt x="16545" y="11683"/>
                </a:cubicBezTo>
                <a:cubicBezTo>
                  <a:pt x="16567" y="11732"/>
                  <a:pt x="16589" y="11760"/>
                  <a:pt x="16619" y="11807"/>
                </a:cubicBezTo>
                <a:cubicBezTo>
                  <a:pt x="16676" y="11896"/>
                  <a:pt x="16710" y="11931"/>
                  <a:pt x="16694" y="12030"/>
                </a:cubicBezTo>
                <a:cubicBezTo>
                  <a:pt x="16690" y="12053"/>
                  <a:pt x="16650" y="12103"/>
                  <a:pt x="16644" y="12105"/>
                </a:cubicBezTo>
                <a:cubicBezTo>
                  <a:pt x="16604" y="12116"/>
                  <a:pt x="16548" y="12099"/>
                  <a:pt x="16520" y="12080"/>
                </a:cubicBezTo>
                <a:cubicBezTo>
                  <a:pt x="16478" y="12052"/>
                  <a:pt x="16470" y="12027"/>
                  <a:pt x="16470" y="11981"/>
                </a:cubicBezTo>
              </a:path>
              <a:path w="4242" h="1167">
                <a:moveTo>
                  <a:pt x="16966" y="11708"/>
                </a:moveTo>
                <a:cubicBezTo>
                  <a:pt x="16945" y="11799"/>
                  <a:pt x="16899" y="11891"/>
                  <a:pt x="16892" y="11981"/>
                </a:cubicBezTo>
                <a:cubicBezTo>
                  <a:pt x="16889" y="12025"/>
                  <a:pt x="16882" y="12043"/>
                  <a:pt x="16917" y="12055"/>
                </a:cubicBezTo>
              </a:path>
              <a:path w="4242" h="1167">
                <a:moveTo>
                  <a:pt x="17016" y="11460"/>
                </a:moveTo>
                <a:cubicBezTo>
                  <a:pt x="17041" y="11460"/>
                  <a:pt x="17049" y="11460"/>
                  <a:pt x="17066" y="11460"/>
                </a:cubicBezTo>
              </a:path>
              <a:path w="4242" h="1167">
                <a:moveTo>
                  <a:pt x="17090" y="11956"/>
                </a:moveTo>
                <a:cubicBezTo>
                  <a:pt x="17072" y="12030"/>
                  <a:pt x="17064" y="12037"/>
                  <a:pt x="17066" y="12080"/>
                </a:cubicBezTo>
                <a:cubicBezTo>
                  <a:pt x="17096" y="12041"/>
                  <a:pt x="17153" y="11981"/>
                  <a:pt x="17165" y="11931"/>
                </a:cubicBezTo>
                <a:cubicBezTo>
                  <a:pt x="17181" y="11864"/>
                  <a:pt x="17195" y="11815"/>
                  <a:pt x="17239" y="11757"/>
                </a:cubicBezTo>
                <a:cubicBezTo>
                  <a:pt x="17276" y="11708"/>
                  <a:pt x="17306" y="11688"/>
                  <a:pt x="17363" y="11683"/>
                </a:cubicBezTo>
                <a:cubicBezTo>
                  <a:pt x="17432" y="11677"/>
                  <a:pt x="17454" y="11805"/>
                  <a:pt x="17462" y="11857"/>
                </a:cubicBezTo>
                <a:cubicBezTo>
                  <a:pt x="17475" y="11938"/>
                  <a:pt x="17438" y="12021"/>
                  <a:pt x="17438" y="12105"/>
                </a:cubicBezTo>
                <a:cubicBezTo>
                  <a:pt x="17438" y="12137"/>
                  <a:pt x="17454" y="12190"/>
                  <a:pt x="17462" y="12129"/>
                </a:cubicBezTo>
                <a:cubicBezTo>
                  <a:pt x="17462" y="12121"/>
                  <a:pt x="17462" y="12113"/>
                  <a:pt x="17462" y="12105"/>
                </a:cubicBezTo>
              </a:path>
              <a:path w="4242" h="1167">
                <a:moveTo>
                  <a:pt x="17711" y="11237"/>
                </a:moveTo>
                <a:cubicBezTo>
                  <a:pt x="17780" y="11214"/>
                  <a:pt x="17835" y="11212"/>
                  <a:pt x="17909" y="11212"/>
                </a:cubicBezTo>
                <a:cubicBezTo>
                  <a:pt x="17934" y="11212"/>
                  <a:pt x="17942" y="11212"/>
                  <a:pt x="17959" y="11212"/>
                </a:cubicBezTo>
              </a:path>
              <a:path w="4242" h="1167">
                <a:moveTo>
                  <a:pt x="17661" y="11460"/>
                </a:moveTo>
                <a:cubicBezTo>
                  <a:pt x="17649" y="11509"/>
                  <a:pt x="17636" y="11610"/>
                  <a:pt x="17636" y="11559"/>
                </a:cubicBezTo>
              </a:path>
              <a:path w="4242" h="1167">
                <a:moveTo>
                  <a:pt x="17835" y="11237"/>
                </a:moveTo>
                <a:cubicBezTo>
                  <a:pt x="17856" y="11317"/>
                  <a:pt x="17859" y="11377"/>
                  <a:pt x="17859" y="11460"/>
                </a:cubicBezTo>
                <a:cubicBezTo>
                  <a:pt x="17859" y="11518"/>
                  <a:pt x="17859" y="11575"/>
                  <a:pt x="17859" y="11633"/>
                </a:cubicBezTo>
              </a:path>
              <a:path w="4242" h="1167">
                <a:moveTo>
                  <a:pt x="18331" y="11261"/>
                </a:moveTo>
                <a:cubicBezTo>
                  <a:pt x="18267" y="11397"/>
                  <a:pt x="18201" y="11524"/>
                  <a:pt x="18132" y="11658"/>
                </a:cubicBezTo>
                <a:cubicBezTo>
                  <a:pt x="18082" y="11755"/>
                  <a:pt x="18051" y="11856"/>
                  <a:pt x="18008" y="11956"/>
                </a:cubicBezTo>
                <a:cubicBezTo>
                  <a:pt x="17987" y="12004"/>
                  <a:pt x="17937" y="12057"/>
                  <a:pt x="17934" y="12105"/>
                </a:cubicBezTo>
                <a:cubicBezTo>
                  <a:pt x="17930" y="12159"/>
                  <a:pt x="17922" y="12167"/>
                  <a:pt x="17959" y="12179"/>
                </a:cubicBezTo>
              </a:path>
              <a:path w="4242" h="1167">
                <a:moveTo>
                  <a:pt x="18256" y="11857"/>
                </a:moveTo>
                <a:cubicBezTo>
                  <a:pt x="18204" y="11918"/>
                  <a:pt x="18207" y="11910"/>
                  <a:pt x="18207" y="11981"/>
                </a:cubicBezTo>
                <a:cubicBezTo>
                  <a:pt x="18207" y="12015"/>
                  <a:pt x="18251" y="12049"/>
                  <a:pt x="18281" y="12055"/>
                </a:cubicBezTo>
                <a:cubicBezTo>
                  <a:pt x="18340" y="12068"/>
                  <a:pt x="18384" y="12038"/>
                  <a:pt x="18430" y="12005"/>
                </a:cubicBezTo>
                <a:cubicBezTo>
                  <a:pt x="18438" y="11997"/>
                  <a:pt x="18447" y="11989"/>
                  <a:pt x="18455" y="11981"/>
                </a:cubicBezTo>
              </a:path>
              <a:path w="4242" h="1167">
                <a:moveTo>
                  <a:pt x="18504" y="11807"/>
                </a:moveTo>
                <a:cubicBezTo>
                  <a:pt x="18455" y="11940"/>
                  <a:pt x="18369" y="12112"/>
                  <a:pt x="18355" y="12254"/>
                </a:cubicBezTo>
                <a:cubicBezTo>
                  <a:pt x="18351" y="12294"/>
                  <a:pt x="18355" y="12338"/>
                  <a:pt x="18355" y="12378"/>
                </a:cubicBezTo>
              </a:path>
              <a:path w="4242" h="1167">
                <a:moveTo>
                  <a:pt x="17686" y="11212"/>
                </a:moveTo>
                <a:cubicBezTo>
                  <a:pt x="17658" y="11249"/>
                  <a:pt x="17644" y="11313"/>
                  <a:pt x="17636" y="11361"/>
                </a:cubicBezTo>
                <a:cubicBezTo>
                  <a:pt x="17626" y="11419"/>
                  <a:pt x="17621" y="11478"/>
                  <a:pt x="17611" y="11534"/>
                </a:cubicBezTo>
                <a:cubicBezTo>
                  <a:pt x="17606" y="11563"/>
                  <a:pt x="17611" y="11603"/>
                  <a:pt x="17611" y="116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60800" y="4357800"/>
            <a:ext cx="4492440" cy="1170000"/>
          </a:xfrm>
          <a:custGeom>
            <a:avLst/>
            <a:gdLst/>
            <a:ahLst/>
            <a:rect l="l" t="t" r="r" b="b"/>
            <a:pathLst>
              <a:path w="12478" h="3250">
                <a:moveTo>
                  <a:pt x="8880" y="12402"/>
                </a:moveTo>
                <a:cubicBezTo>
                  <a:pt x="8906" y="12472"/>
                  <a:pt x="8905" y="12525"/>
                  <a:pt x="8905" y="12601"/>
                </a:cubicBezTo>
                <a:cubicBezTo>
                  <a:pt x="8905" y="12655"/>
                  <a:pt x="8885" y="12680"/>
                  <a:pt x="8880" y="12725"/>
                </a:cubicBezTo>
                <a:cubicBezTo>
                  <a:pt x="8873" y="12790"/>
                  <a:pt x="8880" y="12688"/>
                  <a:pt x="8880" y="12675"/>
                </a:cubicBezTo>
                <a:cubicBezTo>
                  <a:pt x="8880" y="12584"/>
                  <a:pt x="8884" y="12512"/>
                  <a:pt x="8905" y="12427"/>
                </a:cubicBezTo>
                <a:cubicBezTo>
                  <a:pt x="8919" y="12370"/>
                  <a:pt x="8888" y="12326"/>
                  <a:pt x="8930" y="12278"/>
                </a:cubicBezTo>
                <a:cubicBezTo>
                  <a:pt x="8978" y="12224"/>
                  <a:pt x="8994" y="12249"/>
                  <a:pt x="9054" y="12229"/>
                </a:cubicBezTo>
                <a:cubicBezTo>
                  <a:pt x="9143" y="12199"/>
                  <a:pt x="9143" y="12214"/>
                  <a:pt x="9227" y="12229"/>
                </a:cubicBezTo>
                <a:cubicBezTo>
                  <a:pt x="9256" y="12234"/>
                  <a:pt x="9296" y="12229"/>
                  <a:pt x="9327" y="12229"/>
                </a:cubicBezTo>
              </a:path>
              <a:path w="12478" h="3250">
                <a:moveTo>
                  <a:pt x="9079" y="12452"/>
                </a:moveTo>
                <a:cubicBezTo>
                  <a:pt x="9103" y="12446"/>
                  <a:pt x="9157" y="12439"/>
                  <a:pt x="9178" y="12427"/>
                </a:cubicBezTo>
                <a:cubicBezTo>
                  <a:pt x="9220" y="12404"/>
                  <a:pt x="9260" y="12398"/>
                  <a:pt x="9302" y="12452"/>
                </a:cubicBezTo>
                <a:cubicBezTo>
                  <a:pt x="9322" y="12478"/>
                  <a:pt x="9288" y="12559"/>
                  <a:pt x="9277" y="12576"/>
                </a:cubicBezTo>
                <a:cubicBezTo>
                  <a:pt x="9249" y="12618"/>
                  <a:pt x="9224" y="12626"/>
                  <a:pt x="9178" y="12626"/>
                </a:cubicBezTo>
                <a:cubicBezTo>
                  <a:pt x="9111" y="12626"/>
                  <a:pt x="9215" y="12626"/>
                  <a:pt x="9227" y="12626"/>
                </a:cubicBezTo>
                <a:cubicBezTo>
                  <a:pt x="9270" y="12626"/>
                  <a:pt x="9298" y="12670"/>
                  <a:pt x="9327" y="12700"/>
                </a:cubicBezTo>
                <a:cubicBezTo>
                  <a:pt x="9366" y="12739"/>
                  <a:pt x="9376" y="12771"/>
                  <a:pt x="9376" y="12824"/>
                </a:cubicBezTo>
                <a:cubicBezTo>
                  <a:pt x="9376" y="12856"/>
                  <a:pt x="9368" y="12889"/>
                  <a:pt x="9351" y="12898"/>
                </a:cubicBezTo>
                <a:cubicBezTo>
                  <a:pt x="9322" y="12912"/>
                  <a:pt x="9237" y="12898"/>
                  <a:pt x="9203" y="12898"/>
                </a:cubicBezTo>
              </a:path>
              <a:path w="12478" h="3250">
                <a:moveTo>
                  <a:pt x="8781" y="12923"/>
                </a:moveTo>
                <a:cubicBezTo>
                  <a:pt x="8889" y="12943"/>
                  <a:pt x="8970" y="12948"/>
                  <a:pt x="9079" y="12948"/>
                </a:cubicBezTo>
                <a:cubicBezTo>
                  <a:pt x="9202" y="12948"/>
                  <a:pt x="9306" y="12942"/>
                  <a:pt x="9426" y="12923"/>
                </a:cubicBezTo>
                <a:cubicBezTo>
                  <a:pt x="9434" y="12923"/>
                  <a:pt x="9443" y="12923"/>
                  <a:pt x="9451" y="12923"/>
                </a:cubicBezTo>
              </a:path>
              <a:path w="12478" h="3250">
                <a:moveTo>
                  <a:pt x="9054" y="13271"/>
                </a:moveTo>
                <a:cubicBezTo>
                  <a:pt x="9091" y="13249"/>
                  <a:pt x="9135" y="13226"/>
                  <a:pt x="9178" y="13221"/>
                </a:cubicBezTo>
                <a:cubicBezTo>
                  <a:pt x="9225" y="13216"/>
                  <a:pt x="9249" y="13189"/>
                  <a:pt x="9302" y="13221"/>
                </a:cubicBezTo>
                <a:cubicBezTo>
                  <a:pt x="9326" y="13235"/>
                  <a:pt x="9342" y="13293"/>
                  <a:pt x="9327" y="13320"/>
                </a:cubicBezTo>
                <a:cubicBezTo>
                  <a:pt x="9306" y="13358"/>
                  <a:pt x="9286" y="13385"/>
                  <a:pt x="9252" y="13419"/>
                </a:cubicBezTo>
                <a:cubicBezTo>
                  <a:pt x="9217" y="13454"/>
                  <a:pt x="9196" y="13495"/>
                  <a:pt x="9178" y="13519"/>
                </a:cubicBezTo>
                <a:cubicBezTo>
                  <a:pt x="9157" y="13546"/>
                  <a:pt x="9127" y="13593"/>
                  <a:pt x="9178" y="13618"/>
                </a:cubicBezTo>
                <a:cubicBezTo>
                  <a:pt x="9210" y="13634"/>
                  <a:pt x="9262" y="13657"/>
                  <a:pt x="9302" y="13667"/>
                </a:cubicBezTo>
                <a:cubicBezTo>
                  <a:pt x="9349" y="13678"/>
                  <a:pt x="9412" y="13669"/>
                  <a:pt x="9451" y="13643"/>
                </a:cubicBezTo>
                <a:cubicBezTo>
                  <a:pt x="9488" y="13605"/>
                  <a:pt x="9506" y="13581"/>
                  <a:pt x="9525" y="13543"/>
                </a:cubicBezTo>
              </a:path>
              <a:path w="12478" h="3250">
                <a:moveTo>
                  <a:pt x="9773" y="12898"/>
                </a:moveTo>
                <a:cubicBezTo>
                  <a:pt x="9801" y="12898"/>
                  <a:pt x="9812" y="12896"/>
                  <a:pt x="9823" y="12874"/>
                </a:cubicBezTo>
              </a:path>
              <a:path w="12478" h="3250">
                <a:moveTo>
                  <a:pt x="10195" y="12725"/>
                </a:moveTo>
                <a:cubicBezTo>
                  <a:pt x="10208" y="12780"/>
                  <a:pt x="10220" y="12901"/>
                  <a:pt x="10220" y="12799"/>
                </a:cubicBezTo>
                <a:cubicBezTo>
                  <a:pt x="10220" y="12695"/>
                  <a:pt x="10225" y="12593"/>
                  <a:pt x="10244" y="12502"/>
                </a:cubicBezTo>
                <a:cubicBezTo>
                  <a:pt x="10256" y="12442"/>
                  <a:pt x="10279" y="12398"/>
                  <a:pt x="10319" y="12353"/>
                </a:cubicBezTo>
                <a:cubicBezTo>
                  <a:pt x="10341" y="12328"/>
                  <a:pt x="10386" y="12305"/>
                  <a:pt x="10418" y="12303"/>
                </a:cubicBezTo>
                <a:cubicBezTo>
                  <a:pt x="10467" y="12299"/>
                  <a:pt x="10518" y="12303"/>
                  <a:pt x="10567" y="12303"/>
                </a:cubicBezTo>
              </a:path>
              <a:path w="12478" h="3250">
                <a:moveTo>
                  <a:pt x="10393" y="12576"/>
                </a:moveTo>
                <a:cubicBezTo>
                  <a:pt x="10445" y="12598"/>
                  <a:pt x="10463" y="12601"/>
                  <a:pt x="10517" y="12601"/>
                </a:cubicBezTo>
                <a:cubicBezTo>
                  <a:pt x="10555" y="12601"/>
                  <a:pt x="10620" y="12585"/>
                  <a:pt x="10641" y="12626"/>
                </a:cubicBezTo>
                <a:cubicBezTo>
                  <a:pt x="10662" y="12667"/>
                  <a:pt x="10616" y="12701"/>
                  <a:pt x="10592" y="12725"/>
                </a:cubicBezTo>
                <a:cubicBezTo>
                  <a:pt x="10559" y="12759"/>
                  <a:pt x="10539" y="12792"/>
                  <a:pt x="10517" y="12824"/>
                </a:cubicBezTo>
                <a:cubicBezTo>
                  <a:pt x="10509" y="12832"/>
                  <a:pt x="10500" y="12841"/>
                  <a:pt x="10492" y="12849"/>
                </a:cubicBezTo>
                <a:cubicBezTo>
                  <a:pt x="10525" y="12860"/>
                  <a:pt x="10525" y="12859"/>
                  <a:pt x="10567" y="12874"/>
                </a:cubicBezTo>
                <a:cubicBezTo>
                  <a:pt x="10626" y="12894"/>
                  <a:pt x="10652" y="12898"/>
                  <a:pt x="10716" y="12898"/>
                </a:cubicBezTo>
                <a:cubicBezTo>
                  <a:pt x="10732" y="12898"/>
                  <a:pt x="10749" y="12898"/>
                  <a:pt x="10765" y="12898"/>
                </a:cubicBezTo>
              </a:path>
              <a:path w="12478" h="3250">
                <a:moveTo>
                  <a:pt x="10319" y="13047"/>
                </a:moveTo>
                <a:cubicBezTo>
                  <a:pt x="10422" y="13053"/>
                  <a:pt x="10513" y="13072"/>
                  <a:pt x="10616" y="13072"/>
                </a:cubicBezTo>
                <a:cubicBezTo>
                  <a:pt x="10670" y="13072"/>
                  <a:pt x="10695" y="13059"/>
                  <a:pt x="10740" y="13047"/>
                </a:cubicBezTo>
              </a:path>
              <a:path w="12478" h="3250">
                <a:moveTo>
                  <a:pt x="10418" y="13370"/>
                </a:moveTo>
                <a:cubicBezTo>
                  <a:pt x="10478" y="13370"/>
                  <a:pt x="10492" y="13351"/>
                  <a:pt x="10542" y="13345"/>
                </a:cubicBezTo>
                <a:cubicBezTo>
                  <a:pt x="10598" y="13339"/>
                  <a:pt x="10622" y="13355"/>
                  <a:pt x="10666" y="13370"/>
                </a:cubicBezTo>
                <a:cubicBezTo>
                  <a:pt x="10688" y="13377"/>
                  <a:pt x="10711" y="13408"/>
                  <a:pt x="10691" y="13444"/>
                </a:cubicBezTo>
                <a:cubicBezTo>
                  <a:pt x="10658" y="13503"/>
                  <a:pt x="10608" y="13565"/>
                  <a:pt x="10567" y="13618"/>
                </a:cubicBezTo>
                <a:cubicBezTo>
                  <a:pt x="10533" y="13662"/>
                  <a:pt x="10494" y="13708"/>
                  <a:pt x="10468" y="13742"/>
                </a:cubicBezTo>
                <a:cubicBezTo>
                  <a:pt x="10439" y="13780"/>
                  <a:pt x="10398" y="13793"/>
                  <a:pt x="10393" y="13841"/>
                </a:cubicBezTo>
                <a:cubicBezTo>
                  <a:pt x="10386" y="13908"/>
                  <a:pt x="10437" y="13874"/>
                  <a:pt x="10468" y="13891"/>
                </a:cubicBezTo>
                <a:cubicBezTo>
                  <a:pt x="10523" y="13921"/>
                  <a:pt x="10557" y="13898"/>
                  <a:pt x="10616" y="13915"/>
                </a:cubicBezTo>
                <a:cubicBezTo>
                  <a:pt x="10661" y="13928"/>
                  <a:pt x="10738" y="13962"/>
                  <a:pt x="10790" y="13940"/>
                </a:cubicBezTo>
                <a:cubicBezTo>
                  <a:pt x="10828" y="13902"/>
                  <a:pt x="10851" y="13884"/>
                  <a:pt x="10889" y="13866"/>
                </a:cubicBezTo>
              </a:path>
              <a:path w="12478" h="3250">
                <a:moveTo>
                  <a:pt x="11187" y="13171"/>
                </a:moveTo>
                <a:cubicBezTo>
                  <a:pt x="11286" y="13171"/>
                  <a:pt x="11386" y="13171"/>
                  <a:pt x="11485" y="13171"/>
                </a:cubicBezTo>
              </a:path>
              <a:path w="12478" h="3250">
                <a:moveTo>
                  <a:pt x="12303" y="12576"/>
                </a:moveTo>
                <a:cubicBezTo>
                  <a:pt x="12278" y="12666"/>
                  <a:pt x="12260" y="12755"/>
                  <a:pt x="12254" y="12849"/>
                </a:cubicBezTo>
                <a:cubicBezTo>
                  <a:pt x="12251" y="12903"/>
                  <a:pt x="12249" y="12932"/>
                  <a:pt x="12278" y="12973"/>
                </a:cubicBezTo>
              </a:path>
              <a:path w="12478" h="3250">
                <a:moveTo>
                  <a:pt x="12005" y="13072"/>
                </a:moveTo>
                <a:cubicBezTo>
                  <a:pt x="12171" y="13072"/>
                  <a:pt x="12336" y="13072"/>
                  <a:pt x="12502" y="13072"/>
                </a:cubicBezTo>
              </a:path>
              <a:path w="12478" h="3250">
                <a:moveTo>
                  <a:pt x="12278" y="13345"/>
                </a:moveTo>
                <a:cubicBezTo>
                  <a:pt x="12334" y="13345"/>
                  <a:pt x="12312" y="13325"/>
                  <a:pt x="12353" y="13320"/>
                </a:cubicBezTo>
                <a:cubicBezTo>
                  <a:pt x="12410" y="13313"/>
                  <a:pt x="12477" y="13312"/>
                  <a:pt x="12526" y="13345"/>
                </a:cubicBezTo>
                <a:cubicBezTo>
                  <a:pt x="12557" y="13366"/>
                  <a:pt x="12564" y="13433"/>
                  <a:pt x="12551" y="13469"/>
                </a:cubicBezTo>
                <a:cubicBezTo>
                  <a:pt x="12529" y="13531"/>
                  <a:pt x="12487" y="13589"/>
                  <a:pt x="12452" y="13643"/>
                </a:cubicBezTo>
                <a:cubicBezTo>
                  <a:pt x="12405" y="13716"/>
                  <a:pt x="12348" y="13733"/>
                  <a:pt x="12303" y="13791"/>
                </a:cubicBezTo>
                <a:cubicBezTo>
                  <a:pt x="12278" y="13822"/>
                  <a:pt x="12254" y="13870"/>
                  <a:pt x="12254" y="13915"/>
                </a:cubicBezTo>
                <a:cubicBezTo>
                  <a:pt x="12330" y="13915"/>
                  <a:pt x="12389" y="13927"/>
                  <a:pt x="12452" y="13940"/>
                </a:cubicBezTo>
                <a:cubicBezTo>
                  <a:pt x="12538" y="13958"/>
                  <a:pt x="12677" y="13939"/>
                  <a:pt x="12725" y="13915"/>
                </a:cubicBezTo>
                <a:cubicBezTo>
                  <a:pt x="12753" y="13915"/>
                  <a:pt x="12763" y="13913"/>
                  <a:pt x="12774" y="13891"/>
                </a:cubicBezTo>
              </a:path>
              <a:path w="12478" h="3250">
                <a:moveTo>
                  <a:pt x="12998" y="13271"/>
                </a:moveTo>
                <a:cubicBezTo>
                  <a:pt x="13006" y="13271"/>
                  <a:pt x="13014" y="13271"/>
                  <a:pt x="13022" y="13271"/>
                </a:cubicBezTo>
              </a:path>
              <a:path w="12478" h="3250">
                <a:moveTo>
                  <a:pt x="13246" y="12898"/>
                </a:moveTo>
                <a:cubicBezTo>
                  <a:pt x="13246" y="12972"/>
                  <a:pt x="13229" y="13041"/>
                  <a:pt x="13271" y="13097"/>
                </a:cubicBezTo>
                <a:cubicBezTo>
                  <a:pt x="13271" y="12970"/>
                  <a:pt x="13262" y="12838"/>
                  <a:pt x="13295" y="12725"/>
                </a:cubicBezTo>
                <a:cubicBezTo>
                  <a:pt x="13308" y="12680"/>
                  <a:pt x="13318" y="12669"/>
                  <a:pt x="13345" y="12650"/>
                </a:cubicBezTo>
                <a:cubicBezTo>
                  <a:pt x="13410" y="12603"/>
                  <a:pt x="13432" y="12601"/>
                  <a:pt x="13519" y="12601"/>
                </a:cubicBezTo>
                <a:cubicBezTo>
                  <a:pt x="13597" y="12601"/>
                  <a:pt x="13653" y="12597"/>
                  <a:pt x="13717" y="12576"/>
                </a:cubicBezTo>
                <a:cubicBezTo>
                  <a:pt x="13725" y="12576"/>
                  <a:pt x="13734" y="12576"/>
                  <a:pt x="13742" y="12576"/>
                </a:cubicBezTo>
              </a:path>
              <a:path w="12478" h="3250">
                <a:moveTo>
                  <a:pt x="13444" y="12824"/>
                </a:moveTo>
                <a:cubicBezTo>
                  <a:pt x="13518" y="12824"/>
                  <a:pt x="13593" y="12824"/>
                  <a:pt x="13667" y="12824"/>
                </a:cubicBezTo>
                <a:cubicBezTo>
                  <a:pt x="13656" y="12872"/>
                  <a:pt x="13619" y="12905"/>
                  <a:pt x="13593" y="12948"/>
                </a:cubicBezTo>
                <a:cubicBezTo>
                  <a:pt x="13560" y="13003"/>
                  <a:pt x="13496" y="13022"/>
                  <a:pt x="13469" y="13072"/>
                </a:cubicBezTo>
                <a:cubicBezTo>
                  <a:pt x="13462" y="13086"/>
                  <a:pt x="13469" y="13130"/>
                  <a:pt x="13469" y="13146"/>
                </a:cubicBezTo>
                <a:cubicBezTo>
                  <a:pt x="13581" y="13146"/>
                  <a:pt x="13685" y="13146"/>
                  <a:pt x="13791" y="13122"/>
                </a:cubicBezTo>
                <a:cubicBezTo>
                  <a:pt x="13816" y="13122"/>
                  <a:pt x="13824" y="13122"/>
                  <a:pt x="13816" y="13097"/>
                </a:cubicBezTo>
              </a:path>
              <a:path w="12478" h="3250">
                <a:moveTo>
                  <a:pt x="13295" y="13295"/>
                </a:moveTo>
                <a:cubicBezTo>
                  <a:pt x="13428" y="13315"/>
                  <a:pt x="13520" y="13316"/>
                  <a:pt x="13643" y="13295"/>
                </a:cubicBezTo>
                <a:cubicBezTo>
                  <a:pt x="13692" y="13295"/>
                  <a:pt x="13709" y="13295"/>
                  <a:pt x="13742" y="13295"/>
                </a:cubicBezTo>
              </a:path>
              <a:path w="12478" h="3250">
                <a:moveTo>
                  <a:pt x="13469" y="13568"/>
                </a:moveTo>
                <a:cubicBezTo>
                  <a:pt x="13534" y="13550"/>
                  <a:pt x="13577" y="13543"/>
                  <a:pt x="13643" y="13543"/>
                </a:cubicBezTo>
                <a:cubicBezTo>
                  <a:pt x="13671" y="13543"/>
                  <a:pt x="13681" y="13546"/>
                  <a:pt x="13692" y="13568"/>
                </a:cubicBezTo>
                <a:cubicBezTo>
                  <a:pt x="13683" y="13604"/>
                  <a:pt x="13647" y="13690"/>
                  <a:pt x="13618" y="13717"/>
                </a:cubicBezTo>
                <a:cubicBezTo>
                  <a:pt x="13563" y="13768"/>
                  <a:pt x="13518" y="13807"/>
                  <a:pt x="13469" y="13866"/>
                </a:cubicBezTo>
                <a:cubicBezTo>
                  <a:pt x="13442" y="13898"/>
                  <a:pt x="13429" y="13902"/>
                  <a:pt x="13419" y="13940"/>
                </a:cubicBezTo>
                <a:cubicBezTo>
                  <a:pt x="13460" y="13971"/>
                  <a:pt x="13517" y="13987"/>
                  <a:pt x="13568" y="13990"/>
                </a:cubicBezTo>
                <a:cubicBezTo>
                  <a:pt x="13643" y="13994"/>
                  <a:pt x="13704" y="13984"/>
                  <a:pt x="13767" y="13940"/>
                </a:cubicBezTo>
                <a:cubicBezTo>
                  <a:pt x="13812" y="13893"/>
                  <a:pt x="13838" y="13861"/>
                  <a:pt x="13866" y="13816"/>
                </a:cubicBezTo>
              </a:path>
              <a:path w="12478" h="3250">
                <a:moveTo>
                  <a:pt x="14213" y="13221"/>
                </a:moveTo>
                <a:cubicBezTo>
                  <a:pt x="14279" y="13221"/>
                  <a:pt x="14346" y="13221"/>
                  <a:pt x="14412" y="13221"/>
                </a:cubicBezTo>
              </a:path>
              <a:path w="12478" h="3250">
                <a:moveTo>
                  <a:pt x="14288" y="13444"/>
                </a:moveTo>
                <a:cubicBezTo>
                  <a:pt x="14370" y="13459"/>
                  <a:pt x="14397" y="13468"/>
                  <a:pt x="14461" y="13419"/>
                </a:cubicBezTo>
              </a:path>
              <a:path w="12478" h="3250">
                <a:moveTo>
                  <a:pt x="14957" y="12849"/>
                </a:moveTo>
                <a:cubicBezTo>
                  <a:pt x="14957" y="12932"/>
                  <a:pt x="14957" y="13014"/>
                  <a:pt x="14957" y="13097"/>
                </a:cubicBezTo>
                <a:cubicBezTo>
                  <a:pt x="14957" y="13050"/>
                  <a:pt x="14935" y="13018"/>
                  <a:pt x="14932" y="12973"/>
                </a:cubicBezTo>
                <a:cubicBezTo>
                  <a:pt x="14927" y="12900"/>
                  <a:pt x="14953" y="12864"/>
                  <a:pt x="14957" y="12799"/>
                </a:cubicBezTo>
                <a:cubicBezTo>
                  <a:pt x="14960" y="12751"/>
                  <a:pt x="14957" y="12712"/>
                  <a:pt x="14982" y="12675"/>
                </a:cubicBezTo>
                <a:cubicBezTo>
                  <a:pt x="15013" y="12628"/>
                  <a:pt x="15080" y="12610"/>
                  <a:pt x="15131" y="12601"/>
                </a:cubicBezTo>
                <a:cubicBezTo>
                  <a:pt x="15197" y="12590"/>
                  <a:pt x="15245" y="12616"/>
                  <a:pt x="15304" y="12626"/>
                </a:cubicBezTo>
                <a:cubicBezTo>
                  <a:pt x="15354" y="12626"/>
                  <a:pt x="15371" y="12626"/>
                  <a:pt x="15404" y="12626"/>
                </a:cubicBezTo>
              </a:path>
              <a:path w="12478" h="3250">
                <a:moveTo>
                  <a:pt x="15329" y="12824"/>
                </a:moveTo>
                <a:cubicBezTo>
                  <a:pt x="15290" y="12901"/>
                  <a:pt x="15212" y="12993"/>
                  <a:pt x="15280" y="13072"/>
                </a:cubicBezTo>
                <a:cubicBezTo>
                  <a:pt x="15314" y="13111"/>
                  <a:pt x="15324" y="13135"/>
                  <a:pt x="15379" y="13146"/>
                </a:cubicBezTo>
                <a:cubicBezTo>
                  <a:pt x="15438" y="13157"/>
                  <a:pt x="15481" y="13135"/>
                  <a:pt x="15528" y="13122"/>
                </a:cubicBezTo>
                <a:cubicBezTo>
                  <a:pt x="15569" y="13110"/>
                  <a:pt x="15597" y="13094"/>
                  <a:pt x="15602" y="13047"/>
                </a:cubicBezTo>
                <a:cubicBezTo>
                  <a:pt x="15607" y="13002"/>
                  <a:pt x="15600" y="12978"/>
                  <a:pt x="15553" y="12973"/>
                </a:cubicBezTo>
                <a:cubicBezTo>
                  <a:pt x="15526" y="12970"/>
                  <a:pt x="15461" y="13019"/>
                  <a:pt x="15453" y="13047"/>
                </a:cubicBezTo>
                <a:cubicBezTo>
                  <a:pt x="15434" y="13114"/>
                  <a:pt x="15436" y="13117"/>
                  <a:pt x="15453" y="13171"/>
                </a:cubicBezTo>
                <a:cubicBezTo>
                  <a:pt x="15453" y="13196"/>
                  <a:pt x="15453" y="13204"/>
                  <a:pt x="15478" y="13196"/>
                </a:cubicBezTo>
              </a:path>
              <a:path w="12478" h="3250">
                <a:moveTo>
                  <a:pt x="14932" y="13246"/>
                </a:moveTo>
                <a:cubicBezTo>
                  <a:pt x="15010" y="13285"/>
                  <a:pt x="15077" y="13293"/>
                  <a:pt x="15156" y="13320"/>
                </a:cubicBezTo>
                <a:cubicBezTo>
                  <a:pt x="15241" y="13349"/>
                  <a:pt x="15340" y="13365"/>
                  <a:pt x="15429" y="13370"/>
                </a:cubicBezTo>
                <a:cubicBezTo>
                  <a:pt x="15470" y="13370"/>
                  <a:pt x="15478" y="13370"/>
                  <a:pt x="15503" y="13370"/>
                </a:cubicBezTo>
              </a:path>
              <a:path w="12478" h="3250">
                <a:moveTo>
                  <a:pt x="15329" y="13717"/>
                </a:moveTo>
                <a:cubicBezTo>
                  <a:pt x="15284" y="13767"/>
                  <a:pt x="15237" y="13803"/>
                  <a:pt x="15230" y="13866"/>
                </a:cubicBezTo>
                <a:cubicBezTo>
                  <a:pt x="15226" y="13898"/>
                  <a:pt x="15260" y="13942"/>
                  <a:pt x="15280" y="13965"/>
                </a:cubicBezTo>
                <a:cubicBezTo>
                  <a:pt x="15311" y="14001"/>
                  <a:pt x="15383" y="14049"/>
                  <a:pt x="15429" y="14064"/>
                </a:cubicBezTo>
                <a:cubicBezTo>
                  <a:pt x="15503" y="14089"/>
                  <a:pt x="15550" y="14054"/>
                  <a:pt x="15602" y="14015"/>
                </a:cubicBezTo>
              </a:path>
              <a:path w="12478" h="3250">
                <a:moveTo>
                  <a:pt x="15652" y="13717"/>
                </a:moveTo>
                <a:cubicBezTo>
                  <a:pt x="15631" y="13793"/>
                  <a:pt x="15621" y="13867"/>
                  <a:pt x="15602" y="13940"/>
                </a:cubicBezTo>
                <a:cubicBezTo>
                  <a:pt x="15579" y="14028"/>
                  <a:pt x="15577" y="14096"/>
                  <a:pt x="15577" y="14188"/>
                </a:cubicBezTo>
                <a:cubicBezTo>
                  <a:pt x="15577" y="14251"/>
                  <a:pt x="15596" y="14286"/>
                  <a:pt x="15602" y="14337"/>
                </a:cubicBezTo>
                <a:cubicBezTo>
                  <a:pt x="15610" y="14408"/>
                  <a:pt x="15623" y="14375"/>
                  <a:pt x="15652" y="14337"/>
                </a:cubicBezTo>
              </a:path>
              <a:path w="12478" h="3250">
                <a:moveTo>
                  <a:pt x="16049" y="13395"/>
                </a:moveTo>
                <a:cubicBezTo>
                  <a:pt x="16130" y="13373"/>
                  <a:pt x="16189" y="13370"/>
                  <a:pt x="16272" y="13370"/>
                </a:cubicBezTo>
              </a:path>
              <a:path w="12478" h="3250">
                <a:moveTo>
                  <a:pt x="16545" y="13122"/>
                </a:moveTo>
                <a:cubicBezTo>
                  <a:pt x="16545" y="13199"/>
                  <a:pt x="16524" y="13309"/>
                  <a:pt x="16570" y="13370"/>
                </a:cubicBezTo>
                <a:cubicBezTo>
                  <a:pt x="16581" y="13325"/>
                  <a:pt x="16594" y="13299"/>
                  <a:pt x="16594" y="13246"/>
                </a:cubicBezTo>
                <a:cubicBezTo>
                  <a:pt x="16594" y="13176"/>
                  <a:pt x="16570" y="13120"/>
                  <a:pt x="16570" y="13047"/>
                </a:cubicBezTo>
                <a:cubicBezTo>
                  <a:pt x="16570" y="12981"/>
                  <a:pt x="16584" y="12927"/>
                  <a:pt x="16594" y="12874"/>
                </a:cubicBezTo>
                <a:cubicBezTo>
                  <a:pt x="16604" y="12825"/>
                  <a:pt x="16610" y="12751"/>
                  <a:pt x="16669" y="12725"/>
                </a:cubicBezTo>
                <a:cubicBezTo>
                  <a:pt x="16720" y="12703"/>
                  <a:pt x="16782" y="12700"/>
                  <a:pt x="16842" y="12700"/>
                </a:cubicBezTo>
                <a:cubicBezTo>
                  <a:pt x="16867" y="12700"/>
                  <a:pt x="16892" y="12700"/>
                  <a:pt x="16917" y="12700"/>
                </a:cubicBezTo>
              </a:path>
              <a:path w="12478" h="3250">
                <a:moveTo>
                  <a:pt x="16768" y="13047"/>
                </a:moveTo>
                <a:cubicBezTo>
                  <a:pt x="16820" y="13040"/>
                  <a:pt x="16840" y="13022"/>
                  <a:pt x="16892" y="13022"/>
                </a:cubicBezTo>
                <a:cubicBezTo>
                  <a:pt x="16947" y="13022"/>
                  <a:pt x="17002" y="13011"/>
                  <a:pt x="17016" y="13072"/>
                </a:cubicBezTo>
                <a:cubicBezTo>
                  <a:pt x="17028" y="13127"/>
                  <a:pt x="16964" y="13165"/>
                  <a:pt x="16942" y="13196"/>
                </a:cubicBezTo>
                <a:cubicBezTo>
                  <a:pt x="16906" y="13245"/>
                  <a:pt x="16880" y="13297"/>
                  <a:pt x="16842" y="13345"/>
                </a:cubicBezTo>
                <a:cubicBezTo>
                  <a:pt x="16847" y="13361"/>
                  <a:pt x="16865" y="13406"/>
                  <a:pt x="16892" y="13419"/>
                </a:cubicBezTo>
                <a:cubicBezTo>
                  <a:pt x="16924" y="13434"/>
                  <a:pt x="17006" y="13442"/>
                  <a:pt x="17041" y="13444"/>
                </a:cubicBezTo>
                <a:cubicBezTo>
                  <a:pt x="17120" y="13449"/>
                  <a:pt x="17162" y="13446"/>
                  <a:pt x="17239" y="13469"/>
                </a:cubicBezTo>
              </a:path>
              <a:path w="12478" h="3250">
                <a:moveTo>
                  <a:pt x="16669" y="13593"/>
                </a:moveTo>
                <a:cubicBezTo>
                  <a:pt x="16800" y="13633"/>
                  <a:pt x="16935" y="13684"/>
                  <a:pt x="17066" y="13717"/>
                </a:cubicBezTo>
                <a:cubicBezTo>
                  <a:pt x="17074" y="13717"/>
                  <a:pt x="17082" y="13717"/>
                  <a:pt x="17090" y="13717"/>
                </a:cubicBezTo>
              </a:path>
              <a:path w="12478" h="3250">
                <a:moveTo>
                  <a:pt x="16818" y="14039"/>
                </a:moveTo>
                <a:cubicBezTo>
                  <a:pt x="16878" y="14124"/>
                  <a:pt x="16913" y="14206"/>
                  <a:pt x="17016" y="14238"/>
                </a:cubicBezTo>
                <a:cubicBezTo>
                  <a:pt x="17066" y="14254"/>
                  <a:pt x="17074" y="14255"/>
                  <a:pt x="17115" y="14238"/>
                </a:cubicBezTo>
              </a:path>
              <a:path w="12478" h="3250">
                <a:moveTo>
                  <a:pt x="17140" y="13990"/>
                </a:moveTo>
                <a:cubicBezTo>
                  <a:pt x="17100" y="14123"/>
                  <a:pt x="17090" y="14180"/>
                  <a:pt x="17090" y="14312"/>
                </a:cubicBezTo>
                <a:cubicBezTo>
                  <a:pt x="17090" y="14372"/>
                  <a:pt x="17110" y="14461"/>
                  <a:pt x="17140" y="14511"/>
                </a:cubicBezTo>
                <a:cubicBezTo>
                  <a:pt x="17148" y="14519"/>
                  <a:pt x="17157" y="14528"/>
                  <a:pt x="17165" y="14536"/>
                </a:cubicBezTo>
              </a:path>
              <a:path w="12478" h="3250">
                <a:moveTo>
                  <a:pt x="17487" y="13618"/>
                </a:moveTo>
                <a:cubicBezTo>
                  <a:pt x="17586" y="13600"/>
                  <a:pt x="17662" y="13593"/>
                  <a:pt x="17760" y="13593"/>
                </a:cubicBezTo>
                <a:cubicBezTo>
                  <a:pt x="17802" y="13593"/>
                  <a:pt x="17810" y="13593"/>
                  <a:pt x="17835" y="13593"/>
                </a:cubicBezTo>
              </a:path>
              <a:path w="12478" h="3250">
                <a:moveTo>
                  <a:pt x="17587" y="13791"/>
                </a:moveTo>
                <a:cubicBezTo>
                  <a:pt x="17680" y="13791"/>
                  <a:pt x="17750" y="13798"/>
                  <a:pt x="17835" y="13767"/>
                </a:cubicBezTo>
              </a:path>
              <a:path w="12478" h="3250">
                <a:moveTo>
                  <a:pt x="18207" y="13122"/>
                </a:moveTo>
                <a:cubicBezTo>
                  <a:pt x="18219" y="13207"/>
                  <a:pt x="18218" y="13363"/>
                  <a:pt x="18256" y="13444"/>
                </a:cubicBezTo>
                <a:cubicBezTo>
                  <a:pt x="18269" y="13472"/>
                  <a:pt x="18287" y="13494"/>
                  <a:pt x="18306" y="13519"/>
                </a:cubicBezTo>
                <a:cubicBezTo>
                  <a:pt x="18345" y="13467"/>
                  <a:pt x="18314" y="13432"/>
                  <a:pt x="18331" y="13370"/>
                </a:cubicBezTo>
                <a:cubicBezTo>
                  <a:pt x="18358" y="13271"/>
                  <a:pt x="18355" y="13177"/>
                  <a:pt x="18355" y="13072"/>
                </a:cubicBezTo>
                <a:cubicBezTo>
                  <a:pt x="18355" y="12991"/>
                  <a:pt x="18348" y="12923"/>
                  <a:pt x="18380" y="12849"/>
                </a:cubicBezTo>
                <a:cubicBezTo>
                  <a:pt x="18405" y="12791"/>
                  <a:pt x="18411" y="12770"/>
                  <a:pt x="18455" y="12725"/>
                </a:cubicBezTo>
                <a:cubicBezTo>
                  <a:pt x="18495" y="12684"/>
                  <a:pt x="18548" y="12700"/>
                  <a:pt x="18604" y="12700"/>
                </a:cubicBezTo>
                <a:cubicBezTo>
                  <a:pt x="18672" y="12700"/>
                  <a:pt x="18722" y="12692"/>
                  <a:pt x="18777" y="12725"/>
                </a:cubicBezTo>
              </a:path>
              <a:path w="12478" h="3250">
                <a:moveTo>
                  <a:pt x="18653" y="12973"/>
                </a:moveTo>
                <a:cubicBezTo>
                  <a:pt x="18620" y="13074"/>
                  <a:pt x="18585" y="13167"/>
                  <a:pt x="18579" y="13271"/>
                </a:cubicBezTo>
                <a:cubicBezTo>
                  <a:pt x="18575" y="13343"/>
                  <a:pt x="18622" y="13449"/>
                  <a:pt x="18678" y="13494"/>
                </a:cubicBezTo>
                <a:cubicBezTo>
                  <a:pt x="18723" y="13530"/>
                  <a:pt x="18818" y="13565"/>
                  <a:pt x="18876" y="13543"/>
                </a:cubicBezTo>
                <a:cubicBezTo>
                  <a:pt x="18898" y="13535"/>
                  <a:pt x="18994" y="13462"/>
                  <a:pt x="19000" y="13444"/>
                </a:cubicBezTo>
                <a:cubicBezTo>
                  <a:pt x="19016" y="13397"/>
                  <a:pt x="19006" y="13325"/>
                  <a:pt x="19000" y="13295"/>
                </a:cubicBezTo>
                <a:cubicBezTo>
                  <a:pt x="18996" y="13275"/>
                  <a:pt x="18960" y="13236"/>
                  <a:pt x="18926" y="13246"/>
                </a:cubicBezTo>
                <a:cubicBezTo>
                  <a:pt x="18866" y="13263"/>
                  <a:pt x="18847" y="13272"/>
                  <a:pt x="18827" y="13320"/>
                </a:cubicBezTo>
                <a:cubicBezTo>
                  <a:pt x="18803" y="13376"/>
                  <a:pt x="18800" y="13414"/>
                  <a:pt x="18827" y="13469"/>
                </a:cubicBezTo>
                <a:cubicBezTo>
                  <a:pt x="18844" y="13503"/>
                  <a:pt x="18871" y="13494"/>
                  <a:pt x="18901" y="13494"/>
                </a:cubicBezTo>
              </a:path>
              <a:path w="12478" h="3250">
                <a:moveTo>
                  <a:pt x="19100" y="13122"/>
                </a:moveTo>
                <a:cubicBezTo>
                  <a:pt x="19191" y="13122"/>
                  <a:pt x="19281" y="13122"/>
                  <a:pt x="19372" y="13122"/>
                </a:cubicBezTo>
              </a:path>
              <a:path w="12478" h="3250">
                <a:moveTo>
                  <a:pt x="19670" y="13047"/>
                </a:moveTo>
                <a:cubicBezTo>
                  <a:pt x="19652" y="13211"/>
                  <a:pt x="19646" y="13279"/>
                  <a:pt x="19670" y="13419"/>
                </a:cubicBezTo>
                <a:cubicBezTo>
                  <a:pt x="19675" y="13449"/>
                  <a:pt x="19670" y="13488"/>
                  <a:pt x="19670" y="13519"/>
                </a:cubicBezTo>
                <a:cubicBezTo>
                  <a:pt x="19722" y="13519"/>
                  <a:pt x="19720" y="13521"/>
                  <a:pt x="19720" y="13469"/>
                </a:cubicBezTo>
                <a:cubicBezTo>
                  <a:pt x="19720" y="13386"/>
                  <a:pt x="19756" y="13288"/>
                  <a:pt x="19745" y="13221"/>
                </a:cubicBezTo>
                <a:cubicBezTo>
                  <a:pt x="19732" y="13146"/>
                  <a:pt x="19720" y="13079"/>
                  <a:pt x="19720" y="12998"/>
                </a:cubicBezTo>
                <a:cubicBezTo>
                  <a:pt x="19720" y="12925"/>
                  <a:pt x="19728" y="12890"/>
                  <a:pt x="19745" y="12824"/>
                </a:cubicBezTo>
                <a:cubicBezTo>
                  <a:pt x="19758" y="12770"/>
                  <a:pt x="19781" y="12775"/>
                  <a:pt x="19819" y="12750"/>
                </a:cubicBezTo>
                <a:cubicBezTo>
                  <a:pt x="19888" y="12705"/>
                  <a:pt x="19896" y="12737"/>
                  <a:pt x="19968" y="12750"/>
                </a:cubicBezTo>
                <a:cubicBezTo>
                  <a:pt x="20022" y="12760"/>
                  <a:pt x="20086" y="12750"/>
                  <a:pt x="20141" y="12750"/>
                </a:cubicBezTo>
              </a:path>
              <a:path w="12478" h="3250">
                <a:moveTo>
                  <a:pt x="19968" y="13097"/>
                </a:moveTo>
                <a:cubicBezTo>
                  <a:pt x="20015" y="13085"/>
                  <a:pt x="20024" y="13041"/>
                  <a:pt x="20067" y="13022"/>
                </a:cubicBezTo>
                <a:cubicBezTo>
                  <a:pt x="20097" y="13009"/>
                  <a:pt x="20154" y="12980"/>
                  <a:pt x="20191" y="12998"/>
                </a:cubicBezTo>
                <a:cubicBezTo>
                  <a:pt x="20244" y="13024"/>
                  <a:pt x="20256" y="13094"/>
                  <a:pt x="20241" y="13146"/>
                </a:cubicBezTo>
                <a:cubicBezTo>
                  <a:pt x="20218" y="13229"/>
                  <a:pt x="20161" y="13264"/>
                  <a:pt x="20117" y="13320"/>
                </a:cubicBezTo>
                <a:cubicBezTo>
                  <a:pt x="20084" y="13362"/>
                  <a:pt x="20065" y="13413"/>
                  <a:pt x="20017" y="13444"/>
                </a:cubicBezTo>
                <a:cubicBezTo>
                  <a:pt x="19976" y="13471"/>
                  <a:pt x="19953" y="13484"/>
                  <a:pt x="19918" y="13519"/>
                </a:cubicBezTo>
                <a:cubicBezTo>
                  <a:pt x="19963" y="13519"/>
                  <a:pt x="19977" y="13497"/>
                  <a:pt x="20017" y="13494"/>
                </a:cubicBezTo>
                <a:cubicBezTo>
                  <a:pt x="20100" y="13488"/>
                  <a:pt x="20180" y="13519"/>
                  <a:pt x="20265" y="13519"/>
                </a:cubicBezTo>
                <a:cubicBezTo>
                  <a:pt x="20318" y="13519"/>
                  <a:pt x="20303" y="13531"/>
                  <a:pt x="20340" y="13543"/>
                </a:cubicBezTo>
              </a:path>
              <a:path w="12478" h="3250">
                <a:moveTo>
                  <a:pt x="20513" y="13618"/>
                </a:moveTo>
                <a:cubicBezTo>
                  <a:pt x="20410" y="13647"/>
                  <a:pt x="20347" y="13667"/>
                  <a:pt x="20241" y="13667"/>
                </a:cubicBezTo>
                <a:cubicBezTo>
                  <a:pt x="20131" y="13667"/>
                  <a:pt x="20031" y="13692"/>
                  <a:pt x="19918" y="13692"/>
                </a:cubicBezTo>
                <a:cubicBezTo>
                  <a:pt x="19564" y="13692"/>
                  <a:pt x="19197" y="13675"/>
                  <a:pt x="18852" y="13717"/>
                </a:cubicBezTo>
                <a:cubicBezTo>
                  <a:pt x="18782" y="13726"/>
                  <a:pt x="18712" y="13730"/>
                  <a:pt x="18653" y="13742"/>
                </a:cubicBezTo>
                <a:cubicBezTo>
                  <a:pt x="18584" y="13756"/>
                  <a:pt x="18619" y="13738"/>
                  <a:pt x="18628" y="13767"/>
                </a:cubicBezTo>
              </a:path>
              <a:path w="12478" h="3250">
                <a:moveTo>
                  <a:pt x="19273" y="13940"/>
                </a:moveTo>
                <a:cubicBezTo>
                  <a:pt x="19248" y="13984"/>
                  <a:pt x="19191" y="14014"/>
                  <a:pt x="19174" y="14039"/>
                </a:cubicBezTo>
                <a:cubicBezTo>
                  <a:pt x="19157" y="14064"/>
                  <a:pt x="19159" y="14059"/>
                  <a:pt x="19149" y="14089"/>
                </a:cubicBezTo>
                <a:cubicBezTo>
                  <a:pt x="19162" y="14127"/>
                  <a:pt x="19171" y="14119"/>
                  <a:pt x="19199" y="14139"/>
                </a:cubicBezTo>
                <a:cubicBezTo>
                  <a:pt x="19256" y="14180"/>
                  <a:pt x="19289" y="14192"/>
                  <a:pt x="19348" y="14213"/>
                </a:cubicBezTo>
                <a:cubicBezTo>
                  <a:pt x="19432" y="14243"/>
                  <a:pt x="19426" y="14253"/>
                  <a:pt x="19496" y="14238"/>
                </a:cubicBezTo>
                <a:cubicBezTo>
                  <a:pt x="19513" y="14238"/>
                  <a:pt x="19529" y="14238"/>
                  <a:pt x="19546" y="14238"/>
                </a:cubicBezTo>
              </a:path>
              <a:path w="12478" h="3250">
                <a:moveTo>
                  <a:pt x="19645" y="14015"/>
                </a:moveTo>
                <a:cubicBezTo>
                  <a:pt x="19613" y="14200"/>
                  <a:pt x="19570" y="14394"/>
                  <a:pt x="19596" y="14585"/>
                </a:cubicBezTo>
                <a:cubicBezTo>
                  <a:pt x="19613" y="14712"/>
                  <a:pt x="19637" y="14830"/>
                  <a:pt x="19645" y="14957"/>
                </a:cubicBezTo>
              </a:path>
              <a:path w="12478" h="3250">
                <a:moveTo>
                  <a:pt x="17959" y="12477"/>
                </a:moveTo>
                <a:cubicBezTo>
                  <a:pt x="17909" y="12509"/>
                  <a:pt x="17828" y="12536"/>
                  <a:pt x="17785" y="12576"/>
                </a:cubicBezTo>
                <a:cubicBezTo>
                  <a:pt x="17728" y="12629"/>
                  <a:pt x="17648" y="12721"/>
                  <a:pt x="17636" y="12799"/>
                </a:cubicBezTo>
                <a:cubicBezTo>
                  <a:pt x="17622" y="12888"/>
                  <a:pt x="17685" y="13004"/>
                  <a:pt x="17735" y="13072"/>
                </a:cubicBezTo>
                <a:cubicBezTo>
                  <a:pt x="17802" y="13164"/>
                  <a:pt x="17924" y="13242"/>
                  <a:pt x="18008" y="13320"/>
                </a:cubicBezTo>
                <a:cubicBezTo>
                  <a:pt x="18052" y="13361"/>
                  <a:pt x="18141" y="13434"/>
                  <a:pt x="18157" y="13494"/>
                </a:cubicBezTo>
                <a:cubicBezTo>
                  <a:pt x="18175" y="13560"/>
                  <a:pt x="18136" y="13593"/>
                  <a:pt x="18107" y="13643"/>
                </a:cubicBezTo>
                <a:cubicBezTo>
                  <a:pt x="18070" y="13706"/>
                  <a:pt x="18016" y="13733"/>
                  <a:pt x="17983" y="13816"/>
                </a:cubicBezTo>
                <a:cubicBezTo>
                  <a:pt x="17938" y="13930"/>
                  <a:pt x="17989" y="14017"/>
                  <a:pt x="18058" y="14114"/>
                </a:cubicBezTo>
                <a:cubicBezTo>
                  <a:pt x="18135" y="14221"/>
                  <a:pt x="18251" y="14287"/>
                  <a:pt x="18355" y="14362"/>
                </a:cubicBezTo>
                <a:cubicBezTo>
                  <a:pt x="18406" y="14399"/>
                  <a:pt x="18492" y="14450"/>
                  <a:pt x="18504" y="14511"/>
                </a:cubicBezTo>
                <a:cubicBezTo>
                  <a:pt x="18513" y="14556"/>
                  <a:pt x="18443" y="14597"/>
                  <a:pt x="18430" y="14635"/>
                </a:cubicBezTo>
                <a:cubicBezTo>
                  <a:pt x="18389" y="14758"/>
                  <a:pt x="18432" y="14829"/>
                  <a:pt x="18504" y="14932"/>
                </a:cubicBezTo>
                <a:cubicBezTo>
                  <a:pt x="18575" y="15034"/>
                  <a:pt x="18666" y="15143"/>
                  <a:pt x="18777" y="15205"/>
                </a:cubicBezTo>
                <a:cubicBezTo>
                  <a:pt x="18894" y="15271"/>
                  <a:pt x="18991" y="15289"/>
                  <a:pt x="19124" y="15304"/>
                </a:cubicBezTo>
                <a:cubicBezTo>
                  <a:pt x="19223" y="15315"/>
                  <a:pt x="19297" y="15247"/>
                  <a:pt x="19397" y="15255"/>
                </a:cubicBezTo>
                <a:cubicBezTo>
                  <a:pt x="19431" y="15258"/>
                  <a:pt x="19465" y="15295"/>
                  <a:pt x="19521" y="15304"/>
                </a:cubicBezTo>
                <a:cubicBezTo>
                  <a:pt x="19611" y="15318"/>
                  <a:pt x="19699" y="15346"/>
                  <a:pt x="19794" y="15354"/>
                </a:cubicBezTo>
                <a:cubicBezTo>
                  <a:pt x="19917" y="15364"/>
                  <a:pt x="19984" y="15325"/>
                  <a:pt x="20092" y="15280"/>
                </a:cubicBezTo>
                <a:cubicBezTo>
                  <a:pt x="20205" y="15233"/>
                  <a:pt x="20314" y="15154"/>
                  <a:pt x="20389" y="15056"/>
                </a:cubicBezTo>
                <a:cubicBezTo>
                  <a:pt x="20461" y="14961"/>
                  <a:pt x="20475" y="14872"/>
                  <a:pt x="20489" y="14759"/>
                </a:cubicBezTo>
                <a:cubicBezTo>
                  <a:pt x="20498" y="14689"/>
                  <a:pt x="20467" y="14608"/>
                  <a:pt x="20538" y="14560"/>
                </a:cubicBezTo>
                <a:cubicBezTo>
                  <a:pt x="20592" y="14523"/>
                  <a:pt x="20728" y="14588"/>
                  <a:pt x="20786" y="14585"/>
                </a:cubicBezTo>
                <a:cubicBezTo>
                  <a:pt x="20872" y="14581"/>
                  <a:pt x="20973" y="14526"/>
                  <a:pt x="21034" y="14461"/>
                </a:cubicBezTo>
                <a:cubicBezTo>
                  <a:pt x="21098" y="14392"/>
                  <a:pt x="21205" y="14255"/>
                  <a:pt x="21233" y="14163"/>
                </a:cubicBezTo>
                <a:cubicBezTo>
                  <a:pt x="21268" y="14049"/>
                  <a:pt x="21284" y="13859"/>
                  <a:pt x="21258" y="13742"/>
                </a:cubicBezTo>
                <a:cubicBezTo>
                  <a:pt x="21225" y="13595"/>
                  <a:pt x="21156" y="13475"/>
                  <a:pt x="21084" y="13345"/>
                </a:cubicBezTo>
                <a:cubicBezTo>
                  <a:pt x="21035" y="13256"/>
                  <a:pt x="21042" y="13213"/>
                  <a:pt x="21034" y="13146"/>
                </a:cubicBezTo>
                <a:cubicBezTo>
                  <a:pt x="21012" y="12966"/>
                  <a:pt x="21019" y="12804"/>
                  <a:pt x="20960" y="12626"/>
                </a:cubicBezTo>
                <a:cubicBezTo>
                  <a:pt x="20895" y="12428"/>
                  <a:pt x="20710" y="12301"/>
                  <a:pt x="20538" y="12204"/>
                </a:cubicBezTo>
                <a:cubicBezTo>
                  <a:pt x="20395" y="12123"/>
                  <a:pt x="20270" y="12116"/>
                  <a:pt x="20117" y="12129"/>
                </a:cubicBezTo>
                <a:cubicBezTo>
                  <a:pt x="19998" y="12139"/>
                  <a:pt x="19940" y="12183"/>
                  <a:pt x="19869" y="12254"/>
                </a:cubicBezTo>
                <a:cubicBezTo>
                  <a:pt x="19833" y="12290"/>
                  <a:pt x="19808" y="12340"/>
                  <a:pt x="19769" y="12353"/>
                </a:cubicBezTo>
                <a:cubicBezTo>
                  <a:pt x="19616" y="12405"/>
                  <a:pt x="19358" y="12359"/>
                  <a:pt x="19199" y="12378"/>
                </a:cubicBezTo>
                <a:cubicBezTo>
                  <a:pt x="19110" y="12389"/>
                  <a:pt x="18985" y="12429"/>
                  <a:pt x="18901" y="12427"/>
                </a:cubicBezTo>
                <a:cubicBezTo>
                  <a:pt x="18836" y="12425"/>
                  <a:pt x="18816" y="12390"/>
                  <a:pt x="18752" y="12378"/>
                </a:cubicBezTo>
                <a:cubicBezTo>
                  <a:pt x="18736" y="12378"/>
                  <a:pt x="18719" y="12378"/>
                  <a:pt x="18703" y="12378"/>
                </a:cubicBezTo>
              </a:path>
              <a:path w="12478" h="3250">
                <a:moveTo>
                  <a:pt x="18479" y="12303"/>
                </a:moveTo>
                <a:cubicBezTo>
                  <a:pt x="18341" y="12322"/>
                  <a:pt x="18200" y="12322"/>
                  <a:pt x="18083" y="12402"/>
                </a:cubicBezTo>
                <a:cubicBezTo>
                  <a:pt x="18031" y="12438"/>
                  <a:pt x="17993" y="12501"/>
                  <a:pt x="17959" y="125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68760" y="5224320"/>
            <a:ext cx="5983200" cy="1411560"/>
          </a:xfrm>
          <a:custGeom>
            <a:avLst/>
            <a:gdLst/>
            <a:ahLst/>
            <a:rect l="l" t="t" r="r" b="b"/>
            <a:pathLst>
              <a:path w="16621" h="3920">
                <a:moveTo>
                  <a:pt x="7962" y="14560"/>
                </a:moveTo>
                <a:cubicBezTo>
                  <a:pt x="7985" y="14590"/>
                  <a:pt x="8009" y="14622"/>
                  <a:pt x="8012" y="14660"/>
                </a:cubicBezTo>
                <a:cubicBezTo>
                  <a:pt x="8021" y="14783"/>
                  <a:pt x="8001" y="14893"/>
                  <a:pt x="7987" y="15007"/>
                </a:cubicBezTo>
                <a:cubicBezTo>
                  <a:pt x="7973" y="15119"/>
                  <a:pt x="7987" y="15241"/>
                  <a:pt x="7987" y="15354"/>
                </a:cubicBezTo>
              </a:path>
              <a:path w="16621" h="3920">
                <a:moveTo>
                  <a:pt x="7689" y="14932"/>
                </a:moveTo>
                <a:cubicBezTo>
                  <a:pt x="7756" y="14932"/>
                  <a:pt x="7802" y="14947"/>
                  <a:pt x="7863" y="14957"/>
                </a:cubicBezTo>
                <a:cubicBezTo>
                  <a:pt x="7937" y="14969"/>
                  <a:pt x="8015" y="14970"/>
                  <a:pt x="8086" y="14982"/>
                </a:cubicBezTo>
                <a:cubicBezTo>
                  <a:pt x="8136" y="14982"/>
                  <a:pt x="8153" y="14982"/>
                  <a:pt x="8186" y="14982"/>
                </a:cubicBezTo>
              </a:path>
              <a:path w="16621" h="3920">
                <a:moveTo>
                  <a:pt x="8434" y="14982"/>
                </a:moveTo>
                <a:cubicBezTo>
                  <a:pt x="8434" y="15007"/>
                  <a:pt x="8434" y="15015"/>
                  <a:pt x="8434" y="15032"/>
                </a:cubicBezTo>
                <a:cubicBezTo>
                  <a:pt x="8396" y="15019"/>
                  <a:pt x="8413" y="15007"/>
                  <a:pt x="8359" y="15007"/>
                </a:cubicBezTo>
                <a:cubicBezTo>
                  <a:pt x="8297" y="15007"/>
                  <a:pt x="8279" y="15037"/>
                  <a:pt x="8235" y="15081"/>
                </a:cubicBezTo>
                <a:cubicBezTo>
                  <a:pt x="8201" y="15115"/>
                  <a:pt x="8163" y="15149"/>
                  <a:pt x="8186" y="15205"/>
                </a:cubicBezTo>
                <a:cubicBezTo>
                  <a:pt x="8201" y="15241"/>
                  <a:pt x="8219" y="15275"/>
                  <a:pt x="8260" y="15280"/>
                </a:cubicBezTo>
                <a:cubicBezTo>
                  <a:pt x="8295" y="15284"/>
                  <a:pt x="8359" y="15317"/>
                  <a:pt x="8384" y="15280"/>
                </a:cubicBezTo>
                <a:cubicBezTo>
                  <a:pt x="8402" y="15254"/>
                  <a:pt x="8394" y="15206"/>
                  <a:pt x="8409" y="15180"/>
                </a:cubicBezTo>
                <a:cubicBezTo>
                  <a:pt x="8428" y="15147"/>
                  <a:pt x="8432" y="15140"/>
                  <a:pt x="8458" y="15131"/>
                </a:cubicBezTo>
                <a:cubicBezTo>
                  <a:pt x="8468" y="15179"/>
                  <a:pt x="8495" y="15215"/>
                  <a:pt x="8508" y="15255"/>
                </a:cubicBezTo>
                <a:cubicBezTo>
                  <a:pt x="8526" y="15309"/>
                  <a:pt x="8519" y="15295"/>
                  <a:pt x="8582" y="15304"/>
                </a:cubicBezTo>
              </a:path>
              <a:path w="16621" h="3920">
                <a:moveTo>
                  <a:pt x="8682" y="15007"/>
                </a:moveTo>
                <a:cubicBezTo>
                  <a:pt x="8682" y="15106"/>
                  <a:pt x="8682" y="15205"/>
                  <a:pt x="8682" y="15304"/>
                </a:cubicBezTo>
                <a:cubicBezTo>
                  <a:pt x="8729" y="15288"/>
                  <a:pt x="8690" y="15274"/>
                  <a:pt x="8706" y="15230"/>
                </a:cubicBezTo>
                <a:cubicBezTo>
                  <a:pt x="8719" y="15194"/>
                  <a:pt x="8758" y="15111"/>
                  <a:pt x="8781" y="15081"/>
                </a:cubicBezTo>
                <a:cubicBezTo>
                  <a:pt x="8812" y="15041"/>
                  <a:pt x="8851" y="15017"/>
                  <a:pt x="8880" y="15007"/>
                </a:cubicBezTo>
                <a:cubicBezTo>
                  <a:pt x="8888" y="15039"/>
                  <a:pt x="8893" y="15074"/>
                  <a:pt x="8905" y="15106"/>
                </a:cubicBezTo>
                <a:cubicBezTo>
                  <a:pt x="8924" y="15159"/>
                  <a:pt x="8944" y="15224"/>
                  <a:pt x="8954" y="15280"/>
                </a:cubicBezTo>
                <a:cubicBezTo>
                  <a:pt x="8959" y="15309"/>
                  <a:pt x="8980" y="15388"/>
                  <a:pt x="9004" y="15404"/>
                </a:cubicBezTo>
                <a:cubicBezTo>
                  <a:pt x="9032" y="15404"/>
                  <a:pt x="9043" y="15402"/>
                  <a:pt x="9054" y="15379"/>
                </a:cubicBezTo>
              </a:path>
              <a:path w="16621" h="3920">
                <a:moveTo>
                  <a:pt x="9029" y="14560"/>
                </a:moveTo>
                <a:cubicBezTo>
                  <a:pt x="9116" y="14528"/>
                  <a:pt x="9142" y="14546"/>
                  <a:pt x="9227" y="14560"/>
                </a:cubicBezTo>
                <a:cubicBezTo>
                  <a:pt x="9281" y="14569"/>
                  <a:pt x="9336" y="14565"/>
                  <a:pt x="9376" y="14536"/>
                </a:cubicBezTo>
              </a:path>
              <a:path w="16621" h="3920">
                <a:moveTo>
                  <a:pt x="9227" y="14560"/>
                </a:moveTo>
                <a:cubicBezTo>
                  <a:pt x="9188" y="14665"/>
                  <a:pt x="9178" y="14672"/>
                  <a:pt x="9178" y="14759"/>
                </a:cubicBezTo>
                <a:cubicBezTo>
                  <a:pt x="9178" y="14767"/>
                  <a:pt x="9178" y="14776"/>
                  <a:pt x="9178" y="14784"/>
                </a:cubicBezTo>
              </a:path>
              <a:path w="16621" h="3920">
                <a:moveTo>
                  <a:pt x="9302" y="14560"/>
                </a:moveTo>
                <a:cubicBezTo>
                  <a:pt x="9302" y="14635"/>
                  <a:pt x="9302" y="14709"/>
                  <a:pt x="9302" y="14784"/>
                </a:cubicBezTo>
              </a:path>
              <a:path w="16621" h="3920">
                <a:moveTo>
                  <a:pt x="9624" y="14585"/>
                </a:moveTo>
                <a:cubicBezTo>
                  <a:pt x="9603" y="14711"/>
                  <a:pt x="9576" y="14834"/>
                  <a:pt x="9550" y="14957"/>
                </a:cubicBezTo>
                <a:cubicBezTo>
                  <a:pt x="9530" y="15051"/>
                  <a:pt x="9489" y="15139"/>
                  <a:pt x="9475" y="15230"/>
                </a:cubicBezTo>
                <a:cubicBezTo>
                  <a:pt x="9472" y="15249"/>
                  <a:pt x="9475" y="15413"/>
                  <a:pt x="9475" y="15354"/>
                </a:cubicBezTo>
              </a:path>
              <a:path w="16621" h="3920">
                <a:moveTo>
                  <a:pt x="9699" y="14982"/>
                </a:moveTo>
                <a:cubicBezTo>
                  <a:pt x="9682" y="15059"/>
                  <a:pt x="9637" y="15126"/>
                  <a:pt x="9624" y="15205"/>
                </a:cubicBezTo>
                <a:cubicBezTo>
                  <a:pt x="9615" y="15256"/>
                  <a:pt x="9642" y="15319"/>
                  <a:pt x="9674" y="15354"/>
                </a:cubicBezTo>
                <a:cubicBezTo>
                  <a:pt x="9732" y="15418"/>
                  <a:pt x="9833" y="15432"/>
                  <a:pt x="9897" y="15429"/>
                </a:cubicBezTo>
                <a:cubicBezTo>
                  <a:pt x="9943" y="15426"/>
                  <a:pt x="9999" y="15404"/>
                  <a:pt x="10021" y="15354"/>
                </a:cubicBezTo>
                <a:cubicBezTo>
                  <a:pt x="10041" y="15310"/>
                  <a:pt x="10047" y="15269"/>
                  <a:pt x="10021" y="15230"/>
                </a:cubicBezTo>
                <a:cubicBezTo>
                  <a:pt x="9991" y="15186"/>
                  <a:pt x="9953" y="15203"/>
                  <a:pt x="9922" y="15230"/>
                </a:cubicBezTo>
                <a:cubicBezTo>
                  <a:pt x="9897" y="15253"/>
                  <a:pt x="9880" y="15321"/>
                  <a:pt x="9872" y="15354"/>
                </a:cubicBezTo>
                <a:cubicBezTo>
                  <a:pt x="9862" y="15392"/>
                  <a:pt x="9899" y="15452"/>
                  <a:pt x="9922" y="15478"/>
                </a:cubicBezTo>
                <a:cubicBezTo>
                  <a:pt x="9930" y="15486"/>
                  <a:pt x="9939" y="15495"/>
                  <a:pt x="9947" y="15503"/>
                </a:cubicBezTo>
              </a:path>
              <a:path w="16621" h="3920">
                <a:moveTo>
                  <a:pt x="10294" y="14808"/>
                </a:moveTo>
                <a:cubicBezTo>
                  <a:pt x="10312" y="14898"/>
                  <a:pt x="10319" y="14984"/>
                  <a:pt x="10319" y="15081"/>
                </a:cubicBezTo>
                <a:cubicBezTo>
                  <a:pt x="10319" y="15166"/>
                  <a:pt x="10344" y="15241"/>
                  <a:pt x="10344" y="15329"/>
                </a:cubicBezTo>
                <a:cubicBezTo>
                  <a:pt x="10344" y="15382"/>
                  <a:pt x="10362" y="15383"/>
                  <a:pt x="10344" y="15429"/>
                </a:cubicBezTo>
              </a:path>
              <a:path w="16621" h="3920">
                <a:moveTo>
                  <a:pt x="10170" y="15106"/>
                </a:moveTo>
                <a:cubicBezTo>
                  <a:pt x="10275" y="15125"/>
                  <a:pt x="10366" y="15147"/>
                  <a:pt x="10468" y="15156"/>
                </a:cubicBezTo>
              </a:path>
              <a:path w="16621" h="3920">
                <a:moveTo>
                  <a:pt x="10790" y="15131"/>
                </a:moveTo>
                <a:cubicBezTo>
                  <a:pt x="10760" y="15197"/>
                  <a:pt x="10682" y="15260"/>
                  <a:pt x="10666" y="15329"/>
                </a:cubicBezTo>
                <a:cubicBezTo>
                  <a:pt x="10654" y="15381"/>
                  <a:pt x="10636" y="15429"/>
                  <a:pt x="10666" y="15478"/>
                </a:cubicBezTo>
                <a:cubicBezTo>
                  <a:pt x="10676" y="15494"/>
                  <a:pt x="10741" y="15559"/>
                  <a:pt x="10765" y="15528"/>
                </a:cubicBezTo>
                <a:cubicBezTo>
                  <a:pt x="10784" y="15504"/>
                  <a:pt x="10798" y="15471"/>
                  <a:pt x="10815" y="15429"/>
                </a:cubicBezTo>
                <a:cubicBezTo>
                  <a:pt x="10834" y="15381"/>
                  <a:pt x="10861" y="15332"/>
                  <a:pt x="10864" y="15280"/>
                </a:cubicBezTo>
                <a:cubicBezTo>
                  <a:pt x="10864" y="15263"/>
                  <a:pt x="10864" y="15247"/>
                  <a:pt x="10864" y="15230"/>
                </a:cubicBezTo>
                <a:cubicBezTo>
                  <a:pt x="10874" y="15282"/>
                  <a:pt x="10891" y="15330"/>
                  <a:pt x="10914" y="15379"/>
                </a:cubicBezTo>
                <a:cubicBezTo>
                  <a:pt x="10935" y="15425"/>
                  <a:pt x="10988" y="15506"/>
                  <a:pt x="11038" y="15528"/>
                </a:cubicBezTo>
                <a:cubicBezTo>
                  <a:pt x="11046" y="15528"/>
                  <a:pt x="11055" y="15528"/>
                  <a:pt x="11063" y="15528"/>
                </a:cubicBezTo>
              </a:path>
              <a:path w="16621" h="3920">
                <a:moveTo>
                  <a:pt x="11187" y="15304"/>
                </a:moveTo>
                <a:cubicBezTo>
                  <a:pt x="11166" y="15380"/>
                  <a:pt x="11154" y="15454"/>
                  <a:pt x="11137" y="15528"/>
                </a:cubicBezTo>
                <a:cubicBezTo>
                  <a:pt x="11137" y="15556"/>
                  <a:pt x="11139" y="15567"/>
                  <a:pt x="11162" y="15577"/>
                </a:cubicBezTo>
                <a:cubicBezTo>
                  <a:pt x="11194" y="15567"/>
                  <a:pt x="11205" y="15500"/>
                  <a:pt x="11212" y="15453"/>
                </a:cubicBezTo>
                <a:cubicBezTo>
                  <a:pt x="11222" y="15387"/>
                  <a:pt x="11218" y="15335"/>
                  <a:pt x="11237" y="15280"/>
                </a:cubicBezTo>
                <a:cubicBezTo>
                  <a:pt x="11245" y="15257"/>
                  <a:pt x="11267" y="15185"/>
                  <a:pt x="11311" y="15205"/>
                </a:cubicBezTo>
                <a:cubicBezTo>
                  <a:pt x="11374" y="15233"/>
                  <a:pt x="11410" y="15291"/>
                  <a:pt x="11435" y="15354"/>
                </a:cubicBezTo>
                <a:cubicBezTo>
                  <a:pt x="11476" y="15459"/>
                  <a:pt x="11526" y="15565"/>
                  <a:pt x="11534" y="15677"/>
                </a:cubicBezTo>
                <a:cubicBezTo>
                  <a:pt x="11534" y="15701"/>
                  <a:pt x="11534" y="15710"/>
                  <a:pt x="11534" y="15726"/>
                </a:cubicBezTo>
              </a:path>
              <a:path w="16621" h="3920">
                <a:moveTo>
                  <a:pt x="9971" y="14759"/>
                </a:moveTo>
                <a:cubicBezTo>
                  <a:pt x="9980" y="14829"/>
                  <a:pt x="9996" y="14884"/>
                  <a:pt x="9996" y="14957"/>
                </a:cubicBezTo>
                <a:cubicBezTo>
                  <a:pt x="9996" y="15029"/>
                  <a:pt x="10016" y="15066"/>
                  <a:pt x="10021" y="15131"/>
                </a:cubicBezTo>
                <a:cubicBezTo>
                  <a:pt x="10021" y="15139"/>
                  <a:pt x="10021" y="15148"/>
                  <a:pt x="10021" y="15156"/>
                </a:cubicBezTo>
              </a:path>
              <a:path w="16621" h="3920">
                <a:moveTo>
                  <a:pt x="9872" y="14908"/>
                </a:moveTo>
                <a:cubicBezTo>
                  <a:pt x="9881" y="14881"/>
                  <a:pt x="9908" y="14869"/>
                  <a:pt x="9947" y="14883"/>
                </a:cubicBezTo>
                <a:cubicBezTo>
                  <a:pt x="10010" y="14906"/>
                  <a:pt x="10051" y="14908"/>
                  <a:pt x="10120" y="14908"/>
                </a:cubicBezTo>
                <a:cubicBezTo>
                  <a:pt x="10137" y="14908"/>
                  <a:pt x="10153" y="14908"/>
                  <a:pt x="10170" y="14908"/>
                </a:cubicBezTo>
              </a:path>
              <a:path w="16621" h="3920">
                <a:moveTo>
                  <a:pt x="11683" y="14833"/>
                </a:moveTo>
                <a:cubicBezTo>
                  <a:pt x="11733" y="14803"/>
                  <a:pt x="11770" y="14808"/>
                  <a:pt x="11832" y="14808"/>
                </a:cubicBezTo>
                <a:cubicBezTo>
                  <a:pt x="11910" y="14808"/>
                  <a:pt x="11991" y="14821"/>
                  <a:pt x="12055" y="14784"/>
                </a:cubicBezTo>
              </a:path>
              <a:path w="16621" h="3920">
                <a:moveTo>
                  <a:pt x="11782" y="14808"/>
                </a:moveTo>
                <a:cubicBezTo>
                  <a:pt x="11782" y="14941"/>
                  <a:pt x="11792" y="15014"/>
                  <a:pt x="11807" y="15131"/>
                </a:cubicBezTo>
              </a:path>
              <a:path w="16621" h="3920">
                <a:moveTo>
                  <a:pt x="11956" y="14932"/>
                </a:moveTo>
                <a:cubicBezTo>
                  <a:pt x="11969" y="15007"/>
                  <a:pt x="11998" y="15089"/>
                  <a:pt x="12005" y="15156"/>
                </a:cubicBezTo>
                <a:cubicBezTo>
                  <a:pt x="12005" y="15164"/>
                  <a:pt x="12005" y="15172"/>
                  <a:pt x="12005" y="15180"/>
                </a:cubicBezTo>
              </a:path>
              <a:path w="16621" h="3920">
                <a:moveTo>
                  <a:pt x="12328" y="14734"/>
                </a:moveTo>
                <a:cubicBezTo>
                  <a:pt x="12376" y="14798"/>
                  <a:pt x="12314" y="14888"/>
                  <a:pt x="12278" y="14957"/>
                </a:cubicBezTo>
                <a:cubicBezTo>
                  <a:pt x="12226" y="15056"/>
                  <a:pt x="12197" y="15152"/>
                  <a:pt x="12154" y="15255"/>
                </a:cubicBezTo>
                <a:cubicBezTo>
                  <a:pt x="12132" y="15308"/>
                  <a:pt x="12109" y="15372"/>
                  <a:pt x="12105" y="15429"/>
                </a:cubicBezTo>
                <a:cubicBezTo>
                  <a:pt x="12105" y="15470"/>
                  <a:pt x="12105" y="15478"/>
                  <a:pt x="12105" y="15503"/>
                </a:cubicBezTo>
              </a:path>
              <a:path w="16621" h="3920">
                <a:moveTo>
                  <a:pt x="12328" y="15230"/>
                </a:moveTo>
                <a:cubicBezTo>
                  <a:pt x="12328" y="15255"/>
                  <a:pt x="12328" y="15263"/>
                  <a:pt x="12328" y="15280"/>
                </a:cubicBezTo>
                <a:cubicBezTo>
                  <a:pt x="12357" y="15289"/>
                  <a:pt x="12365" y="15323"/>
                  <a:pt x="12402" y="15354"/>
                </a:cubicBezTo>
                <a:cubicBezTo>
                  <a:pt x="12444" y="15389"/>
                  <a:pt x="12435" y="15385"/>
                  <a:pt x="12477" y="15354"/>
                </a:cubicBezTo>
              </a:path>
              <a:path w="16621" h="3920">
                <a:moveTo>
                  <a:pt x="12551" y="15131"/>
                </a:moveTo>
                <a:cubicBezTo>
                  <a:pt x="12517" y="15226"/>
                  <a:pt x="12502" y="15278"/>
                  <a:pt x="12502" y="15379"/>
                </a:cubicBezTo>
                <a:cubicBezTo>
                  <a:pt x="12502" y="15495"/>
                  <a:pt x="12502" y="15610"/>
                  <a:pt x="12502" y="15726"/>
                </a:cubicBezTo>
              </a:path>
              <a:path w="16621" h="3920">
                <a:moveTo>
                  <a:pt x="8508" y="16173"/>
                </a:moveTo>
                <a:cubicBezTo>
                  <a:pt x="8514" y="16262"/>
                  <a:pt x="8533" y="16332"/>
                  <a:pt x="8533" y="16421"/>
                </a:cubicBezTo>
                <a:cubicBezTo>
                  <a:pt x="8533" y="16498"/>
                  <a:pt x="8558" y="16565"/>
                  <a:pt x="8558" y="16644"/>
                </a:cubicBezTo>
                <a:cubicBezTo>
                  <a:pt x="8558" y="16693"/>
                  <a:pt x="8558" y="16875"/>
                  <a:pt x="8558" y="16842"/>
                </a:cubicBezTo>
              </a:path>
              <a:path w="16621" h="3920">
                <a:moveTo>
                  <a:pt x="8855" y="16520"/>
                </a:moveTo>
                <a:cubicBezTo>
                  <a:pt x="8938" y="16520"/>
                  <a:pt x="8981" y="16501"/>
                  <a:pt x="9054" y="16495"/>
                </a:cubicBezTo>
                <a:cubicBezTo>
                  <a:pt x="9107" y="16491"/>
                  <a:pt x="9126" y="16489"/>
                  <a:pt x="9178" y="16470"/>
                </a:cubicBezTo>
              </a:path>
              <a:path w="16621" h="3920">
                <a:moveTo>
                  <a:pt x="9624" y="16197"/>
                </a:moveTo>
                <a:cubicBezTo>
                  <a:pt x="9659" y="16293"/>
                  <a:pt x="9674" y="16344"/>
                  <a:pt x="9674" y="16446"/>
                </a:cubicBezTo>
                <a:cubicBezTo>
                  <a:pt x="9674" y="16552"/>
                  <a:pt x="9683" y="16645"/>
                  <a:pt x="9699" y="16743"/>
                </a:cubicBezTo>
                <a:cubicBezTo>
                  <a:pt x="9704" y="16772"/>
                  <a:pt x="9699" y="16811"/>
                  <a:pt x="9699" y="16842"/>
                </a:cubicBezTo>
              </a:path>
              <a:path w="16621" h="3920">
                <a:moveTo>
                  <a:pt x="9475" y="16396"/>
                </a:moveTo>
                <a:cubicBezTo>
                  <a:pt x="9529" y="16396"/>
                  <a:pt x="9544" y="16418"/>
                  <a:pt x="9599" y="16421"/>
                </a:cubicBezTo>
                <a:cubicBezTo>
                  <a:pt x="9680" y="16425"/>
                  <a:pt x="9741" y="16446"/>
                  <a:pt x="9823" y="16446"/>
                </a:cubicBezTo>
              </a:path>
              <a:path w="16621" h="3920">
                <a:moveTo>
                  <a:pt x="9971" y="16396"/>
                </a:moveTo>
                <a:cubicBezTo>
                  <a:pt x="9960" y="16443"/>
                  <a:pt x="9915" y="16476"/>
                  <a:pt x="9897" y="16520"/>
                </a:cubicBezTo>
                <a:cubicBezTo>
                  <a:pt x="9877" y="16569"/>
                  <a:pt x="9890" y="16683"/>
                  <a:pt x="9922" y="16718"/>
                </a:cubicBezTo>
                <a:cubicBezTo>
                  <a:pt x="9955" y="16754"/>
                  <a:pt x="10002" y="16744"/>
                  <a:pt x="10021" y="16694"/>
                </a:cubicBezTo>
                <a:cubicBezTo>
                  <a:pt x="10048" y="16624"/>
                  <a:pt x="10046" y="16566"/>
                  <a:pt x="10046" y="16495"/>
                </a:cubicBezTo>
                <a:cubicBezTo>
                  <a:pt x="10046" y="16533"/>
                  <a:pt x="10056" y="16589"/>
                  <a:pt x="10071" y="16619"/>
                </a:cubicBezTo>
                <a:cubicBezTo>
                  <a:pt x="10094" y="16666"/>
                  <a:pt x="10150" y="16685"/>
                  <a:pt x="10195" y="16694"/>
                </a:cubicBezTo>
              </a:path>
              <a:path w="16621" h="3920">
                <a:moveTo>
                  <a:pt x="10269" y="16421"/>
                </a:moveTo>
                <a:cubicBezTo>
                  <a:pt x="10250" y="16501"/>
                  <a:pt x="10244" y="16541"/>
                  <a:pt x="10244" y="16619"/>
                </a:cubicBezTo>
                <a:cubicBezTo>
                  <a:pt x="10244" y="16659"/>
                  <a:pt x="10268" y="16685"/>
                  <a:pt x="10294" y="16694"/>
                </a:cubicBezTo>
                <a:cubicBezTo>
                  <a:pt x="10332" y="16637"/>
                  <a:pt x="10339" y="16575"/>
                  <a:pt x="10368" y="16520"/>
                </a:cubicBezTo>
                <a:cubicBezTo>
                  <a:pt x="10396" y="16467"/>
                  <a:pt x="10383" y="16379"/>
                  <a:pt x="10443" y="16346"/>
                </a:cubicBezTo>
                <a:cubicBezTo>
                  <a:pt x="10472" y="16330"/>
                  <a:pt x="10505" y="16322"/>
                  <a:pt x="10517" y="16346"/>
                </a:cubicBezTo>
                <a:cubicBezTo>
                  <a:pt x="10541" y="16393"/>
                  <a:pt x="10552" y="16468"/>
                  <a:pt x="10567" y="16520"/>
                </a:cubicBezTo>
                <a:cubicBezTo>
                  <a:pt x="10586" y="16586"/>
                  <a:pt x="10596" y="16668"/>
                  <a:pt x="10641" y="16718"/>
                </a:cubicBezTo>
                <a:cubicBezTo>
                  <a:pt x="10666" y="16743"/>
                  <a:pt x="10674" y="16751"/>
                  <a:pt x="10691" y="16718"/>
                </a:cubicBezTo>
              </a:path>
              <a:path w="16621" h="3920">
                <a:moveTo>
                  <a:pt x="10765" y="16148"/>
                </a:moveTo>
                <a:cubicBezTo>
                  <a:pt x="10866" y="16120"/>
                  <a:pt x="10892" y="16143"/>
                  <a:pt x="10988" y="16148"/>
                </a:cubicBezTo>
                <a:cubicBezTo>
                  <a:pt x="11033" y="16148"/>
                  <a:pt x="11046" y="16151"/>
                  <a:pt x="11063" y="16123"/>
                </a:cubicBezTo>
              </a:path>
              <a:path w="16621" h="3920">
                <a:moveTo>
                  <a:pt x="10864" y="16173"/>
                </a:moveTo>
                <a:cubicBezTo>
                  <a:pt x="10864" y="16228"/>
                  <a:pt x="10838" y="16404"/>
                  <a:pt x="10889" y="16421"/>
                </a:cubicBezTo>
              </a:path>
              <a:path w="16621" h="3920">
                <a:moveTo>
                  <a:pt x="10988" y="16272"/>
                </a:moveTo>
                <a:cubicBezTo>
                  <a:pt x="10990" y="16290"/>
                  <a:pt x="10999" y="16432"/>
                  <a:pt x="11013" y="16446"/>
                </a:cubicBezTo>
                <a:cubicBezTo>
                  <a:pt x="11021" y="16446"/>
                  <a:pt x="11030" y="16446"/>
                  <a:pt x="11038" y="16446"/>
                </a:cubicBezTo>
              </a:path>
              <a:path w="16621" h="3920">
                <a:moveTo>
                  <a:pt x="11261" y="16123"/>
                </a:moveTo>
                <a:cubicBezTo>
                  <a:pt x="11253" y="16218"/>
                  <a:pt x="11221" y="16281"/>
                  <a:pt x="11187" y="16371"/>
                </a:cubicBezTo>
                <a:cubicBezTo>
                  <a:pt x="11139" y="16499"/>
                  <a:pt x="11104" y="16605"/>
                  <a:pt x="11088" y="16743"/>
                </a:cubicBezTo>
                <a:cubicBezTo>
                  <a:pt x="11088" y="16788"/>
                  <a:pt x="11084" y="16801"/>
                  <a:pt x="11112" y="16818"/>
                </a:cubicBezTo>
              </a:path>
              <a:path w="16621" h="3920">
                <a:moveTo>
                  <a:pt x="11336" y="16570"/>
                </a:moveTo>
                <a:cubicBezTo>
                  <a:pt x="11308" y="16661"/>
                  <a:pt x="11275" y="16729"/>
                  <a:pt x="11311" y="16818"/>
                </a:cubicBezTo>
                <a:cubicBezTo>
                  <a:pt x="11346" y="16904"/>
                  <a:pt x="11402" y="16932"/>
                  <a:pt x="11460" y="16966"/>
                </a:cubicBezTo>
                <a:cubicBezTo>
                  <a:pt x="11507" y="16993"/>
                  <a:pt x="11542" y="17000"/>
                  <a:pt x="11584" y="16942"/>
                </a:cubicBezTo>
                <a:cubicBezTo>
                  <a:pt x="11606" y="16912"/>
                  <a:pt x="11628" y="16830"/>
                  <a:pt x="11609" y="16793"/>
                </a:cubicBezTo>
                <a:cubicBezTo>
                  <a:pt x="11586" y="16770"/>
                  <a:pt x="11578" y="16766"/>
                  <a:pt x="11584" y="16743"/>
                </a:cubicBezTo>
                <a:cubicBezTo>
                  <a:pt x="11555" y="16743"/>
                  <a:pt x="11500" y="16749"/>
                  <a:pt x="11485" y="16768"/>
                </a:cubicBezTo>
                <a:cubicBezTo>
                  <a:pt x="11450" y="16812"/>
                  <a:pt x="11441" y="16920"/>
                  <a:pt x="11460" y="16966"/>
                </a:cubicBezTo>
                <a:cubicBezTo>
                  <a:pt x="11485" y="16991"/>
                  <a:pt x="11493" y="16999"/>
                  <a:pt x="11509" y="17016"/>
                </a:cubicBezTo>
              </a:path>
              <a:path w="16621" h="3920">
                <a:moveTo>
                  <a:pt x="11807" y="16247"/>
                </a:moveTo>
                <a:cubicBezTo>
                  <a:pt x="11836" y="16323"/>
                  <a:pt x="11832" y="16387"/>
                  <a:pt x="11832" y="16470"/>
                </a:cubicBezTo>
                <a:cubicBezTo>
                  <a:pt x="11832" y="16577"/>
                  <a:pt x="11834" y="16669"/>
                  <a:pt x="11857" y="16768"/>
                </a:cubicBezTo>
                <a:cubicBezTo>
                  <a:pt x="11857" y="16776"/>
                  <a:pt x="11857" y="16785"/>
                  <a:pt x="11857" y="16793"/>
                </a:cubicBezTo>
              </a:path>
              <a:path w="16621" h="3920">
                <a:moveTo>
                  <a:pt x="11683" y="16470"/>
                </a:moveTo>
                <a:cubicBezTo>
                  <a:pt x="11798" y="16511"/>
                  <a:pt x="11866" y="16545"/>
                  <a:pt x="11981" y="16545"/>
                </a:cubicBezTo>
              </a:path>
              <a:path w="16621" h="3920">
                <a:moveTo>
                  <a:pt x="12154" y="16495"/>
                </a:moveTo>
                <a:cubicBezTo>
                  <a:pt x="12095" y="16510"/>
                  <a:pt x="12092" y="16546"/>
                  <a:pt x="12055" y="16594"/>
                </a:cubicBezTo>
                <a:cubicBezTo>
                  <a:pt x="12024" y="16635"/>
                  <a:pt x="12026" y="16671"/>
                  <a:pt x="12055" y="16718"/>
                </a:cubicBezTo>
                <a:cubicBezTo>
                  <a:pt x="12081" y="16761"/>
                  <a:pt x="12109" y="16768"/>
                  <a:pt x="12154" y="16768"/>
                </a:cubicBezTo>
                <a:cubicBezTo>
                  <a:pt x="12188" y="16768"/>
                  <a:pt x="12219" y="16700"/>
                  <a:pt x="12229" y="16669"/>
                </a:cubicBezTo>
                <a:cubicBezTo>
                  <a:pt x="12247" y="16614"/>
                  <a:pt x="12210" y="16616"/>
                  <a:pt x="12229" y="16669"/>
                </a:cubicBezTo>
                <a:cubicBezTo>
                  <a:pt x="12244" y="16710"/>
                  <a:pt x="12261" y="16795"/>
                  <a:pt x="12303" y="16818"/>
                </a:cubicBezTo>
                <a:cubicBezTo>
                  <a:pt x="12311" y="16818"/>
                  <a:pt x="12320" y="16818"/>
                  <a:pt x="12328" y="16818"/>
                </a:cubicBezTo>
              </a:path>
              <a:path w="16621" h="3920">
                <a:moveTo>
                  <a:pt x="12328" y="16470"/>
                </a:moveTo>
                <a:cubicBezTo>
                  <a:pt x="12348" y="16543"/>
                  <a:pt x="12366" y="16622"/>
                  <a:pt x="12378" y="16694"/>
                </a:cubicBezTo>
                <a:cubicBezTo>
                  <a:pt x="12378" y="16738"/>
                  <a:pt x="12375" y="16751"/>
                  <a:pt x="12402" y="16768"/>
                </a:cubicBezTo>
                <a:cubicBezTo>
                  <a:pt x="12437" y="16756"/>
                  <a:pt x="12435" y="16733"/>
                  <a:pt x="12452" y="16694"/>
                </a:cubicBezTo>
                <a:cubicBezTo>
                  <a:pt x="12478" y="16635"/>
                  <a:pt x="12477" y="16572"/>
                  <a:pt x="12502" y="16520"/>
                </a:cubicBezTo>
                <a:cubicBezTo>
                  <a:pt x="12519" y="16485"/>
                  <a:pt x="12524" y="16479"/>
                  <a:pt x="12551" y="16470"/>
                </a:cubicBezTo>
                <a:cubicBezTo>
                  <a:pt x="12600" y="16486"/>
                  <a:pt x="12584" y="16542"/>
                  <a:pt x="12601" y="16594"/>
                </a:cubicBezTo>
                <a:cubicBezTo>
                  <a:pt x="12617" y="16643"/>
                  <a:pt x="12662" y="16758"/>
                  <a:pt x="12700" y="16793"/>
                </a:cubicBezTo>
                <a:cubicBezTo>
                  <a:pt x="12756" y="16845"/>
                  <a:pt x="12748" y="16805"/>
                  <a:pt x="12774" y="16768"/>
                </a:cubicBezTo>
              </a:path>
              <a:path w="16621" h="3920">
                <a:moveTo>
                  <a:pt x="12799" y="16197"/>
                </a:moveTo>
                <a:cubicBezTo>
                  <a:pt x="12879" y="16197"/>
                  <a:pt x="12925" y="16210"/>
                  <a:pt x="12998" y="16222"/>
                </a:cubicBezTo>
                <a:cubicBezTo>
                  <a:pt x="13050" y="16231"/>
                  <a:pt x="13061" y="16224"/>
                  <a:pt x="13097" y="16197"/>
                </a:cubicBezTo>
              </a:path>
              <a:path w="16621" h="3920">
                <a:moveTo>
                  <a:pt x="12898" y="16247"/>
                </a:moveTo>
                <a:cubicBezTo>
                  <a:pt x="12898" y="16354"/>
                  <a:pt x="12894" y="16350"/>
                  <a:pt x="12923" y="16446"/>
                </a:cubicBezTo>
              </a:path>
              <a:path w="16621" h="3920">
                <a:moveTo>
                  <a:pt x="13022" y="16321"/>
                </a:moveTo>
                <a:cubicBezTo>
                  <a:pt x="13022" y="16398"/>
                  <a:pt x="13010" y="16397"/>
                  <a:pt x="13047" y="16446"/>
                </a:cubicBezTo>
              </a:path>
              <a:path w="16621" h="3920">
                <a:moveTo>
                  <a:pt x="13295" y="16098"/>
                </a:moveTo>
                <a:cubicBezTo>
                  <a:pt x="13276" y="16216"/>
                  <a:pt x="13238" y="16330"/>
                  <a:pt x="13221" y="16446"/>
                </a:cubicBezTo>
                <a:cubicBezTo>
                  <a:pt x="13208" y="16533"/>
                  <a:pt x="13194" y="16633"/>
                  <a:pt x="13171" y="16718"/>
                </a:cubicBezTo>
                <a:cubicBezTo>
                  <a:pt x="13152" y="16786"/>
                  <a:pt x="13146" y="16850"/>
                  <a:pt x="13122" y="16917"/>
                </a:cubicBezTo>
              </a:path>
              <a:path w="16621" h="3920">
                <a:moveTo>
                  <a:pt x="13295" y="16669"/>
                </a:moveTo>
                <a:cubicBezTo>
                  <a:pt x="13295" y="16694"/>
                  <a:pt x="13295" y="16702"/>
                  <a:pt x="13295" y="16718"/>
                </a:cubicBezTo>
                <a:cubicBezTo>
                  <a:pt x="13351" y="16732"/>
                  <a:pt x="13368" y="16792"/>
                  <a:pt x="13419" y="16818"/>
                </a:cubicBezTo>
                <a:cubicBezTo>
                  <a:pt x="13444" y="16818"/>
                  <a:pt x="13452" y="16818"/>
                  <a:pt x="13469" y="16818"/>
                </a:cubicBezTo>
              </a:path>
              <a:path w="16621" h="3920">
                <a:moveTo>
                  <a:pt x="13543" y="16520"/>
                </a:moveTo>
                <a:cubicBezTo>
                  <a:pt x="13499" y="16535"/>
                  <a:pt x="13508" y="16569"/>
                  <a:pt x="13494" y="16619"/>
                </a:cubicBezTo>
                <a:cubicBezTo>
                  <a:pt x="13469" y="16710"/>
                  <a:pt x="13451" y="16821"/>
                  <a:pt x="13469" y="16917"/>
                </a:cubicBezTo>
                <a:cubicBezTo>
                  <a:pt x="13483" y="16990"/>
                  <a:pt x="13490" y="17100"/>
                  <a:pt x="13519" y="17165"/>
                </a:cubicBezTo>
                <a:cubicBezTo>
                  <a:pt x="13527" y="17173"/>
                  <a:pt x="13535" y="17182"/>
                  <a:pt x="13543" y="17190"/>
                </a:cubicBezTo>
              </a:path>
              <a:path w="16621" h="3920">
                <a:moveTo>
                  <a:pt x="13643" y="15726"/>
                </a:moveTo>
                <a:cubicBezTo>
                  <a:pt x="13769" y="15766"/>
                  <a:pt x="13782" y="15776"/>
                  <a:pt x="13891" y="15776"/>
                </a:cubicBezTo>
              </a:path>
              <a:path w="16621" h="3920">
                <a:moveTo>
                  <a:pt x="13717" y="15925"/>
                </a:moveTo>
                <a:cubicBezTo>
                  <a:pt x="13807" y="15996"/>
                  <a:pt x="13850" y="16028"/>
                  <a:pt x="13965" y="16049"/>
                </a:cubicBezTo>
              </a:path>
              <a:path w="16621" h="3920">
                <a:moveTo>
                  <a:pt x="14436" y="14734"/>
                </a:moveTo>
                <a:cubicBezTo>
                  <a:pt x="14469" y="14778"/>
                  <a:pt x="14461" y="14800"/>
                  <a:pt x="14461" y="14858"/>
                </a:cubicBezTo>
                <a:cubicBezTo>
                  <a:pt x="14461" y="14869"/>
                  <a:pt x="14461" y="14972"/>
                  <a:pt x="14461" y="14908"/>
                </a:cubicBezTo>
                <a:cubicBezTo>
                  <a:pt x="14461" y="14789"/>
                  <a:pt x="14451" y="14664"/>
                  <a:pt x="14486" y="14560"/>
                </a:cubicBezTo>
                <a:cubicBezTo>
                  <a:pt x="14495" y="14535"/>
                  <a:pt x="14505" y="14513"/>
                  <a:pt x="14536" y="14511"/>
                </a:cubicBezTo>
                <a:cubicBezTo>
                  <a:pt x="14610" y="14505"/>
                  <a:pt x="14674" y="14524"/>
                  <a:pt x="14734" y="14536"/>
                </a:cubicBezTo>
                <a:cubicBezTo>
                  <a:pt x="14799" y="14549"/>
                  <a:pt x="14783" y="14524"/>
                  <a:pt x="14833" y="14560"/>
                </a:cubicBezTo>
              </a:path>
              <a:path w="16621" h="3920">
                <a:moveTo>
                  <a:pt x="14635" y="14709"/>
                </a:moveTo>
                <a:cubicBezTo>
                  <a:pt x="14691" y="14709"/>
                  <a:pt x="14668" y="14689"/>
                  <a:pt x="14709" y="14684"/>
                </a:cubicBezTo>
                <a:cubicBezTo>
                  <a:pt x="14741" y="14680"/>
                  <a:pt x="14785" y="14714"/>
                  <a:pt x="14808" y="14734"/>
                </a:cubicBezTo>
                <a:cubicBezTo>
                  <a:pt x="14829" y="14753"/>
                  <a:pt x="14850" y="14803"/>
                  <a:pt x="14833" y="14833"/>
                </a:cubicBezTo>
                <a:cubicBezTo>
                  <a:pt x="14815" y="14865"/>
                  <a:pt x="14698" y="14858"/>
                  <a:pt x="14734" y="14858"/>
                </a:cubicBezTo>
                <a:cubicBezTo>
                  <a:pt x="14754" y="14858"/>
                  <a:pt x="14824" y="14898"/>
                  <a:pt x="14833" y="14908"/>
                </a:cubicBezTo>
                <a:cubicBezTo>
                  <a:pt x="14849" y="14928"/>
                  <a:pt x="14875" y="15002"/>
                  <a:pt x="14858" y="15032"/>
                </a:cubicBezTo>
                <a:cubicBezTo>
                  <a:pt x="14834" y="15074"/>
                  <a:pt x="14802" y="15081"/>
                  <a:pt x="14759" y="15081"/>
                </a:cubicBezTo>
                <a:cubicBezTo>
                  <a:pt x="14705" y="15081"/>
                  <a:pt x="14687" y="15079"/>
                  <a:pt x="14635" y="15056"/>
                </a:cubicBezTo>
              </a:path>
              <a:path w="16621" h="3920">
                <a:moveTo>
                  <a:pt x="14337" y="15106"/>
                </a:moveTo>
                <a:cubicBezTo>
                  <a:pt x="14439" y="15136"/>
                  <a:pt x="14534" y="15157"/>
                  <a:pt x="14635" y="15180"/>
                </a:cubicBezTo>
                <a:cubicBezTo>
                  <a:pt x="14715" y="15198"/>
                  <a:pt x="14807" y="15185"/>
                  <a:pt x="14883" y="15205"/>
                </a:cubicBezTo>
                <a:cubicBezTo>
                  <a:pt x="14931" y="15229"/>
                  <a:pt x="14945" y="15238"/>
                  <a:pt x="14982" y="15230"/>
                </a:cubicBezTo>
              </a:path>
              <a:path w="16621" h="3920">
                <a:moveTo>
                  <a:pt x="14610" y="15429"/>
                </a:moveTo>
                <a:cubicBezTo>
                  <a:pt x="14654" y="15396"/>
                  <a:pt x="14676" y="15404"/>
                  <a:pt x="14734" y="15404"/>
                </a:cubicBezTo>
                <a:cubicBezTo>
                  <a:pt x="14788" y="15404"/>
                  <a:pt x="14818" y="15395"/>
                  <a:pt x="14858" y="15429"/>
                </a:cubicBezTo>
                <a:cubicBezTo>
                  <a:pt x="14881" y="15451"/>
                  <a:pt x="14889" y="15456"/>
                  <a:pt x="14883" y="15478"/>
                </a:cubicBezTo>
                <a:cubicBezTo>
                  <a:pt x="14866" y="15491"/>
                  <a:pt x="14790" y="15518"/>
                  <a:pt x="14784" y="15528"/>
                </a:cubicBezTo>
                <a:cubicBezTo>
                  <a:pt x="14784" y="15553"/>
                  <a:pt x="14784" y="15561"/>
                  <a:pt x="14759" y="15553"/>
                </a:cubicBezTo>
                <a:cubicBezTo>
                  <a:pt x="14787" y="15573"/>
                  <a:pt x="14826" y="15613"/>
                  <a:pt x="14858" y="15627"/>
                </a:cubicBezTo>
                <a:cubicBezTo>
                  <a:pt x="14906" y="15648"/>
                  <a:pt x="14926" y="15663"/>
                  <a:pt x="14932" y="15726"/>
                </a:cubicBezTo>
                <a:cubicBezTo>
                  <a:pt x="14934" y="15746"/>
                  <a:pt x="14905" y="15818"/>
                  <a:pt x="14883" y="15825"/>
                </a:cubicBezTo>
                <a:cubicBezTo>
                  <a:pt x="14850" y="15835"/>
                  <a:pt x="14727" y="15837"/>
                  <a:pt x="14709" y="15801"/>
                </a:cubicBezTo>
                <a:cubicBezTo>
                  <a:pt x="14690" y="15763"/>
                  <a:pt x="14675" y="15693"/>
                  <a:pt x="14660" y="15652"/>
                </a:cubicBezTo>
              </a:path>
              <a:path w="16621" h="3920">
                <a:moveTo>
                  <a:pt x="15379" y="15081"/>
                </a:moveTo>
                <a:cubicBezTo>
                  <a:pt x="15396" y="15185"/>
                  <a:pt x="15421" y="15284"/>
                  <a:pt x="15429" y="15379"/>
                </a:cubicBezTo>
                <a:cubicBezTo>
                  <a:pt x="15431" y="15403"/>
                  <a:pt x="15429" y="15429"/>
                  <a:pt x="15429" y="15453"/>
                </a:cubicBezTo>
              </a:path>
              <a:path w="16621" h="3920">
                <a:moveTo>
                  <a:pt x="15280" y="15304"/>
                </a:moveTo>
                <a:cubicBezTo>
                  <a:pt x="15388" y="15275"/>
                  <a:pt x="15421" y="15289"/>
                  <a:pt x="15528" y="15304"/>
                </a:cubicBezTo>
                <a:cubicBezTo>
                  <a:pt x="15544" y="15304"/>
                  <a:pt x="15561" y="15304"/>
                  <a:pt x="15577" y="15304"/>
                </a:cubicBezTo>
              </a:path>
              <a:path w="16621" h="3920">
                <a:moveTo>
                  <a:pt x="16024" y="14957"/>
                </a:moveTo>
                <a:cubicBezTo>
                  <a:pt x="16002" y="15089"/>
                  <a:pt x="16004" y="15158"/>
                  <a:pt x="16024" y="15280"/>
                </a:cubicBezTo>
                <a:cubicBezTo>
                  <a:pt x="16035" y="15350"/>
                  <a:pt x="16024" y="15431"/>
                  <a:pt x="16024" y="15503"/>
                </a:cubicBezTo>
              </a:path>
              <a:path w="16621" h="3920">
                <a:moveTo>
                  <a:pt x="16545" y="16098"/>
                </a:moveTo>
                <a:cubicBezTo>
                  <a:pt x="16416" y="16117"/>
                  <a:pt x="16303" y="16123"/>
                  <a:pt x="16173" y="16123"/>
                </a:cubicBezTo>
                <a:cubicBezTo>
                  <a:pt x="15864" y="16123"/>
                  <a:pt x="14946" y="15958"/>
                  <a:pt x="14709" y="16148"/>
                </a:cubicBezTo>
                <a:cubicBezTo>
                  <a:pt x="14687" y="16170"/>
                  <a:pt x="14682" y="16179"/>
                  <a:pt x="14660" y="16173"/>
                </a:cubicBezTo>
              </a:path>
              <a:path w="16621" h="3920">
                <a:moveTo>
                  <a:pt x="14908" y="16421"/>
                </a:moveTo>
                <a:cubicBezTo>
                  <a:pt x="14908" y="16630"/>
                  <a:pt x="14910" y="16836"/>
                  <a:pt x="14932" y="17041"/>
                </a:cubicBezTo>
                <a:cubicBezTo>
                  <a:pt x="14940" y="17118"/>
                  <a:pt x="14937" y="17173"/>
                  <a:pt x="14957" y="17239"/>
                </a:cubicBezTo>
                <a:cubicBezTo>
                  <a:pt x="14957" y="17247"/>
                  <a:pt x="14957" y="17256"/>
                  <a:pt x="14957" y="17264"/>
                </a:cubicBezTo>
              </a:path>
              <a:path w="16621" h="3920">
                <a:moveTo>
                  <a:pt x="15081" y="16917"/>
                </a:moveTo>
                <a:cubicBezTo>
                  <a:pt x="15166" y="16890"/>
                  <a:pt x="15223" y="16842"/>
                  <a:pt x="15304" y="16818"/>
                </a:cubicBezTo>
                <a:cubicBezTo>
                  <a:pt x="15321" y="16818"/>
                  <a:pt x="15337" y="16818"/>
                  <a:pt x="15354" y="16818"/>
                </a:cubicBezTo>
              </a:path>
              <a:path w="16621" h="3920">
                <a:moveTo>
                  <a:pt x="15751" y="16545"/>
                </a:moveTo>
                <a:cubicBezTo>
                  <a:pt x="15751" y="16608"/>
                  <a:pt x="15760" y="16642"/>
                  <a:pt x="15776" y="16694"/>
                </a:cubicBezTo>
                <a:cubicBezTo>
                  <a:pt x="15782" y="16714"/>
                  <a:pt x="15776" y="16747"/>
                  <a:pt x="15776" y="16768"/>
                </a:cubicBezTo>
              </a:path>
              <a:path w="16621" h="3920">
                <a:moveTo>
                  <a:pt x="15776" y="16743"/>
                </a:moveTo>
                <a:cubicBezTo>
                  <a:pt x="15756" y="16669"/>
                  <a:pt x="15751" y="16620"/>
                  <a:pt x="15751" y="16545"/>
                </a:cubicBezTo>
                <a:cubicBezTo>
                  <a:pt x="15751" y="16499"/>
                  <a:pt x="15771" y="16486"/>
                  <a:pt x="15776" y="16446"/>
                </a:cubicBezTo>
                <a:cubicBezTo>
                  <a:pt x="15780" y="16414"/>
                  <a:pt x="15793" y="16402"/>
                  <a:pt x="15801" y="16371"/>
                </a:cubicBezTo>
                <a:cubicBezTo>
                  <a:pt x="15838" y="16358"/>
                  <a:pt x="15822" y="16346"/>
                  <a:pt x="15875" y="16346"/>
                </a:cubicBezTo>
                <a:cubicBezTo>
                  <a:pt x="15948" y="16346"/>
                  <a:pt x="15989" y="16351"/>
                  <a:pt x="16049" y="16371"/>
                </a:cubicBezTo>
                <a:cubicBezTo>
                  <a:pt x="16068" y="16377"/>
                  <a:pt x="16103" y="16371"/>
                  <a:pt x="16123" y="16371"/>
                </a:cubicBezTo>
              </a:path>
              <a:path w="16621" h="3920">
                <a:moveTo>
                  <a:pt x="16024" y="16545"/>
                </a:moveTo>
                <a:cubicBezTo>
                  <a:pt x="16007" y="16553"/>
                  <a:pt x="15991" y="16562"/>
                  <a:pt x="15974" y="16570"/>
                </a:cubicBezTo>
                <a:cubicBezTo>
                  <a:pt x="16023" y="16554"/>
                  <a:pt x="16010" y="16551"/>
                  <a:pt x="16073" y="16570"/>
                </a:cubicBezTo>
                <a:cubicBezTo>
                  <a:pt x="16114" y="16582"/>
                  <a:pt x="16143" y="16596"/>
                  <a:pt x="16148" y="16644"/>
                </a:cubicBezTo>
                <a:cubicBezTo>
                  <a:pt x="16151" y="16675"/>
                  <a:pt x="16138" y="16711"/>
                  <a:pt x="16123" y="16718"/>
                </a:cubicBezTo>
                <a:cubicBezTo>
                  <a:pt x="16108" y="16725"/>
                  <a:pt x="16066" y="16718"/>
                  <a:pt x="16049" y="16718"/>
                </a:cubicBezTo>
                <a:cubicBezTo>
                  <a:pt x="16049" y="16753"/>
                  <a:pt x="16055" y="16792"/>
                  <a:pt x="16073" y="16818"/>
                </a:cubicBezTo>
                <a:cubicBezTo>
                  <a:pt x="16094" y="16849"/>
                  <a:pt x="16155" y="16908"/>
                  <a:pt x="16148" y="16942"/>
                </a:cubicBezTo>
                <a:cubicBezTo>
                  <a:pt x="16140" y="16950"/>
                  <a:pt x="16131" y="16958"/>
                  <a:pt x="16123" y="16966"/>
                </a:cubicBezTo>
                <a:cubicBezTo>
                  <a:pt x="16073" y="16966"/>
                  <a:pt x="16069" y="16952"/>
                  <a:pt x="16049" y="16942"/>
                </a:cubicBezTo>
                <a:cubicBezTo>
                  <a:pt x="16010" y="16923"/>
                  <a:pt x="15984" y="16902"/>
                  <a:pt x="15949" y="16867"/>
                </a:cubicBezTo>
              </a:path>
              <a:path w="16621" h="3920">
                <a:moveTo>
                  <a:pt x="16346" y="16942"/>
                </a:moveTo>
                <a:cubicBezTo>
                  <a:pt x="16319" y="16995"/>
                  <a:pt x="16258" y="16995"/>
                  <a:pt x="16197" y="17016"/>
                </a:cubicBezTo>
                <a:cubicBezTo>
                  <a:pt x="16131" y="17039"/>
                  <a:pt x="16065" y="17074"/>
                  <a:pt x="15999" y="17090"/>
                </a:cubicBezTo>
                <a:cubicBezTo>
                  <a:pt x="15975" y="17096"/>
                  <a:pt x="15921" y="17103"/>
                  <a:pt x="15900" y="17115"/>
                </a:cubicBezTo>
                <a:cubicBezTo>
                  <a:pt x="15877" y="17138"/>
                  <a:pt x="15873" y="17146"/>
                  <a:pt x="15850" y="17140"/>
                </a:cubicBezTo>
              </a:path>
              <a:path w="16621" h="3920">
                <a:moveTo>
                  <a:pt x="16321" y="17239"/>
                </a:moveTo>
                <a:cubicBezTo>
                  <a:pt x="16366" y="17264"/>
                  <a:pt x="16409" y="17279"/>
                  <a:pt x="16421" y="17314"/>
                </a:cubicBezTo>
                <a:cubicBezTo>
                  <a:pt x="16382" y="17323"/>
                  <a:pt x="16365" y="17338"/>
                  <a:pt x="16321" y="17338"/>
                </a:cubicBezTo>
                <a:cubicBezTo>
                  <a:pt x="16296" y="17338"/>
                  <a:pt x="16272" y="17338"/>
                  <a:pt x="16247" y="17338"/>
                </a:cubicBezTo>
                <a:cubicBezTo>
                  <a:pt x="16286" y="17377"/>
                  <a:pt x="16367" y="17431"/>
                  <a:pt x="16371" y="17487"/>
                </a:cubicBezTo>
                <a:cubicBezTo>
                  <a:pt x="16375" y="17539"/>
                  <a:pt x="16379" y="17574"/>
                  <a:pt x="16346" y="17611"/>
                </a:cubicBezTo>
                <a:cubicBezTo>
                  <a:pt x="16315" y="17645"/>
                  <a:pt x="16290" y="17636"/>
                  <a:pt x="16247" y="17636"/>
                </a:cubicBezTo>
                <a:cubicBezTo>
                  <a:pt x="16219" y="17636"/>
                  <a:pt x="16148" y="17603"/>
                  <a:pt x="16123" y="17587"/>
                </a:cubicBezTo>
                <a:cubicBezTo>
                  <a:pt x="16089" y="17565"/>
                  <a:pt x="16056" y="17538"/>
                  <a:pt x="16024" y="17512"/>
                </a:cubicBezTo>
              </a:path>
              <a:path w="16621" h="3920">
                <a:moveTo>
                  <a:pt x="15776" y="14808"/>
                </a:moveTo>
                <a:cubicBezTo>
                  <a:pt x="15788" y="14772"/>
                  <a:pt x="15799" y="14779"/>
                  <a:pt x="15825" y="14759"/>
                </a:cubicBezTo>
                <a:cubicBezTo>
                  <a:pt x="15882" y="14715"/>
                  <a:pt x="15882" y="14742"/>
                  <a:pt x="15949" y="14759"/>
                </a:cubicBezTo>
                <a:cubicBezTo>
                  <a:pt x="15999" y="14772"/>
                  <a:pt x="16043" y="14776"/>
                  <a:pt x="16049" y="14833"/>
                </a:cubicBezTo>
                <a:cubicBezTo>
                  <a:pt x="16053" y="14873"/>
                  <a:pt x="16000" y="14866"/>
                  <a:pt x="15974" y="14883"/>
                </a:cubicBezTo>
                <a:cubicBezTo>
                  <a:pt x="15934" y="14910"/>
                  <a:pt x="15925" y="14908"/>
                  <a:pt x="15875" y="14908"/>
                </a:cubicBezTo>
                <a:cubicBezTo>
                  <a:pt x="15912" y="14935"/>
                  <a:pt x="15938" y="14946"/>
                  <a:pt x="15974" y="14982"/>
                </a:cubicBezTo>
                <a:cubicBezTo>
                  <a:pt x="16016" y="15024"/>
                  <a:pt x="16099" y="15083"/>
                  <a:pt x="16073" y="15156"/>
                </a:cubicBezTo>
                <a:cubicBezTo>
                  <a:pt x="16060" y="15194"/>
                  <a:pt x="16004" y="15180"/>
                  <a:pt x="15974" y="15180"/>
                </a:cubicBezTo>
              </a:path>
              <a:path w="16621" h="3920">
                <a:moveTo>
                  <a:pt x="15801" y="15255"/>
                </a:moveTo>
                <a:cubicBezTo>
                  <a:pt x="15868" y="15255"/>
                  <a:pt x="15913" y="15270"/>
                  <a:pt x="15974" y="15280"/>
                </a:cubicBezTo>
                <a:cubicBezTo>
                  <a:pt x="16044" y="15292"/>
                  <a:pt x="16128" y="15287"/>
                  <a:pt x="16197" y="15304"/>
                </a:cubicBezTo>
                <a:cubicBezTo>
                  <a:pt x="16279" y="15324"/>
                  <a:pt x="16284" y="15337"/>
                  <a:pt x="16371" y="15304"/>
                </a:cubicBezTo>
              </a:path>
              <a:path w="16621" h="3920">
                <a:moveTo>
                  <a:pt x="15974" y="15429"/>
                </a:moveTo>
                <a:cubicBezTo>
                  <a:pt x="16028" y="15429"/>
                  <a:pt x="16046" y="15440"/>
                  <a:pt x="16098" y="15453"/>
                </a:cubicBezTo>
                <a:cubicBezTo>
                  <a:pt x="16154" y="15467"/>
                  <a:pt x="16184" y="15472"/>
                  <a:pt x="16197" y="15528"/>
                </a:cubicBezTo>
                <a:cubicBezTo>
                  <a:pt x="16167" y="15551"/>
                  <a:pt x="16137" y="15574"/>
                  <a:pt x="16098" y="15577"/>
                </a:cubicBezTo>
                <a:cubicBezTo>
                  <a:pt x="16043" y="15581"/>
                  <a:pt x="16001" y="15586"/>
                  <a:pt x="16024" y="15602"/>
                </a:cubicBezTo>
                <a:cubicBezTo>
                  <a:pt x="16071" y="15636"/>
                  <a:pt x="16089" y="15660"/>
                  <a:pt x="16123" y="15701"/>
                </a:cubicBezTo>
                <a:cubicBezTo>
                  <a:pt x="16154" y="15739"/>
                  <a:pt x="16196" y="15795"/>
                  <a:pt x="16173" y="15850"/>
                </a:cubicBezTo>
                <a:cubicBezTo>
                  <a:pt x="16161" y="15878"/>
                  <a:pt x="16098" y="15917"/>
                  <a:pt x="16073" y="15925"/>
                </a:cubicBezTo>
                <a:cubicBezTo>
                  <a:pt x="16021" y="15943"/>
                  <a:pt x="15963" y="15908"/>
                  <a:pt x="15925" y="15900"/>
                </a:cubicBezTo>
                <a:cubicBezTo>
                  <a:pt x="15880" y="15900"/>
                  <a:pt x="15867" y="15903"/>
                  <a:pt x="15850" y="15875"/>
                </a:cubicBezTo>
              </a:path>
              <a:path w="16621" h="3920">
                <a:moveTo>
                  <a:pt x="14536" y="16272"/>
                </a:moveTo>
                <a:cubicBezTo>
                  <a:pt x="14599" y="16272"/>
                  <a:pt x="14627" y="16287"/>
                  <a:pt x="14684" y="16297"/>
                </a:cubicBezTo>
                <a:cubicBezTo>
                  <a:pt x="14738" y="16307"/>
                  <a:pt x="14811" y="16318"/>
                  <a:pt x="14858" y="16346"/>
                </a:cubicBezTo>
                <a:cubicBezTo>
                  <a:pt x="14894" y="16368"/>
                  <a:pt x="14882" y="16430"/>
                  <a:pt x="14858" y="16446"/>
                </a:cubicBezTo>
                <a:cubicBezTo>
                  <a:pt x="14834" y="16462"/>
                  <a:pt x="14779" y="16464"/>
                  <a:pt x="14759" y="16470"/>
                </a:cubicBezTo>
                <a:cubicBezTo>
                  <a:pt x="14815" y="16513"/>
                  <a:pt x="14848" y="16533"/>
                  <a:pt x="14908" y="16594"/>
                </a:cubicBezTo>
                <a:cubicBezTo>
                  <a:pt x="14936" y="16622"/>
                  <a:pt x="14955" y="16695"/>
                  <a:pt x="14908" y="16718"/>
                </a:cubicBezTo>
                <a:cubicBezTo>
                  <a:pt x="14860" y="16742"/>
                  <a:pt x="14739" y="16718"/>
                  <a:pt x="14684" y="16718"/>
                </a:cubicBezTo>
              </a:path>
              <a:path w="16621" h="3920">
                <a:moveTo>
                  <a:pt x="14461" y="16718"/>
                </a:moveTo>
                <a:cubicBezTo>
                  <a:pt x="14531" y="16718"/>
                  <a:pt x="14647" y="16715"/>
                  <a:pt x="14709" y="16743"/>
                </a:cubicBezTo>
                <a:cubicBezTo>
                  <a:pt x="14841" y="16802"/>
                  <a:pt x="14845" y="16842"/>
                  <a:pt x="14982" y="16842"/>
                </a:cubicBezTo>
                <a:cubicBezTo>
                  <a:pt x="14990" y="16842"/>
                  <a:pt x="14999" y="16842"/>
                  <a:pt x="15007" y="16842"/>
                </a:cubicBezTo>
              </a:path>
              <a:path w="16621" h="3920">
                <a:moveTo>
                  <a:pt x="14709" y="17066"/>
                </a:moveTo>
                <a:cubicBezTo>
                  <a:pt x="14755" y="17099"/>
                  <a:pt x="14781" y="17096"/>
                  <a:pt x="14833" y="17115"/>
                </a:cubicBezTo>
                <a:cubicBezTo>
                  <a:pt x="14900" y="17139"/>
                  <a:pt x="14925" y="17167"/>
                  <a:pt x="14957" y="17214"/>
                </a:cubicBezTo>
                <a:cubicBezTo>
                  <a:pt x="14965" y="17222"/>
                  <a:pt x="14974" y="17231"/>
                  <a:pt x="14982" y="17239"/>
                </a:cubicBezTo>
                <a:cubicBezTo>
                  <a:pt x="14938" y="17274"/>
                  <a:pt x="14914" y="17289"/>
                  <a:pt x="14858" y="17289"/>
                </a:cubicBezTo>
                <a:cubicBezTo>
                  <a:pt x="14833" y="17289"/>
                  <a:pt x="14825" y="17289"/>
                  <a:pt x="14808" y="17289"/>
                </a:cubicBezTo>
                <a:cubicBezTo>
                  <a:pt x="14838" y="17328"/>
                  <a:pt x="14858" y="17366"/>
                  <a:pt x="14883" y="17413"/>
                </a:cubicBezTo>
                <a:cubicBezTo>
                  <a:pt x="14915" y="17472"/>
                  <a:pt x="14922" y="17529"/>
                  <a:pt x="14883" y="17587"/>
                </a:cubicBezTo>
                <a:cubicBezTo>
                  <a:pt x="14856" y="17626"/>
                  <a:pt x="14803" y="17650"/>
                  <a:pt x="14759" y="17661"/>
                </a:cubicBezTo>
                <a:cubicBezTo>
                  <a:pt x="14701" y="17676"/>
                  <a:pt x="14633" y="17643"/>
                  <a:pt x="14610" y="17587"/>
                </a:cubicBezTo>
                <a:cubicBezTo>
                  <a:pt x="14602" y="17554"/>
                  <a:pt x="14593" y="17520"/>
                  <a:pt x="14585" y="17487"/>
                </a:cubicBezTo>
              </a:path>
              <a:path w="16621" h="3920">
                <a:moveTo>
                  <a:pt x="17090" y="16073"/>
                </a:moveTo>
                <a:cubicBezTo>
                  <a:pt x="17159" y="16073"/>
                  <a:pt x="17201" y="16083"/>
                  <a:pt x="17264" y="16098"/>
                </a:cubicBezTo>
                <a:cubicBezTo>
                  <a:pt x="17305" y="16098"/>
                  <a:pt x="17330" y="16098"/>
                  <a:pt x="17363" y="16098"/>
                </a:cubicBezTo>
              </a:path>
              <a:path w="16621" h="3920">
                <a:moveTo>
                  <a:pt x="17115" y="16247"/>
                </a:moveTo>
                <a:cubicBezTo>
                  <a:pt x="17200" y="16293"/>
                  <a:pt x="17226" y="16321"/>
                  <a:pt x="17314" y="16321"/>
                </a:cubicBezTo>
              </a:path>
              <a:path w="16621" h="3920">
                <a:moveTo>
                  <a:pt x="17587" y="15503"/>
                </a:moveTo>
                <a:cubicBezTo>
                  <a:pt x="17587" y="15564"/>
                  <a:pt x="17608" y="15602"/>
                  <a:pt x="17611" y="15652"/>
                </a:cubicBezTo>
                <a:cubicBezTo>
                  <a:pt x="17613" y="15684"/>
                  <a:pt x="17611" y="15718"/>
                  <a:pt x="17611" y="15751"/>
                </a:cubicBezTo>
                <a:cubicBezTo>
                  <a:pt x="17611" y="15603"/>
                  <a:pt x="17542" y="15236"/>
                  <a:pt x="17636" y="15131"/>
                </a:cubicBezTo>
                <a:cubicBezTo>
                  <a:pt x="17672" y="15090"/>
                  <a:pt x="17734" y="15106"/>
                  <a:pt x="17785" y="15106"/>
                </a:cubicBezTo>
                <a:cubicBezTo>
                  <a:pt x="17832" y="15106"/>
                  <a:pt x="17875" y="15130"/>
                  <a:pt x="17909" y="15156"/>
                </a:cubicBezTo>
              </a:path>
              <a:path w="16621" h="3920">
                <a:moveTo>
                  <a:pt x="17760" y="15379"/>
                </a:moveTo>
                <a:cubicBezTo>
                  <a:pt x="17829" y="15379"/>
                  <a:pt x="17869" y="15388"/>
                  <a:pt x="17934" y="15404"/>
                </a:cubicBezTo>
                <a:cubicBezTo>
                  <a:pt x="17963" y="15411"/>
                  <a:pt x="18046" y="15452"/>
                  <a:pt x="18008" y="15503"/>
                </a:cubicBezTo>
                <a:cubicBezTo>
                  <a:pt x="17980" y="15542"/>
                  <a:pt x="17904" y="15553"/>
                  <a:pt x="17859" y="15553"/>
                </a:cubicBezTo>
                <a:cubicBezTo>
                  <a:pt x="17869" y="15582"/>
                  <a:pt x="17902" y="15595"/>
                  <a:pt x="17934" y="15627"/>
                </a:cubicBezTo>
                <a:cubicBezTo>
                  <a:pt x="17956" y="15649"/>
                  <a:pt x="17996" y="15718"/>
                  <a:pt x="17983" y="15751"/>
                </a:cubicBezTo>
                <a:cubicBezTo>
                  <a:pt x="17966" y="15796"/>
                  <a:pt x="17923" y="15801"/>
                  <a:pt x="17884" y="15801"/>
                </a:cubicBezTo>
                <a:cubicBezTo>
                  <a:pt x="17838" y="15801"/>
                  <a:pt x="17800" y="15746"/>
                  <a:pt x="17785" y="15726"/>
                </a:cubicBezTo>
                <a:cubicBezTo>
                  <a:pt x="17777" y="15718"/>
                  <a:pt x="17768" y="15709"/>
                  <a:pt x="17760" y="15701"/>
                </a:cubicBezTo>
              </a:path>
              <a:path w="16621" h="3920">
                <a:moveTo>
                  <a:pt x="18331" y="15429"/>
                </a:moveTo>
                <a:cubicBezTo>
                  <a:pt x="18345" y="15527"/>
                  <a:pt x="18353" y="15599"/>
                  <a:pt x="18380" y="15677"/>
                </a:cubicBezTo>
                <a:cubicBezTo>
                  <a:pt x="18386" y="15696"/>
                  <a:pt x="18380" y="15731"/>
                  <a:pt x="18380" y="15751"/>
                </a:cubicBezTo>
              </a:path>
              <a:path w="16621" h="3920">
                <a:moveTo>
                  <a:pt x="18182" y="15577"/>
                </a:moveTo>
                <a:cubicBezTo>
                  <a:pt x="18270" y="15604"/>
                  <a:pt x="18319" y="15621"/>
                  <a:pt x="18405" y="15602"/>
                </a:cubicBezTo>
              </a:path>
              <a:path w="16621" h="3920">
                <a:moveTo>
                  <a:pt x="18579" y="15429"/>
                </a:moveTo>
                <a:cubicBezTo>
                  <a:pt x="18671" y="15429"/>
                  <a:pt x="18650" y="15427"/>
                  <a:pt x="18728" y="15478"/>
                </a:cubicBezTo>
                <a:cubicBezTo>
                  <a:pt x="18775" y="15509"/>
                  <a:pt x="18811" y="15537"/>
                  <a:pt x="18852" y="15577"/>
                </a:cubicBezTo>
                <a:cubicBezTo>
                  <a:pt x="18823" y="15606"/>
                  <a:pt x="18788" y="15640"/>
                  <a:pt x="18752" y="15652"/>
                </a:cubicBezTo>
                <a:cubicBezTo>
                  <a:pt x="18728" y="15652"/>
                  <a:pt x="18720" y="15652"/>
                  <a:pt x="18728" y="15677"/>
                </a:cubicBezTo>
                <a:cubicBezTo>
                  <a:pt x="18776" y="15713"/>
                  <a:pt x="18772" y="15726"/>
                  <a:pt x="18802" y="15776"/>
                </a:cubicBezTo>
                <a:cubicBezTo>
                  <a:pt x="18826" y="15815"/>
                  <a:pt x="18808" y="15846"/>
                  <a:pt x="18752" y="15850"/>
                </a:cubicBezTo>
                <a:cubicBezTo>
                  <a:pt x="18687" y="15855"/>
                  <a:pt x="18655" y="15839"/>
                  <a:pt x="18628" y="15825"/>
                </a:cubicBezTo>
                <a:cubicBezTo>
                  <a:pt x="18620" y="15825"/>
                  <a:pt x="18612" y="15825"/>
                  <a:pt x="18604" y="15825"/>
                </a:cubicBezTo>
              </a:path>
              <a:path w="16621" h="3920">
                <a:moveTo>
                  <a:pt x="19025" y="16049"/>
                </a:moveTo>
                <a:cubicBezTo>
                  <a:pt x="18896" y="16043"/>
                  <a:pt x="18756" y="16044"/>
                  <a:pt x="18628" y="16024"/>
                </a:cubicBezTo>
                <a:cubicBezTo>
                  <a:pt x="18497" y="16003"/>
                  <a:pt x="18364" y="15979"/>
                  <a:pt x="18231" y="15974"/>
                </a:cubicBezTo>
                <a:cubicBezTo>
                  <a:pt x="18081" y="15969"/>
                  <a:pt x="17916" y="15955"/>
                  <a:pt x="17785" y="15999"/>
                </a:cubicBezTo>
                <a:cubicBezTo>
                  <a:pt x="17777" y="15999"/>
                  <a:pt x="17768" y="15999"/>
                  <a:pt x="17760" y="15999"/>
                </a:cubicBezTo>
              </a:path>
              <a:path w="16621" h="3920">
                <a:moveTo>
                  <a:pt x="18182" y="16197"/>
                </a:moveTo>
                <a:cubicBezTo>
                  <a:pt x="18267" y="16228"/>
                  <a:pt x="18347" y="16240"/>
                  <a:pt x="18430" y="16272"/>
                </a:cubicBezTo>
                <a:cubicBezTo>
                  <a:pt x="18477" y="16290"/>
                  <a:pt x="18524" y="16322"/>
                  <a:pt x="18529" y="16371"/>
                </a:cubicBezTo>
                <a:cubicBezTo>
                  <a:pt x="18534" y="16413"/>
                  <a:pt x="18490" y="16442"/>
                  <a:pt x="18455" y="16446"/>
                </a:cubicBezTo>
                <a:cubicBezTo>
                  <a:pt x="18430" y="16446"/>
                  <a:pt x="18422" y="16446"/>
                  <a:pt x="18405" y="16446"/>
                </a:cubicBezTo>
                <a:cubicBezTo>
                  <a:pt x="18417" y="16479"/>
                  <a:pt x="18453" y="16478"/>
                  <a:pt x="18479" y="16520"/>
                </a:cubicBezTo>
                <a:cubicBezTo>
                  <a:pt x="18504" y="16559"/>
                  <a:pt x="18520" y="16601"/>
                  <a:pt x="18529" y="16644"/>
                </a:cubicBezTo>
                <a:cubicBezTo>
                  <a:pt x="18496" y="16664"/>
                  <a:pt x="18449" y="16685"/>
                  <a:pt x="18405" y="16669"/>
                </a:cubicBezTo>
                <a:cubicBezTo>
                  <a:pt x="18360" y="16653"/>
                  <a:pt x="18324" y="16624"/>
                  <a:pt x="18281" y="16619"/>
                </a:cubicBezTo>
                <a:cubicBezTo>
                  <a:pt x="18243" y="16615"/>
                  <a:pt x="18256" y="16577"/>
                  <a:pt x="18256" y="16619"/>
                </a:cubicBezTo>
              </a:path>
              <a:path w="16621" h="3920">
                <a:moveTo>
                  <a:pt x="19422" y="16842"/>
                </a:moveTo>
                <a:cubicBezTo>
                  <a:pt x="19485" y="16873"/>
                  <a:pt x="19516" y="16862"/>
                  <a:pt x="19447" y="16867"/>
                </a:cubicBezTo>
                <a:cubicBezTo>
                  <a:pt x="19373" y="16873"/>
                  <a:pt x="19315" y="16853"/>
                  <a:pt x="19248" y="16842"/>
                </a:cubicBezTo>
                <a:cubicBezTo>
                  <a:pt x="19173" y="16829"/>
                  <a:pt x="19075" y="16825"/>
                  <a:pt x="19000" y="16818"/>
                </a:cubicBezTo>
                <a:cubicBezTo>
                  <a:pt x="18854" y="16804"/>
                  <a:pt x="18700" y="16803"/>
                  <a:pt x="18554" y="16793"/>
                </a:cubicBezTo>
                <a:cubicBezTo>
                  <a:pt x="18420" y="16784"/>
                  <a:pt x="18293" y="16768"/>
                  <a:pt x="18157" y="16768"/>
                </a:cubicBezTo>
                <a:cubicBezTo>
                  <a:pt x="18043" y="16768"/>
                  <a:pt x="17941" y="16775"/>
                  <a:pt x="17835" y="16793"/>
                </a:cubicBezTo>
                <a:cubicBezTo>
                  <a:pt x="17765" y="16805"/>
                  <a:pt x="17721" y="16787"/>
                  <a:pt x="17661" y="16818"/>
                </a:cubicBezTo>
                <a:cubicBezTo>
                  <a:pt x="17636" y="16831"/>
                  <a:pt x="17638" y="16813"/>
                  <a:pt x="17611" y="16818"/>
                </a:cubicBezTo>
              </a:path>
              <a:path w="16621" h="3920">
                <a:moveTo>
                  <a:pt x="17760" y="17115"/>
                </a:moveTo>
                <a:cubicBezTo>
                  <a:pt x="17843" y="17115"/>
                  <a:pt x="17868" y="17115"/>
                  <a:pt x="17934" y="17165"/>
                </a:cubicBezTo>
                <a:cubicBezTo>
                  <a:pt x="17953" y="17179"/>
                  <a:pt x="18013" y="17264"/>
                  <a:pt x="17983" y="17289"/>
                </a:cubicBezTo>
                <a:cubicBezTo>
                  <a:pt x="17960" y="17308"/>
                  <a:pt x="17918" y="17314"/>
                  <a:pt x="17884" y="17314"/>
                </a:cubicBezTo>
                <a:cubicBezTo>
                  <a:pt x="17876" y="17314"/>
                  <a:pt x="17867" y="17314"/>
                  <a:pt x="17859" y="17314"/>
                </a:cubicBezTo>
                <a:cubicBezTo>
                  <a:pt x="17895" y="17349"/>
                  <a:pt x="17953" y="17388"/>
                  <a:pt x="17959" y="17438"/>
                </a:cubicBezTo>
                <a:cubicBezTo>
                  <a:pt x="17964" y="17478"/>
                  <a:pt x="17949" y="17519"/>
                  <a:pt x="17909" y="17537"/>
                </a:cubicBezTo>
                <a:cubicBezTo>
                  <a:pt x="17861" y="17558"/>
                  <a:pt x="17896" y="17544"/>
                  <a:pt x="17835" y="17537"/>
                </a:cubicBezTo>
                <a:cubicBezTo>
                  <a:pt x="17817" y="17535"/>
                  <a:pt x="17773" y="17490"/>
                  <a:pt x="17760" y="17462"/>
                </a:cubicBezTo>
                <a:cubicBezTo>
                  <a:pt x="17760" y="17454"/>
                  <a:pt x="17760" y="17446"/>
                  <a:pt x="17760" y="17438"/>
                </a:cubicBezTo>
              </a:path>
              <a:path w="16621" h="3920">
                <a:moveTo>
                  <a:pt x="18083" y="17338"/>
                </a:moveTo>
                <a:cubicBezTo>
                  <a:pt x="18205" y="17353"/>
                  <a:pt x="18204" y="17351"/>
                  <a:pt x="18306" y="17338"/>
                </a:cubicBezTo>
              </a:path>
              <a:path w="16621" h="3920">
                <a:moveTo>
                  <a:pt x="18554" y="17214"/>
                </a:moveTo>
                <a:cubicBezTo>
                  <a:pt x="18554" y="17307"/>
                  <a:pt x="18524" y="17464"/>
                  <a:pt x="18579" y="17537"/>
                </a:cubicBezTo>
                <a:cubicBezTo>
                  <a:pt x="18579" y="17603"/>
                  <a:pt x="18603" y="17476"/>
                  <a:pt x="18604" y="17462"/>
                </a:cubicBezTo>
                <a:cubicBezTo>
                  <a:pt x="18609" y="17392"/>
                  <a:pt x="18624" y="17332"/>
                  <a:pt x="18628" y="17264"/>
                </a:cubicBezTo>
                <a:cubicBezTo>
                  <a:pt x="18631" y="17207"/>
                  <a:pt x="18638" y="17121"/>
                  <a:pt x="18653" y="17066"/>
                </a:cubicBezTo>
                <a:cubicBezTo>
                  <a:pt x="18670" y="17004"/>
                  <a:pt x="18697" y="16991"/>
                  <a:pt x="18752" y="16991"/>
                </a:cubicBezTo>
                <a:cubicBezTo>
                  <a:pt x="18800" y="16991"/>
                  <a:pt x="18861" y="16992"/>
                  <a:pt x="18901" y="17016"/>
                </a:cubicBezTo>
                <a:cubicBezTo>
                  <a:pt x="18931" y="17046"/>
                  <a:pt x="18945" y="17057"/>
                  <a:pt x="18976" y="17066"/>
                </a:cubicBezTo>
              </a:path>
              <a:path w="16621" h="3920">
                <a:moveTo>
                  <a:pt x="18876" y="17239"/>
                </a:moveTo>
                <a:cubicBezTo>
                  <a:pt x="18904" y="17239"/>
                  <a:pt x="18985" y="17251"/>
                  <a:pt x="19000" y="17264"/>
                </a:cubicBezTo>
                <a:cubicBezTo>
                  <a:pt x="19018" y="17280"/>
                  <a:pt x="19025" y="17334"/>
                  <a:pt x="19025" y="17363"/>
                </a:cubicBezTo>
                <a:cubicBezTo>
                  <a:pt x="18980" y="17363"/>
                  <a:pt x="18967" y="17383"/>
                  <a:pt x="18926" y="17388"/>
                </a:cubicBezTo>
                <a:cubicBezTo>
                  <a:pt x="18901" y="17388"/>
                  <a:pt x="18893" y="17388"/>
                  <a:pt x="18876" y="17388"/>
                </a:cubicBezTo>
                <a:cubicBezTo>
                  <a:pt x="18887" y="17432"/>
                  <a:pt x="18917" y="17453"/>
                  <a:pt x="18951" y="17487"/>
                </a:cubicBezTo>
                <a:cubicBezTo>
                  <a:pt x="18977" y="17513"/>
                  <a:pt x="18998" y="17563"/>
                  <a:pt x="18951" y="17587"/>
                </a:cubicBezTo>
                <a:cubicBezTo>
                  <a:pt x="18911" y="17607"/>
                  <a:pt x="18879" y="17571"/>
                  <a:pt x="18852" y="17562"/>
                </a:cubicBezTo>
                <a:cubicBezTo>
                  <a:pt x="18843" y="17559"/>
                  <a:pt x="18755" y="17541"/>
                  <a:pt x="18752" y="17537"/>
                </a:cubicBezTo>
                <a:cubicBezTo>
                  <a:pt x="18743" y="17526"/>
                  <a:pt x="18714" y="17477"/>
                  <a:pt x="18752" y="17537"/>
                </a:cubicBezTo>
              </a:path>
              <a:path w="16621" h="3920">
                <a:moveTo>
                  <a:pt x="19248" y="17587"/>
                </a:moveTo>
                <a:cubicBezTo>
                  <a:pt x="19129" y="17629"/>
                  <a:pt x="19023" y="17638"/>
                  <a:pt x="18901" y="17661"/>
                </a:cubicBezTo>
                <a:cubicBezTo>
                  <a:pt x="18796" y="17681"/>
                  <a:pt x="18682" y="17712"/>
                  <a:pt x="18579" y="17735"/>
                </a:cubicBezTo>
                <a:cubicBezTo>
                  <a:pt x="18468" y="17760"/>
                  <a:pt x="18366" y="17765"/>
                  <a:pt x="18256" y="17785"/>
                </a:cubicBezTo>
                <a:cubicBezTo>
                  <a:pt x="18182" y="17798"/>
                  <a:pt x="18106" y="17830"/>
                  <a:pt x="18033" y="17835"/>
                </a:cubicBezTo>
                <a:cubicBezTo>
                  <a:pt x="18001" y="17837"/>
                  <a:pt x="17967" y="17835"/>
                  <a:pt x="17934" y="17835"/>
                </a:cubicBezTo>
              </a:path>
              <a:path w="16621" h="3920">
                <a:moveTo>
                  <a:pt x="18430" y="17859"/>
                </a:moveTo>
                <a:cubicBezTo>
                  <a:pt x="18485" y="17873"/>
                  <a:pt x="18553" y="17923"/>
                  <a:pt x="18604" y="17959"/>
                </a:cubicBezTo>
                <a:cubicBezTo>
                  <a:pt x="18646" y="17989"/>
                  <a:pt x="18653" y="18011"/>
                  <a:pt x="18653" y="18058"/>
                </a:cubicBezTo>
                <a:cubicBezTo>
                  <a:pt x="18653" y="18088"/>
                  <a:pt x="18612" y="18105"/>
                  <a:pt x="18579" y="18107"/>
                </a:cubicBezTo>
                <a:cubicBezTo>
                  <a:pt x="18546" y="18109"/>
                  <a:pt x="18512" y="18107"/>
                  <a:pt x="18479" y="18107"/>
                </a:cubicBezTo>
                <a:cubicBezTo>
                  <a:pt x="18523" y="18151"/>
                  <a:pt x="18542" y="18163"/>
                  <a:pt x="18579" y="18207"/>
                </a:cubicBezTo>
                <a:cubicBezTo>
                  <a:pt x="18624" y="18261"/>
                  <a:pt x="18628" y="18256"/>
                  <a:pt x="18628" y="18331"/>
                </a:cubicBezTo>
                <a:cubicBezTo>
                  <a:pt x="18628" y="18395"/>
                  <a:pt x="18567" y="18382"/>
                  <a:pt x="18529" y="18405"/>
                </a:cubicBezTo>
                <a:cubicBezTo>
                  <a:pt x="18521" y="18413"/>
                  <a:pt x="18512" y="18422"/>
                  <a:pt x="18504" y="18430"/>
                </a:cubicBezTo>
                <a:cubicBezTo>
                  <a:pt x="18480" y="18422"/>
                  <a:pt x="18458" y="18421"/>
                  <a:pt x="18430" y="18405"/>
                </a:cubicBezTo>
                <a:cubicBezTo>
                  <a:pt x="18392" y="18384"/>
                  <a:pt x="18364" y="18364"/>
                  <a:pt x="18331" y="18331"/>
                </a:cubicBezTo>
              </a:path>
              <a:path w="16621" h="3920">
                <a:moveTo>
                  <a:pt x="19844" y="16470"/>
                </a:moveTo>
                <a:cubicBezTo>
                  <a:pt x="19882" y="16448"/>
                  <a:pt x="19943" y="16432"/>
                  <a:pt x="19993" y="16446"/>
                </a:cubicBezTo>
                <a:cubicBezTo>
                  <a:pt x="20041" y="16469"/>
                  <a:pt x="20055" y="16477"/>
                  <a:pt x="20092" y="16470"/>
                </a:cubicBezTo>
              </a:path>
              <a:path w="16621" h="3920">
                <a:moveTo>
                  <a:pt x="19869" y="16644"/>
                </a:moveTo>
                <a:cubicBezTo>
                  <a:pt x="19951" y="16665"/>
                  <a:pt x="19966" y="16673"/>
                  <a:pt x="20017" y="16669"/>
                </a:cubicBezTo>
              </a:path>
              <a:path w="16621" h="3920">
                <a:moveTo>
                  <a:pt x="20389" y="15875"/>
                </a:moveTo>
                <a:cubicBezTo>
                  <a:pt x="20389" y="15991"/>
                  <a:pt x="20389" y="16106"/>
                  <a:pt x="20389" y="16222"/>
                </a:cubicBezTo>
                <a:cubicBezTo>
                  <a:pt x="20321" y="16205"/>
                  <a:pt x="20340" y="16168"/>
                  <a:pt x="20340" y="16098"/>
                </a:cubicBezTo>
                <a:cubicBezTo>
                  <a:pt x="20340" y="16034"/>
                  <a:pt x="20360" y="15987"/>
                  <a:pt x="20365" y="15925"/>
                </a:cubicBezTo>
                <a:cubicBezTo>
                  <a:pt x="20370" y="15865"/>
                  <a:pt x="20384" y="15832"/>
                  <a:pt x="20389" y="15776"/>
                </a:cubicBezTo>
                <a:cubicBezTo>
                  <a:pt x="20393" y="15724"/>
                  <a:pt x="20425" y="15694"/>
                  <a:pt x="20439" y="15652"/>
                </a:cubicBezTo>
                <a:cubicBezTo>
                  <a:pt x="20451" y="15616"/>
                  <a:pt x="20474" y="15590"/>
                  <a:pt x="20513" y="15577"/>
                </a:cubicBezTo>
                <a:cubicBezTo>
                  <a:pt x="20591" y="15551"/>
                  <a:pt x="20697" y="15589"/>
                  <a:pt x="20762" y="15602"/>
                </a:cubicBezTo>
                <a:cubicBezTo>
                  <a:pt x="20778" y="15602"/>
                  <a:pt x="20795" y="15602"/>
                  <a:pt x="20811" y="15602"/>
                </a:cubicBezTo>
              </a:path>
              <a:path w="16621" h="3920">
                <a:moveTo>
                  <a:pt x="20563" y="15825"/>
                </a:moveTo>
                <a:cubicBezTo>
                  <a:pt x="20602" y="15816"/>
                  <a:pt x="20618" y="15801"/>
                  <a:pt x="20662" y="15801"/>
                </a:cubicBezTo>
                <a:cubicBezTo>
                  <a:pt x="20709" y="15801"/>
                  <a:pt x="20773" y="15804"/>
                  <a:pt x="20811" y="15825"/>
                </a:cubicBezTo>
                <a:cubicBezTo>
                  <a:pt x="20858" y="15851"/>
                  <a:pt x="20836" y="15897"/>
                  <a:pt x="20811" y="15925"/>
                </a:cubicBezTo>
                <a:cubicBezTo>
                  <a:pt x="20788" y="15950"/>
                  <a:pt x="20744" y="15970"/>
                  <a:pt x="20712" y="15974"/>
                </a:cubicBezTo>
                <a:cubicBezTo>
                  <a:pt x="20663" y="15979"/>
                  <a:pt x="20761" y="15993"/>
                  <a:pt x="20786" y="15999"/>
                </a:cubicBezTo>
                <a:cubicBezTo>
                  <a:pt x="20829" y="16010"/>
                  <a:pt x="20868" y="16054"/>
                  <a:pt x="20886" y="16098"/>
                </a:cubicBezTo>
                <a:cubicBezTo>
                  <a:pt x="20906" y="16149"/>
                  <a:pt x="20881" y="16230"/>
                  <a:pt x="20861" y="16247"/>
                </a:cubicBezTo>
                <a:cubicBezTo>
                  <a:pt x="20833" y="16272"/>
                  <a:pt x="20779" y="16311"/>
                  <a:pt x="20737" y="16297"/>
                </a:cubicBezTo>
                <a:cubicBezTo>
                  <a:pt x="20721" y="16292"/>
                  <a:pt x="20619" y="16257"/>
                  <a:pt x="20613" y="16247"/>
                </a:cubicBezTo>
                <a:cubicBezTo>
                  <a:pt x="20613" y="16239"/>
                  <a:pt x="20613" y="16230"/>
                  <a:pt x="20613" y="16222"/>
                </a:cubicBezTo>
              </a:path>
              <a:path w="16621" h="3920">
                <a:moveTo>
                  <a:pt x="21109" y="15850"/>
                </a:moveTo>
                <a:cubicBezTo>
                  <a:pt x="21117" y="15842"/>
                  <a:pt x="21126" y="15833"/>
                  <a:pt x="21134" y="15825"/>
                </a:cubicBezTo>
                <a:cubicBezTo>
                  <a:pt x="21134" y="15959"/>
                  <a:pt x="21123" y="16102"/>
                  <a:pt x="21158" y="16222"/>
                </a:cubicBezTo>
                <a:cubicBezTo>
                  <a:pt x="21158" y="16230"/>
                  <a:pt x="21158" y="16239"/>
                  <a:pt x="21158" y="16247"/>
                </a:cubicBezTo>
              </a:path>
              <a:path w="16621" h="3920">
                <a:moveTo>
                  <a:pt x="20985" y="15949"/>
                </a:moveTo>
                <a:cubicBezTo>
                  <a:pt x="21044" y="15949"/>
                  <a:pt x="21137" y="15979"/>
                  <a:pt x="21183" y="15974"/>
                </a:cubicBezTo>
                <a:cubicBezTo>
                  <a:pt x="21231" y="15950"/>
                  <a:pt x="21245" y="15942"/>
                  <a:pt x="21282" y="15949"/>
                </a:cubicBezTo>
              </a:path>
              <a:path w="16621" h="3920">
                <a:moveTo>
                  <a:pt x="21431" y="15751"/>
                </a:moveTo>
                <a:cubicBezTo>
                  <a:pt x="21465" y="15726"/>
                  <a:pt x="21508" y="15710"/>
                  <a:pt x="21555" y="15726"/>
                </a:cubicBezTo>
                <a:cubicBezTo>
                  <a:pt x="21594" y="15739"/>
                  <a:pt x="21650" y="15771"/>
                  <a:pt x="21654" y="15801"/>
                </a:cubicBezTo>
                <a:cubicBezTo>
                  <a:pt x="21658" y="15837"/>
                  <a:pt x="21608" y="15866"/>
                  <a:pt x="21580" y="15875"/>
                </a:cubicBezTo>
                <a:cubicBezTo>
                  <a:pt x="21552" y="15875"/>
                  <a:pt x="21541" y="15877"/>
                  <a:pt x="21530" y="15900"/>
                </a:cubicBezTo>
                <a:cubicBezTo>
                  <a:pt x="21541" y="15934"/>
                  <a:pt x="21576" y="15934"/>
                  <a:pt x="21605" y="15974"/>
                </a:cubicBezTo>
                <a:cubicBezTo>
                  <a:pt x="21656" y="16044"/>
                  <a:pt x="21697" y="16087"/>
                  <a:pt x="21704" y="16173"/>
                </a:cubicBezTo>
                <a:cubicBezTo>
                  <a:pt x="21707" y="16214"/>
                  <a:pt x="21666" y="16243"/>
                  <a:pt x="21630" y="16247"/>
                </a:cubicBezTo>
                <a:cubicBezTo>
                  <a:pt x="21576" y="16253"/>
                  <a:pt x="21521" y="16257"/>
                  <a:pt x="21481" y="16222"/>
                </a:cubicBezTo>
                <a:cubicBezTo>
                  <a:pt x="21473" y="16214"/>
                  <a:pt x="21464" y="16205"/>
                  <a:pt x="21456" y="16197"/>
                </a:cubicBezTo>
              </a:path>
              <a:path w="16621" h="3920">
                <a:moveTo>
                  <a:pt x="21903" y="16520"/>
                </a:moveTo>
                <a:cubicBezTo>
                  <a:pt x="21725" y="16520"/>
                  <a:pt x="21559" y="16508"/>
                  <a:pt x="21382" y="16495"/>
                </a:cubicBezTo>
                <a:cubicBezTo>
                  <a:pt x="21215" y="16482"/>
                  <a:pt x="21051" y="16487"/>
                  <a:pt x="20886" y="16470"/>
                </a:cubicBezTo>
                <a:cubicBezTo>
                  <a:pt x="20772" y="16459"/>
                  <a:pt x="20671" y="16480"/>
                  <a:pt x="20563" y="16495"/>
                </a:cubicBezTo>
                <a:cubicBezTo>
                  <a:pt x="20503" y="16503"/>
                  <a:pt x="20460" y="16510"/>
                  <a:pt x="20414" y="16545"/>
                </a:cubicBezTo>
              </a:path>
              <a:path w="16621" h="3920">
                <a:moveTo>
                  <a:pt x="20588" y="16842"/>
                </a:moveTo>
                <a:cubicBezTo>
                  <a:pt x="20646" y="16818"/>
                  <a:pt x="20674" y="16818"/>
                  <a:pt x="20737" y="16818"/>
                </a:cubicBezTo>
                <a:cubicBezTo>
                  <a:pt x="20766" y="16818"/>
                  <a:pt x="20869" y="16847"/>
                  <a:pt x="20886" y="16867"/>
                </a:cubicBezTo>
                <a:cubicBezTo>
                  <a:pt x="20912" y="16898"/>
                  <a:pt x="20867" y="16947"/>
                  <a:pt x="20861" y="16966"/>
                </a:cubicBezTo>
                <a:cubicBezTo>
                  <a:pt x="20855" y="16983"/>
                  <a:pt x="20791" y="17010"/>
                  <a:pt x="20762" y="17016"/>
                </a:cubicBezTo>
                <a:cubicBezTo>
                  <a:pt x="20720" y="17016"/>
                  <a:pt x="20712" y="17016"/>
                  <a:pt x="20687" y="17016"/>
                </a:cubicBezTo>
                <a:cubicBezTo>
                  <a:pt x="20738" y="17045"/>
                  <a:pt x="20848" y="17099"/>
                  <a:pt x="20886" y="17140"/>
                </a:cubicBezTo>
                <a:cubicBezTo>
                  <a:pt x="20925" y="17182"/>
                  <a:pt x="20951" y="17285"/>
                  <a:pt x="20960" y="17338"/>
                </a:cubicBezTo>
                <a:cubicBezTo>
                  <a:pt x="20972" y="17411"/>
                  <a:pt x="20957" y="17439"/>
                  <a:pt x="20910" y="17487"/>
                </a:cubicBezTo>
                <a:cubicBezTo>
                  <a:pt x="20884" y="17513"/>
                  <a:pt x="20826" y="17551"/>
                  <a:pt x="20786" y="17537"/>
                </a:cubicBezTo>
                <a:cubicBezTo>
                  <a:pt x="20765" y="17530"/>
                  <a:pt x="20695" y="17488"/>
                  <a:pt x="20687" y="17462"/>
                </a:cubicBezTo>
                <a:cubicBezTo>
                  <a:pt x="20687" y="17446"/>
                  <a:pt x="20687" y="17429"/>
                  <a:pt x="20687" y="17413"/>
                </a:cubicBezTo>
              </a:path>
              <a:path w="16621" h="3920">
                <a:moveTo>
                  <a:pt x="21059" y="17140"/>
                </a:moveTo>
                <a:cubicBezTo>
                  <a:pt x="21167" y="17122"/>
                  <a:pt x="21174" y="17114"/>
                  <a:pt x="21233" y="17115"/>
                </a:cubicBezTo>
              </a:path>
              <a:path w="16621" h="3920">
                <a:moveTo>
                  <a:pt x="21406" y="17115"/>
                </a:moveTo>
                <a:cubicBezTo>
                  <a:pt x="21406" y="17205"/>
                  <a:pt x="21426" y="17255"/>
                  <a:pt x="21431" y="17338"/>
                </a:cubicBezTo>
                <a:cubicBezTo>
                  <a:pt x="21435" y="17401"/>
                  <a:pt x="21419" y="17439"/>
                  <a:pt x="21456" y="17487"/>
                </a:cubicBezTo>
                <a:cubicBezTo>
                  <a:pt x="21443" y="17437"/>
                  <a:pt x="21431" y="17424"/>
                  <a:pt x="21431" y="17363"/>
                </a:cubicBezTo>
                <a:cubicBezTo>
                  <a:pt x="21431" y="17258"/>
                  <a:pt x="21422" y="17164"/>
                  <a:pt x="21406" y="17066"/>
                </a:cubicBezTo>
                <a:cubicBezTo>
                  <a:pt x="21395" y="17000"/>
                  <a:pt x="21417" y="16952"/>
                  <a:pt x="21431" y="16892"/>
                </a:cubicBezTo>
                <a:cubicBezTo>
                  <a:pt x="21438" y="16861"/>
                  <a:pt x="21434" y="16828"/>
                  <a:pt x="21456" y="16818"/>
                </a:cubicBezTo>
                <a:cubicBezTo>
                  <a:pt x="21495" y="16799"/>
                  <a:pt x="21584" y="16775"/>
                  <a:pt x="21630" y="16793"/>
                </a:cubicBezTo>
                <a:cubicBezTo>
                  <a:pt x="21673" y="16810"/>
                  <a:pt x="21701" y="16818"/>
                  <a:pt x="21754" y="16818"/>
                </a:cubicBezTo>
                <a:cubicBezTo>
                  <a:pt x="21770" y="16818"/>
                  <a:pt x="21787" y="16818"/>
                  <a:pt x="21803" y="16818"/>
                </a:cubicBezTo>
              </a:path>
              <a:path w="16621" h="3920">
                <a:moveTo>
                  <a:pt x="21630" y="17090"/>
                </a:moveTo>
                <a:cubicBezTo>
                  <a:pt x="21663" y="17090"/>
                  <a:pt x="21707" y="17056"/>
                  <a:pt x="21729" y="17066"/>
                </a:cubicBezTo>
                <a:cubicBezTo>
                  <a:pt x="21756" y="17078"/>
                  <a:pt x="21843" y="17131"/>
                  <a:pt x="21853" y="17165"/>
                </a:cubicBezTo>
                <a:cubicBezTo>
                  <a:pt x="21866" y="17209"/>
                  <a:pt x="21855" y="17258"/>
                  <a:pt x="21828" y="17289"/>
                </a:cubicBezTo>
                <a:cubicBezTo>
                  <a:pt x="21804" y="17316"/>
                  <a:pt x="21713" y="17333"/>
                  <a:pt x="21779" y="17314"/>
                </a:cubicBezTo>
                <a:cubicBezTo>
                  <a:pt x="21794" y="17310"/>
                  <a:pt x="21893" y="17352"/>
                  <a:pt x="21903" y="17363"/>
                </a:cubicBezTo>
                <a:cubicBezTo>
                  <a:pt x="21959" y="17425"/>
                  <a:pt x="21973" y="17534"/>
                  <a:pt x="21977" y="17611"/>
                </a:cubicBezTo>
                <a:cubicBezTo>
                  <a:pt x="21979" y="17645"/>
                  <a:pt x="21962" y="17718"/>
                  <a:pt x="21927" y="17735"/>
                </a:cubicBezTo>
                <a:cubicBezTo>
                  <a:pt x="21902" y="17747"/>
                  <a:pt x="21881" y="17782"/>
                  <a:pt x="21828" y="17760"/>
                </a:cubicBezTo>
                <a:cubicBezTo>
                  <a:pt x="21788" y="17743"/>
                  <a:pt x="21741" y="17715"/>
                  <a:pt x="21704" y="17686"/>
                </a:cubicBezTo>
              </a:path>
              <a:path w="16621" h="3920">
                <a:moveTo>
                  <a:pt x="22324" y="17338"/>
                </a:moveTo>
                <a:cubicBezTo>
                  <a:pt x="22332" y="17338"/>
                  <a:pt x="22341" y="17338"/>
                  <a:pt x="22349" y="17338"/>
                </a:cubicBezTo>
              </a:path>
              <a:path w="16621" h="3920">
                <a:moveTo>
                  <a:pt x="22696" y="16966"/>
                </a:moveTo>
                <a:cubicBezTo>
                  <a:pt x="22741" y="16977"/>
                  <a:pt x="22783" y="17007"/>
                  <a:pt x="22820" y="17041"/>
                </a:cubicBezTo>
                <a:cubicBezTo>
                  <a:pt x="22855" y="17073"/>
                  <a:pt x="22884" y="17097"/>
                  <a:pt x="22895" y="17140"/>
                </a:cubicBezTo>
              </a:path>
              <a:path w="16621" h="3920">
                <a:moveTo>
                  <a:pt x="22845" y="17190"/>
                </a:moveTo>
                <a:cubicBezTo>
                  <a:pt x="22812" y="17190"/>
                  <a:pt x="22779" y="17190"/>
                  <a:pt x="22746" y="17190"/>
                </a:cubicBezTo>
                <a:cubicBezTo>
                  <a:pt x="22757" y="17233"/>
                  <a:pt x="22787" y="17256"/>
                  <a:pt x="22820" y="17289"/>
                </a:cubicBezTo>
                <a:cubicBezTo>
                  <a:pt x="22870" y="17340"/>
                  <a:pt x="22870" y="17396"/>
                  <a:pt x="22870" y="17462"/>
                </a:cubicBezTo>
                <a:cubicBezTo>
                  <a:pt x="22870" y="17523"/>
                  <a:pt x="22860" y="17510"/>
                  <a:pt x="22820" y="17537"/>
                </a:cubicBezTo>
                <a:cubicBezTo>
                  <a:pt x="22792" y="17556"/>
                  <a:pt x="22745" y="17573"/>
                  <a:pt x="22721" y="17537"/>
                </a:cubicBezTo>
                <a:cubicBezTo>
                  <a:pt x="22721" y="17509"/>
                  <a:pt x="22719" y="17498"/>
                  <a:pt x="22696" y="17487"/>
                </a:cubicBezTo>
              </a:path>
              <a:path w="16621" h="3920">
                <a:moveTo>
                  <a:pt x="23217" y="17264"/>
                </a:moveTo>
                <a:cubicBezTo>
                  <a:pt x="23241" y="17415"/>
                  <a:pt x="23225" y="17447"/>
                  <a:pt x="23292" y="17537"/>
                </a:cubicBezTo>
              </a:path>
              <a:path w="16621" h="3920">
                <a:moveTo>
                  <a:pt x="23068" y="17314"/>
                </a:moveTo>
                <a:cubicBezTo>
                  <a:pt x="23124" y="17314"/>
                  <a:pt x="23165" y="17330"/>
                  <a:pt x="23217" y="17338"/>
                </a:cubicBezTo>
                <a:cubicBezTo>
                  <a:pt x="23267" y="17338"/>
                  <a:pt x="23283" y="17338"/>
                  <a:pt x="23316" y="17338"/>
                </a:cubicBezTo>
              </a:path>
              <a:path w="16621" h="3920">
                <a:moveTo>
                  <a:pt x="23416" y="17239"/>
                </a:moveTo>
                <a:cubicBezTo>
                  <a:pt x="23438" y="17323"/>
                  <a:pt x="23464" y="17410"/>
                  <a:pt x="23490" y="17487"/>
                </a:cubicBezTo>
                <a:cubicBezTo>
                  <a:pt x="23490" y="17495"/>
                  <a:pt x="23490" y="17504"/>
                  <a:pt x="23490" y="17512"/>
                </a:cubicBezTo>
                <a:cubicBezTo>
                  <a:pt x="23490" y="17442"/>
                  <a:pt x="23469" y="17383"/>
                  <a:pt x="23465" y="17314"/>
                </a:cubicBezTo>
                <a:cubicBezTo>
                  <a:pt x="23461" y="17238"/>
                  <a:pt x="23478" y="17184"/>
                  <a:pt x="23490" y="17115"/>
                </a:cubicBezTo>
                <a:cubicBezTo>
                  <a:pt x="23499" y="17060"/>
                  <a:pt x="23510" y="16996"/>
                  <a:pt x="23515" y="16942"/>
                </a:cubicBezTo>
                <a:cubicBezTo>
                  <a:pt x="23515" y="16934"/>
                  <a:pt x="23515" y="16925"/>
                  <a:pt x="23515" y="16917"/>
                </a:cubicBezTo>
                <a:cubicBezTo>
                  <a:pt x="23583" y="16917"/>
                  <a:pt x="23625" y="16926"/>
                  <a:pt x="23688" y="16942"/>
                </a:cubicBezTo>
                <a:cubicBezTo>
                  <a:pt x="23723" y="16942"/>
                  <a:pt x="23741" y="16946"/>
                  <a:pt x="23763" y="16966"/>
                </a:cubicBezTo>
              </a:path>
              <a:path w="16621" h="3920">
                <a:moveTo>
                  <a:pt x="23639" y="17140"/>
                </a:moveTo>
                <a:cubicBezTo>
                  <a:pt x="23652" y="17178"/>
                  <a:pt x="23668" y="17165"/>
                  <a:pt x="23713" y="17165"/>
                </a:cubicBezTo>
                <a:cubicBezTo>
                  <a:pt x="23760" y="17165"/>
                  <a:pt x="23828" y="17178"/>
                  <a:pt x="23862" y="17214"/>
                </a:cubicBezTo>
                <a:cubicBezTo>
                  <a:pt x="23880" y="17233"/>
                  <a:pt x="23930" y="17306"/>
                  <a:pt x="23912" y="17338"/>
                </a:cubicBezTo>
                <a:cubicBezTo>
                  <a:pt x="23897" y="17364"/>
                  <a:pt x="23838" y="17385"/>
                  <a:pt x="23812" y="17388"/>
                </a:cubicBezTo>
                <a:cubicBezTo>
                  <a:pt x="23743" y="17396"/>
                  <a:pt x="23778" y="17369"/>
                  <a:pt x="23812" y="17388"/>
                </a:cubicBezTo>
                <a:cubicBezTo>
                  <a:pt x="23866" y="17418"/>
                  <a:pt x="23872" y="17435"/>
                  <a:pt x="23912" y="17487"/>
                </a:cubicBezTo>
                <a:cubicBezTo>
                  <a:pt x="23948" y="17535"/>
                  <a:pt x="23950" y="17588"/>
                  <a:pt x="23912" y="17636"/>
                </a:cubicBezTo>
                <a:cubicBezTo>
                  <a:pt x="23880" y="17676"/>
                  <a:pt x="23803" y="17655"/>
                  <a:pt x="23763" y="17636"/>
                </a:cubicBezTo>
                <a:cubicBezTo>
                  <a:pt x="23673" y="17594"/>
                  <a:pt x="23626" y="17481"/>
                  <a:pt x="23589" y="17413"/>
                </a:cubicBezTo>
                <a:cubicBezTo>
                  <a:pt x="23581" y="17405"/>
                  <a:pt x="23572" y="17396"/>
                  <a:pt x="23564" y="17388"/>
                </a:cubicBezTo>
              </a:path>
              <a:path w="16621" h="3920">
                <a:moveTo>
                  <a:pt x="23688" y="16644"/>
                </a:moveTo>
                <a:cubicBezTo>
                  <a:pt x="23484" y="16624"/>
                  <a:pt x="23316" y="16575"/>
                  <a:pt x="23118" y="16545"/>
                </a:cubicBezTo>
                <a:cubicBezTo>
                  <a:pt x="22996" y="16526"/>
                  <a:pt x="22867" y="16518"/>
                  <a:pt x="22746" y="16495"/>
                </a:cubicBezTo>
                <a:cubicBezTo>
                  <a:pt x="22659" y="16479"/>
                  <a:pt x="22588" y="16470"/>
                  <a:pt x="22498" y="16470"/>
                </a:cubicBezTo>
                <a:cubicBezTo>
                  <a:pt x="22465" y="16470"/>
                  <a:pt x="22432" y="16470"/>
                  <a:pt x="22399" y="16470"/>
                </a:cubicBezTo>
              </a:path>
              <a:path w="16621" h="3920">
                <a:moveTo>
                  <a:pt x="22299" y="15627"/>
                </a:moveTo>
                <a:cubicBezTo>
                  <a:pt x="22342" y="15595"/>
                  <a:pt x="22396" y="15605"/>
                  <a:pt x="22448" y="15627"/>
                </a:cubicBezTo>
                <a:cubicBezTo>
                  <a:pt x="22540" y="15666"/>
                  <a:pt x="22647" y="15694"/>
                  <a:pt x="22647" y="15801"/>
                </a:cubicBezTo>
                <a:cubicBezTo>
                  <a:pt x="22647" y="15842"/>
                  <a:pt x="22585" y="15847"/>
                  <a:pt x="22547" y="15850"/>
                </a:cubicBezTo>
                <a:cubicBezTo>
                  <a:pt x="22516" y="15853"/>
                  <a:pt x="22503" y="15867"/>
                  <a:pt x="22473" y="15875"/>
                </a:cubicBezTo>
                <a:cubicBezTo>
                  <a:pt x="22507" y="15909"/>
                  <a:pt x="22570" y="15942"/>
                  <a:pt x="22597" y="15974"/>
                </a:cubicBezTo>
                <a:cubicBezTo>
                  <a:pt x="22645" y="16030"/>
                  <a:pt x="22654" y="16071"/>
                  <a:pt x="22647" y="16123"/>
                </a:cubicBezTo>
                <a:cubicBezTo>
                  <a:pt x="22638" y="16192"/>
                  <a:pt x="22627" y="16190"/>
                  <a:pt x="22572" y="16222"/>
                </a:cubicBezTo>
                <a:cubicBezTo>
                  <a:pt x="22524" y="16250"/>
                  <a:pt x="22499" y="16247"/>
                  <a:pt x="22448" y="16247"/>
                </a:cubicBezTo>
                <a:cubicBezTo>
                  <a:pt x="22420" y="16247"/>
                  <a:pt x="22399" y="16202"/>
                  <a:pt x="22374" y="16173"/>
                </a:cubicBezTo>
              </a:path>
              <a:path w="16621" h="3920">
                <a:moveTo>
                  <a:pt x="22920" y="15776"/>
                </a:moveTo>
                <a:cubicBezTo>
                  <a:pt x="22920" y="15863"/>
                  <a:pt x="22907" y="15993"/>
                  <a:pt x="22944" y="16073"/>
                </a:cubicBezTo>
                <a:cubicBezTo>
                  <a:pt x="22962" y="16113"/>
                  <a:pt x="22969" y="16101"/>
                  <a:pt x="22969" y="16148"/>
                </a:cubicBezTo>
              </a:path>
              <a:path w="16621" h="3920">
                <a:moveTo>
                  <a:pt x="22796" y="15949"/>
                </a:moveTo>
                <a:cubicBezTo>
                  <a:pt x="22892" y="15968"/>
                  <a:pt x="22971" y="15974"/>
                  <a:pt x="23068" y="15974"/>
                </a:cubicBezTo>
              </a:path>
              <a:path w="16621" h="3920">
                <a:moveTo>
                  <a:pt x="23217" y="15900"/>
                </a:moveTo>
                <a:cubicBezTo>
                  <a:pt x="23202" y="15982"/>
                  <a:pt x="23171" y="16072"/>
                  <a:pt x="23217" y="16148"/>
                </a:cubicBezTo>
                <a:cubicBezTo>
                  <a:pt x="23233" y="16174"/>
                  <a:pt x="23242" y="16242"/>
                  <a:pt x="23242" y="16197"/>
                </a:cubicBezTo>
                <a:cubicBezTo>
                  <a:pt x="23242" y="16124"/>
                  <a:pt x="23203" y="16067"/>
                  <a:pt x="23192" y="15999"/>
                </a:cubicBezTo>
                <a:cubicBezTo>
                  <a:pt x="23179" y="15919"/>
                  <a:pt x="23174" y="15770"/>
                  <a:pt x="23217" y="15701"/>
                </a:cubicBezTo>
                <a:cubicBezTo>
                  <a:pt x="23251" y="15647"/>
                  <a:pt x="23308" y="15605"/>
                  <a:pt x="23366" y="15602"/>
                </a:cubicBezTo>
                <a:cubicBezTo>
                  <a:pt x="23422" y="15599"/>
                  <a:pt x="23460" y="15577"/>
                  <a:pt x="23515" y="15577"/>
                </a:cubicBezTo>
                <a:cubicBezTo>
                  <a:pt x="23555" y="15577"/>
                  <a:pt x="23574" y="15588"/>
                  <a:pt x="23589" y="15627"/>
                </a:cubicBezTo>
              </a:path>
              <a:path w="16621" h="3920">
                <a:moveTo>
                  <a:pt x="23440" y="15850"/>
                </a:moveTo>
                <a:cubicBezTo>
                  <a:pt x="23487" y="15850"/>
                  <a:pt x="23503" y="15867"/>
                  <a:pt x="23540" y="15875"/>
                </a:cubicBezTo>
                <a:cubicBezTo>
                  <a:pt x="23620" y="15892"/>
                  <a:pt x="23638" y="15882"/>
                  <a:pt x="23664" y="15974"/>
                </a:cubicBezTo>
                <a:cubicBezTo>
                  <a:pt x="23681" y="16033"/>
                  <a:pt x="23597" y="16046"/>
                  <a:pt x="23564" y="16049"/>
                </a:cubicBezTo>
                <a:cubicBezTo>
                  <a:pt x="23556" y="16049"/>
                  <a:pt x="23548" y="16049"/>
                  <a:pt x="23540" y="16049"/>
                </a:cubicBezTo>
                <a:cubicBezTo>
                  <a:pt x="23552" y="16097"/>
                  <a:pt x="23587" y="16107"/>
                  <a:pt x="23614" y="16148"/>
                </a:cubicBezTo>
                <a:cubicBezTo>
                  <a:pt x="23651" y="16205"/>
                  <a:pt x="23681" y="16235"/>
                  <a:pt x="23639" y="16272"/>
                </a:cubicBezTo>
                <a:cubicBezTo>
                  <a:pt x="23587" y="16318"/>
                  <a:pt x="23587" y="16321"/>
                  <a:pt x="23515" y="16321"/>
                </a:cubicBezTo>
                <a:cubicBezTo>
                  <a:pt x="23490" y="16321"/>
                  <a:pt x="23428" y="16297"/>
                  <a:pt x="23416" y="16272"/>
                </a:cubicBezTo>
                <a:cubicBezTo>
                  <a:pt x="23416" y="16264"/>
                  <a:pt x="23416" y="16255"/>
                  <a:pt x="23416" y="16247"/>
                </a:cubicBezTo>
              </a:path>
              <a:path w="16621" h="3920">
                <a:moveTo>
                  <a:pt x="24085" y="16594"/>
                </a:moveTo>
                <a:cubicBezTo>
                  <a:pt x="24163" y="16611"/>
                  <a:pt x="24235" y="16629"/>
                  <a:pt x="24309" y="16644"/>
                </a:cubicBezTo>
              </a:path>
              <a:path w="16621" h="3920">
                <a:moveTo>
                  <a:pt x="24135" y="16793"/>
                </a:moveTo>
                <a:cubicBezTo>
                  <a:pt x="24214" y="16852"/>
                  <a:pt x="24223" y="16877"/>
                  <a:pt x="24284" y="168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84160" y="5670720"/>
            <a:ext cx="3830760" cy="723600"/>
          </a:xfrm>
          <a:custGeom>
            <a:avLst/>
            <a:gdLst/>
            <a:ahLst/>
            <a:rect l="l" t="t" r="r" b="b"/>
            <a:pathLst>
              <a:path w="10642" h="2010">
                <a:moveTo>
                  <a:pt x="13097" y="15825"/>
                </a:moveTo>
                <a:cubicBezTo>
                  <a:pt x="12983" y="15895"/>
                  <a:pt x="12915" y="15937"/>
                  <a:pt x="12774" y="15949"/>
                </a:cubicBezTo>
                <a:cubicBezTo>
                  <a:pt x="12624" y="15962"/>
                  <a:pt x="12475" y="15935"/>
                  <a:pt x="12328" y="15925"/>
                </a:cubicBezTo>
                <a:cubicBezTo>
                  <a:pt x="12064" y="15908"/>
                  <a:pt x="11797" y="15916"/>
                  <a:pt x="11534" y="15900"/>
                </a:cubicBezTo>
                <a:cubicBezTo>
                  <a:pt x="11341" y="15888"/>
                  <a:pt x="11156" y="15901"/>
                  <a:pt x="10964" y="15875"/>
                </a:cubicBezTo>
                <a:cubicBezTo>
                  <a:pt x="10739" y="15844"/>
                  <a:pt x="10518" y="15829"/>
                  <a:pt x="10294" y="15801"/>
                </a:cubicBezTo>
                <a:cubicBezTo>
                  <a:pt x="10064" y="15772"/>
                  <a:pt x="9831" y="15755"/>
                  <a:pt x="9599" y="15751"/>
                </a:cubicBezTo>
                <a:cubicBezTo>
                  <a:pt x="9341" y="15747"/>
                  <a:pt x="9085" y="15749"/>
                  <a:pt x="8830" y="15776"/>
                </a:cubicBezTo>
                <a:cubicBezTo>
                  <a:pt x="8629" y="15797"/>
                  <a:pt x="8432" y="15816"/>
                  <a:pt x="8235" y="15850"/>
                </a:cubicBezTo>
                <a:cubicBezTo>
                  <a:pt x="8150" y="15865"/>
                  <a:pt x="8069" y="15880"/>
                  <a:pt x="7987" y="15900"/>
                </a:cubicBezTo>
                <a:cubicBezTo>
                  <a:pt x="7956" y="15907"/>
                  <a:pt x="7913" y="15920"/>
                  <a:pt x="7888" y="15925"/>
                </a:cubicBezTo>
                <a:cubicBezTo>
                  <a:pt x="7880" y="15925"/>
                  <a:pt x="7871" y="15925"/>
                  <a:pt x="7863" y="15925"/>
                </a:cubicBezTo>
                <a:cubicBezTo>
                  <a:pt x="7863" y="15875"/>
                  <a:pt x="7829" y="15850"/>
                  <a:pt x="7838" y="15801"/>
                </a:cubicBezTo>
                <a:cubicBezTo>
                  <a:pt x="7846" y="15801"/>
                  <a:pt x="7855" y="15801"/>
                  <a:pt x="7863" y="15801"/>
                </a:cubicBezTo>
              </a:path>
              <a:path w="10642" h="2010">
                <a:moveTo>
                  <a:pt x="7714" y="17611"/>
                </a:moveTo>
                <a:cubicBezTo>
                  <a:pt x="7667" y="17636"/>
                  <a:pt x="7638" y="17666"/>
                  <a:pt x="7590" y="17686"/>
                </a:cubicBezTo>
                <a:cubicBezTo>
                  <a:pt x="7521" y="17715"/>
                  <a:pt x="7439" y="17750"/>
                  <a:pt x="7367" y="17760"/>
                </a:cubicBezTo>
                <a:cubicBezTo>
                  <a:pt x="7058" y="17802"/>
                  <a:pt x="6706" y="17761"/>
                  <a:pt x="6400" y="17735"/>
                </a:cubicBezTo>
                <a:cubicBezTo>
                  <a:pt x="6263" y="17724"/>
                  <a:pt x="6119" y="17760"/>
                  <a:pt x="5978" y="17760"/>
                </a:cubicBezTo>
                <a:cubicBezTo>
                  <a:pt x="5629" y="17760"/>
                  <a:pt x="5282" y="17759"/>
                  <a:pt x="4936" y="17735"/>
                </a:cubicBezTo>
                <a:cubicBezTo>
                  <a:pt x="4768" y="17723"/>
                  <a:pt x="4607" y="17701"/>
                  <a:pt x="4440" y="17686"/>
                </a:cubicBezTo>
                <a:cubicBezTo>
                  <a:pt x="4275" y="17671"/>
                  <a:pt x="4109" y="17648"/>
                  <a:pt x="3944" y="17636"/>
                </a:cubicBezTo>
                <a:cubicBezTo>
                  <a:pt x="3787" y="17624"/>
                  <a:pt x="3630" y="17597"/>
                  <a:pt x="3473" y="17587"/>
                </a:cubicBezTo>
                <a:cubicBezTo>
                  <a:pt x="3308" y="17576"/>
                  <a:pt x="3142" y="17573"/>
                  <a:pt x="2977" y="17562"/>
                </a:cubicBezTo>
                <a:cubicBezTo>
                  <a:pt x="2871" y="17555"/>
                  <a:pt x="2780" y="17554"/>
                  <a:pt x="2679" y="17537"/>
                </a:cubicBezTo>
                <a:cubicBezTo>
                  <a:pt x="2639" y="17530"/>
                  <a:pt x="2566" y="17510"/>
                  <a:pt x="2530" y="17512"/>
                </a:cubicBezTo>
                <a:cubicBezTo>
                  <a:pt x="2492" y="17514"/>
                  <a:pt x="2461" y="17536"/>
                  <a:pt x="2456" y="17537"/>
                </a:cubicBezTo>
                <a:cubicBezTo>
                  <a:pt x="2464" y="17537"/>
                  <a:pt x="2472" y="17537"/>
                  <a:pt x="2480" y="175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03160" y="5867280"/>
            <a:ext cx="4214880" cy="973080"/>
          </a:xfrm>
          <a:custGeom>
            <a:avLst/>
            <a:gdLst/>
            <a:ahLst/>
            <a:rect l="l" t="t" r="r" b="b"/>
            <a:pathLst>
              <a:path w="11709" h="2704">
                <a:moveTo>
                  <a:pt x="2232" y="16520"/>
                </a:moveTo>
                <a:cubicBezTo>
                  <a:pt x="2245" y="16482"/>
                  <a:pt x="2254" y="16490"/>
                  <a:pt x="2282" y="16470"/>
                </a:cubicBezTo>
                <a:cubicBezTo>
                  <a:pt x="2320" y="16443"/>
                  <a:pt x="2334" y="16446"/>
                  <a:pt x="2381" y="16446"/>
                </a:cubicBezTo>
                <a:cubicBezTo>
                  <a:pt x="2434" y="16446"/>
                  <a:pt x="2489" y="16443"/>
                  <a:pt x="2530" y="16470"/>
                </a:cubicBezTo>
                <a:cubicBezTo>
                  <a:pt x="2582" y="16504"/>
                  <a:pt x="2580" y="16537"/>
                  <a:pt x="2580" y="16594"/>
                </a:cubicBezTo>
                <a:cubicBezTo>
                  <a:pt x="2580" y="16626"/>
                  <a:pt x="2536" y="16680"/>
                  <a:pt x="2505" y="16694"/>
                </a:cubicBezTo>
                <a:cubicBezTo>
                  <a:pt x="2477" y="16706"/>
                  <a:pt x="2440" y="16738"/>
                  <a:pt x="2431" y="16743"/>
                </a:cubicBezTo>
                <a:cubicBezTo>
                  <a:pt x="2423" y="16743"/>
                  <a:pt x="2414" y="16743"/>
                  <a:pt x="2406" y="16743"/>
                </a:cubicBezTo>
                <a:cubicBezTo>
                  <a:pt x="2444" y="16714"/>
                  <a:pt x="2457" y="16718"/>
                  <a:pt x="2505" y="16718"/>
                </a:cubicBezTo>
                <a:cubicBezTo>
                  <a:pt x="2549" y="16718"/>
                  <a:pt x="2575" y="16763"/>
                  <a:pt x="2604" y="16793"/>
                </a:cubicBezTo>
                <a:cubicBezTo>
                  <a:pt x="2641" y="16830"/>
                  <a:pt x="2647" y="16940"/>
                  <a:pt x="2629" y="16991"/>
                </a:cubicBezTo>
                <a:cubicBezTo>
                  <a:pt x="2616" y="17026"/>
                  <a:pt x="2534" y="17079"/>
                  <a:pt x="2505" y="17090"/>
                </a:cubicBezTo>
                <a:cubicBezTo>
                  <a:pt x="2462" y="17107"/>
                  <a:pt x="2387" y="17094"/>
                  <a:pt x="2356" y="17066"/>
                </a:cubicBezTo>
                <a:cubicBezTo>
                  <a:pt x="2334" y="17043"/>
                  <a:pt x="2326" y="17038"/>
                  <a:pt x="2332" y="17016"/>
                </a:cubicBezTo>
              </a:path>
              <a:path w="11709" h="2704">
                <a:moveTo>
                  <a:pt x="2877" y="16842"/>
                </a:moveTo>
                <a:cubicBezTo>
                  <a:pt x="2861" y="16914"/>
                  <a:pt x="2853" y="16949"/>
                  <a:pt x="2853" y="17016"/>
                </a:cubicBezTo>
                <a:cubicBezTo>
                  <a:pt x="2853" y="17071"/>
                  <a:pt x="2853" y="17071"/>
                  <a:pt x="2853" y="17016"/>
                </a:cubicBezTo>
                <a:cubicBezTo>
                  <a:pt x="2853" y="16930"/>
                  <a:pt x="2868" y="16848"/>
                  <a:pt x="2877" y="16768"/>
                </a:cubicBezTo>
                <a:cubicBezTo>
                  <a:pt x="2893" y="16632"/>
                  <a:pt x="2865" y="16494"/>
                  <a:pt x="2902" y="16371"/>
                </a:cubicBezTo>
                <a:cubicBezTo>
                  <a:pt x="2913" y="16334"/>
                  <a:pt x="2937" y="16310"/>
                  <a:pt x="2977" y="16297"/>
                </a:cubicBezTo>
                <a:cubicBezTo>
                  <a:pt x="3010" y="16286"/>
                  <a:pt x="3078" y="16307"/>
                  <a:pt x="3101" y="16321"/>
                </a:cubicBezTo>
                <a:cubicBezTo>
                  <a:pt x="3109" y="16329"/>
                  <a:pt x="3117" y="16338"/>
                  <a:pt x="3125" y="16346"/>
                </a:cubicBezTo>
              </a:path>
              <a:path w="11709" h="2704">
                <a:moveTo>
                  <a:pt x="3076" y="16644"/>
                </a:moveTo>
                <a:cubicBezTo>
                  <a:pt x="3136" y="16644"/>
                  <a:pt x="3175" y="16654"/>
                  <a:pt x="3225" y="16669"/>
                </a:cubicBezTo>
                <a:cubicBezTo>
                  <a:pt x="3273" y="16684"/>
                  <a:pt x="3274" y="16692"/>
                  <a:pt x="3274" y="16743"/>
                </a:cubicBezTo>
                <a:cubicBezTo>
                  <a:pt x="3274" y="16780"/>
                  <a:pt x="3232" y="16807"/>
                  <a:pt x="3200" y="16818"/>
                </a:cubicBezTo>
                <a:cubicBezTo>
                  <a:pt x="3192" y="16818"/>
                  <a:pt x="3183" y="16818"/>
                  <a:pt x="3175" y="16818"/>
                </a:cubicBezTo>
                <a:cubicBezTo>
                  <a:pt x="3225" y="16866"/>
                  <a:pt x="3258" y="16912"/>
                  <a:pt x="3299" y="16966"/>
                </a:cubicBezTo>
                <a:cubicBezTo>
                  <a:pt x="3334" y="17012"/>
                  <a:pt x="3324" y="17056"/>
                  <a:pt x="3324" y="17115"/>
                </a:cubicBezTo>
                <a:cubicBezTo>
                  <a:pt x="3324" y="17153"/>
                  <a:pt x="3281" y="17179"/>
                  <a:pt x="3249" y="17190"/>
                </a:cubicBezTo>
                <a:cubicBezTo>
                  <a:pt x="3214" y="17202"/>
                  <a:pt x="3149" y="17162"/>
                  <a:pt x="3125" y="17140"/>
                </a:cubicBezTo>
                <a:cubicBezTo>
                  <a:pt x="3074" y="17094"/>
                  <a:pt x="3089" y="17141"/>
                  <a:pt x="3076" y="17066"/>
                </a:cubicBezTo>
              </a:path>
              <a:path w="11709" h="2704">
                <a:moveTo>
                  <a:pt x="3696" y="16619"/>
                </a:moveTo>
                <a:cubicBezTo>
                  <a:pt x="3756" y="16634"/>
                  <a:pt x="3746" y="16657"/>
                  <a:pt x="3746" y="16718"/>
                </a:cubicBezTo>
                <a:cubicBezTo>
                  <a:pt x="3746" y="16859"/>
                  <a:pt x="3746" y="16999"/>
                  <a:pt x="3746" y="17140"/>
                </a:cubicBezTo>
              </a:path>
              <a:path w="11709" h="2704">
                <a:moveTo>
                  <a:pt x="3572" y="16892"/>
                </a:moveTo>
                <a:cubicBezTo>
                  <a:pt x="3675" y="16853"/>
                  <a:pt x="3717" y="16900"/>
                  <a:pt x="3820" y="16917"/>
                </a:cubicBezTo>
                <a:cubicBezTo>
                  <a:pt x="3887" y="16928"/>
                  <a:pt x="3949" y="16942"/>
                  <a:pt x="4018" y="16942"/>
                </a:cubicBezTo>
              </a:path>
              <a:path w="11709" h="2704">
                <a:moveTo>
                  <a:pt x="4242" y="16644"/>
                </a:moveTo>
                <a:cubicBezTo>
                  <a:pt x="4259" y="16590"/>
                  <a:pt x="4273" y="16643"/>
                  <a:pt x="4316" y="16619"/>
                </a:cubicBezTo>
                <a:cubicBezTo>
                  <a:pt x="4383" y="16582"/>
                  <a:pt x="4422" y="16600"/>
                  <a:pt x="4490" y="16619"/>
                </a:cubicBezTo>
                <a:cubicBezTo>
                  <a:pt x="4522" y="16628"/>
                  <a:pt x="4573" y="16658"/>
                  <a:pt x="4589" y="16694"/>
                </a:cubicBezTo>
                <a:cubicBezTo>
                  <a:pt x="4606" y="16732"/>
                  <a:pt x="4587" y="16793"/>
                  <a:pt x="4564" y="16818"/>
                </a:cubicBezTo>
                <a:cubicBezTo>
                  <a:pt x="4547" y="16837"/>
                  <a:pt x="4494" y="16890"/>
                  <a:pt x="4490" y="16892"/>
                </a:cubicBezTo>
                <a:cubicBezTo>
                  <a:pt x="4475" y="16899"/>
                  <a:pt x="4432" y="16892"/>
                  <a:pt x="4415" y="16892"/>
                </a:cubicBezTo>
                <a:cubicBezTo>
                  <a:pt x="4447" y="16916"/>
                  <a:pt x="4484" y="16922"/>
                  <a:pt x="4514" y="16942"/>
                </a:cubicBezTo>
                <a:cubicBezTo>
                  <a:pt x="4562" y="16974"/>
                  <a:pt x="4582" y="17023"/>
                  <a:pt x="4614" y="17066"/>
                </a:cubicBezTo>
                <a:cubicBezTo>
                  <a:pt x="4661" y="17129"/>
                  <a:pt x="4663" y="17161"/>
                  <a:pt x="4663" y="17239"/>
                </a:cubicBezTo>
                <a:cubicBezTo>
                  <a:pt x="4663" y="17282"/>
                  <a:pt x="4619" y="17309"/>
                  <a:pt x="4589" y="17338"/>
                </a:cubicBezTo>
                <a:cubicBezTo>
                  <a:pt x="4559" y="17368"/>
                  <a:pt x="4509" y="17384"/>
                  <a:pt x="4465" y="17388"/>
                </a:cubicBezTo>
                <a:cubicBezTo>
                  <a:pt x="4413" y="17393"/>
                  <a:pt x="4410" y="17373"/>
                  <a:pt x="4390" y="17363"/>
                </a:cubicBezTo>
                <a:cubicBezTo>
                  <a:pt x="4357" y="17346"/>
                  <a:pt x="4330" y="17331"/>
                  <a:pt x="4316" y="17289"/>
                </a:cubicBezTo>
                <a:cubicBezTo>
                  <a:pt x="4316" y="17281"/>
                  <a:pt x="4316" y="17272"/>
                  <a:pt x="4316" y="17264"/>
                </a:cubicBezTo>
              </a:path>
              <a:path w="11709" h="2704">
                <a:moveTo>
                  <a:pt x="5135" y="16818"/>
                </a:moveTo>
                <a:cubicBezTo>
                  <a:pt x="5135" y="16940"/>
                  <a:pt x="5133" y="17050"/>
                  <a:pt x="5159" y="17165"/>
                </a:cubicBezTo>
                <a:cubicBezTo>
                  <a:pt x="5166" y="17194"/>
                  <a:pt x="5159" y="17234"/>
                  <a:pt x="5159" y="17264"/>
                </a:cubicBezTo>
              </a:path>
              <a:path w="11709" h="2704">
                <a:moveTo>
                  <a:pt x="5035" y="17115"/>
                </a:moveTo>
                <a:cubicBezTo>
                  <a:pt x="5049" y="17073"/>
                  <a:pt x="5084" y="17090"/>
                  <a:pt x="5135" y="17090"/>
                </a:cubicBezTo>
                <a:cubicBezTo>
                  <a:pt x="5184" y="17090"/>
                  <a:pt x="5234" y="17090"/>
                  <a:pt x="5283" y="17090"/>
                </a:cubicBezTo>
              </a:path>
              <a:path w="11709" h="2704">
                <a:moveTo>
                  <a:pt x="5705" y="16966"/>
                </a:moveTo>
                <a:cubicBezTo>
                  <a:pt x="5739" y="16926"/>
                  <a:pt x="5782" y="16881"/>
                  <a:pt x="5755" y="16818"/>
                </a:cubicBezTo>
                <a:cubicBezTo>
                  <a:pt x="5732" y="16763"/>
                  <a:pt x="5679" y="16768"/>
                  <a:pt x="5631" y="16768"/>
                </a:cubicBezTo>
                <a:cubicBezTo>
                  <a:pt x="5599" y="16768"/>
                  <a:pt x="5524" y="16767"/>
                  <a:pt x="5507" y="16793"/>
                </a:cubicBezTo>
                <a:cubicBezTo>
                  <a:pt x="5477" y="16840"/>
                  <a:pt x="5482" y="16869"/>
                  <a:pt x="5507" y="16917"/>
                </a:cubicBezTo>
                <a:cubicBezTo>
                  <a:pt x="5542" y="16984"/>
                  <a:pt x="5556" y="17010"/>
                  <a:pt x="5631" y="17016"/>
                </a:cubicBezTo>
                <a:cubicBezTo>
                  <a:pt x="5675" y="17020"/>
                  <a:pt x="5697" y="17020"/>
                  <a:pt x="5730" y="16991"/>
                </a:cubicBezTo>
                <a:cubicBezTo>
                  <a:pt x="5762" y="16963"/>
                  <a:pt x="5779" y="16900"/>
                  <a:pt x="5779" y="16942"/>
                </a:cubicBezTo>
                <a:cubicBezTo>
                  <a:pt x="5779" y="17011"/>
                  <a:pt x="5755" y="17068"/>
                  <a:pt x="5755" y="17140"/>
                </a:cubicBezTo>
                <a:cubicBezTo>
                  <a:pt x="5755" y="17145"/>
                  <a:pt x="5755" y="17529"/>
                  <a:pt x="5755" y="17487"/>
                </a:cubicBezTo>
              </a:path>
              <a:path w="11709" h="2704">
                <a:moveTo>
                  <a:pt x="6127" y="16867"/>
                </a:moveTo>
                <a:cubicBezTo>
                  <a:pt x="6142" y="16971"/>
                  <a:pt x="6127" y="17033"/>
                  <a:pt x="6127" y="17140"/>
                </a:cubicBezTo>
                <a:cubicBezTo>
                  <a:pt x="6127" y="17217"/>
                  <a:pt x="6152" y="17284"/>
                  <a:pt x="6152" y="17363"/>
                </a:cubicBezTo>
                <a:cubicBezTo>
                  <a:pt x="6152" y="17388"/>
                  <a:pt x="6152" y="17396"/>
                  <a:pt x="6152" y="17413"/>
                </a:cubicBezTo>
              </a:path>
              <a:path w="11709" h="2704">
                <a:moveTo>
                  <a:pt x="5953" y="17165"/>
                </a:moveTo>
                <a:cubicBezTo>
                  <a:pt x="5961" y="17157"/>
                  <a:pt x="5970" y="17148"/>
                  <a:pt x="5978" y="17140"/>
                </a:cubicBezTo>
                <a:cubicBezTo>
                  <a:pt x="6025" y="17169"/>
                  <a:pt x="6094" y="17176"/>
                  <a:pt x="6152" y="17190"/>
                </a:cubicBezTo>
                <a:cubicBezTo>
                  <a:pt x="6195" y="17200"/>
                  <a:pt x="6230" y="17214"/>
                  <a:pt x="6276" y="17214"/>
                </a:cubicBezTo>
                <a:cubicBezTo>
                  <a:pt x="6276" y="17239"/>
                  <a:pt x="6276" y="17247"/>
                  <a:pt x="6300" y="17239"/>
                </a:cubicBezTo>
              </a:path>
              <a:path w="11709" h="2704">
                <a:moveTo>
                  <a:pt x="6524" y="16867"/>
                </a:moveTo>
                <a:cubicBezTo>
                  <a:pt x="6546" y="16860"/>
                  <a:pt x="6638" y="16823"/>
                  <a:pt x="6672" y="16842"/>
                </a:cubicBezTo>
                <a:cubicBezTo>
                  <a:pt x="6725" y="16872"/>
                  <a:pt x="6765" y="16902"/>
                  <a:pt x="6772" y="16966"/>
                </a:cubicBezTo>
                <a:cubicBezTo>
                  <a:pt x="6777" y="17018"/>
                  <a:pt x="6758" y="17031"/>
                  <a:pt x="6722" y="17066"/>
                </a:cubicBezTo>
                <a:cubicBezTo>
                  <a:pt x="6689" y="17099"/>
                  <a:pt x="6551" y="17115"/>
                  <a:pt x="6598" y="17115"/>
                </a:cubicBezTo>
                <a:cubicBezTo>
                  <a:pt x="6639" y="17115"/>
                  <a:pt x="6664" y="17122"/>
                  <a:pt x="6697" y="17140"/>
                </a:cubicBezTo>
                <a:cubicBezTo>
                  <a:pt x="6754" y="17171"/>
                  <a:pt x="6783" y="17175"/>
                  <a:pt x="6821" y="17239"/>
                </a:cubicBezTo>
                <a:cubicBezTo>
                  <a:pt x="6855" y="17296"/>
                  <a:pt x="6875" y="17415"/>
                  <a:pt x="6821" y="17462"/>
                </a:cubicBezTo>
                <a:cubicBezTo>
                  <a:pt x="6799" y="17481"/>
                  <a:pt x="6755" y="17487"/>
                  <a:pt x="6722" y="17487"/>
                </a:cubicBezTo>
                <a:cubicBezTo>
                  <a:pt x="6679" y="17487"/>
                  <a:pt x="6623" y="17435"/>
                  <a:pt x="6648" y="17388"/>
                </a:cubicBezTo>
                <a:cubicBezTo>
                  <a:pt x="6656" y="17380"/>
                  <a:pt x="6664" y="17371"/>
                  <a:pt x="6672" y="17363"/>
                </a:cubicBezTo>
              </a:path>
              <a:path w="11709" h="2704">
                <a:moveTo>
                  <a:pt x="6970" y="16991"/>
                </a:moveTo>
                <a:cubicBezTo>
                  <a:pt x="6970" y="17103"/>
                  <a:pt x="6962" y="17217"/>
                  <a:pt x="6995" y="17314"/>
                </a:cubicBezTo>
                <a:cubicBezTo>
                  <a:pt x="7013" y="17366"/>
                  <a:pt x="6995" y="17258"/>
                  <a:pt x="6995" y="17239"/>
                </a:cubicBezTo>
                <a:cubicBezTo>
                  <a:pt x="6995" y="17157"/>
                  <a:pt x="7009" y="17095"/>
                  <a:pt x="7020" y="17016"/>
                </a:cubicBezTo>
                <a:cubicBezTo>
                  <a:pt x="7030" y="16949"/>
                  <a:pt x="7040" y="16884"/>
                  <a:pt x="7045" y="16818"/>
                </a:cubicBezTo>
                <a:cubicBezTo>
                  <a:pt x="7048" y="16775"/>
                  <a:pt x="7077" y="16748"/>
                  <a:pt x="7119" y="16743"/>
                </a:cubicBezTo>
                <a:cubicBezTo>
                  <a:pt x="7164" y="16738"/>
                  <a:pt x="7196" y="16718"/>
                  <a:pt x="7243" y="16718"/>
                </a:cubicBezTo>
                <a:cubicBezTo>
                  <a:pt x="7251" y="16718"/>
                  <a:pt x="7260" y="16718"/>
                  <a:pt x="7268" y="16718"/>
                </a:cubicBezTo>
              </a:path>
              <a:path w="11709" h="2704">
                <a:moveTo>
                  <a:pt x="7268" y="16966"/>
                </a:moveTo>
                <a:cubicBezTo>
                  <a:pt x="7286" y="17021"/>
                  <a:pt x="7313" y="16968"/>
                  <a:pt x="7367" y="16991"/>
                </a:cubicBezTo>
                <a:cubicBezTo>
                  <a:pt x="7419" y="17013"/>
                  <a:pt x="7435" y="17102"/>
                  <a:pt x="7392" y="17140"/>
                </a:cubicBezTo>
                <a:cubicBezTo>
                  <a:pt x="7373" y="17157"/>
                  <a:pt x="7269" y="17163"/>
                  <a:pt x="7243" y="17165"/>
                </a:cubicBezTo>
                <a:cubicBezTo>
                  <a:pt x="7218" y="17165"/>
                  <a:pt x="7210" y="17165"/>
                  <a:pt x="7193" y="17165"/>
                </a:cubicBezTo>
                <a:cubicBezTo>
                  <a:pt x="7207" y="17222"/>
                  <a:pt x="7218" y="17231"/>
                  <a:pt x="7268" y="17264"/>
                </a:cubicBezTo>
              </a:path>
              <a:path w="11709" h="2704">
                <a:moveTo>
                  <a:pt x="7466" y="17537"/>
                </a:moveTo>
                <a:cubicBezTo>
                  <a:pt x="7422" y="17563"/>
                  <a:pt x="7395" y="17562"/>
                  <a:pt x="7342" y="17562"/>
                </a:cubicBezTo>
                <a:cubicBezTo>
                  <a:pt x="7334" y="17562"/>
                  <a:pt x="7325" y="17562"/>
                  <a:pt x="7317" y="17562"/>
                </a:cubicBezTo>
              </a:path>
              <a:path w="11709" h="2704">
                <a:moveTo>
                  <a:pt x="7193" y="17214"/>
                </a:moveTo>
                <a:cubicBezTo>
                  <a:pt x="7242" y="17247"/>
                  <a:pt x="7269" y="17272"/>
                  <a:pt x="7317" y="17314"/>
                </a:cubicBezTo>
                <a:cubicBezTo>
                  <a:pt x="7355" y="17347"/>
                  <a:pt x="7411" y="17389"/>
                  <a:pt x="7417" y="17438"/>
                </a:cubicBezTo>
                <a:cubicBezTo>
                  <a:pt x="7422" y="17479"/>
                  <a:pt x="7377" y="17509"/>
                  <a:pt x="7342" y="17512"/>
                </a:cubicBezTo>
                <a:cubicBezTo>
                  <a:pt x="7312" y="17514"/>
                  <a:pt x="7234" y="17511"/>
                  <a:pt x="7218" y="17487"/>
                </a:cubicBezTo>
                <a:cubicBezTo>
                  <a:pt x="7207" y="17471"/>
                  <a:pt x="7177" y="17428"/>
                  <a:pt x="7144" y="17413"/>
                </a:cubicBezTo>
                <a:cubicBezTo>
                  <a:pt x="7136" y="17413"/>
                  <a:pt x="7127" y="17413"/>
                  <a:pt x="7119" y="17413"/>
                </a:cubicBezTo>
              </a:path>
              <a:path w="11709" h="2704">
                <a:moveTo>
                  <a:pt x="4514" y="18058"/>
                </a:moveTo>
                <a:cubicBezTo>
                  <a:pt x="4514" y="17979"/>
                  <a:pt x="4517" y="17994"/>
                  <a:pt x="4465" y="17959"/>
                </a:cubicBezTo>
                <a:cubicBezTo>
                  <a:pt x="4416" y="17926"/>
                  <a:pt x="4397" y="17972"/>
                  <a:pt x="4341" y="17983"/>
                </a:cubicBezTo>
                <a:cubicBezTo>
                  <a:pt x="4250" y="18000"/>
                  <a:pt x="4270" y="18004"/>
                  <a:pt x="4242" y="18083"/>
                </a:cubicBezTo>
                <a:cubicBezTo>
                  <a:pt x="4213" y="18166"/>
                  <a:pt x="4232" y="18169"/>
                  <a:pt x="4291" y="18207"/>
                </a:cubicBezTo>
                <a:cubicBezTo>
                  <a:pt x="4353" y="18247"/>
                  <a:pt x="4344" y="18243"/>
                  <a:pt x="4415" y="18231"/>
                </a:cubicBezTo>
                <a:cubicBezTo>
                  <a:pt x="4441" y="18227"/>
                  <a:pt x="4501" y="18227"/>
                  <a:pt x="4514" y="18207"/>
                </a:cubicBezTo>
                <a:cubicBezTo>
                  <a:pt x="4533" y="18178"/>
                  <a:pt x="4525" y="18186"/>
                  <a:pt x="4564" y="18157"/>
                </a:cubicBezTo>
                <a:cubicBezTo>
                  <a:pt x="4564" y="18214"/>
                  <a:pt x="4548" y="18253"/>
                  <a:pt x="4539" y="18306"/>
                </a:cubicBezTo>
                <a:cubicBezTo>
                  <a:pt x="4525" y="18391"/>
                  <a:pt x="4514" y="18466"/>
                  <a:pt x="4514" y="18554"/>
                </a:cubicBezTo>
                <a:cubicBezTo>
                  <a:pt x="4514" y="18608"/>
                  <a:pt x="4494" y="18688"/>
                  <a:pt x="4539" y="18703"/>
                </a:cubicBezTo>
              </a:path>
              <a:path w="11709" h="2704">
                <a:moveTo>
                  <a:pt x="4713" y="18207"/>
                </a:moveTo>
                <a:cubicBezTo>
                  <a:pt x="4784" y="18213"/>
                  <a:pt x="4840" y="18231"/>
                  <a:pt x="4911" y="18231"/>
                </a:cubicBezTo>
                <a:cubicBezTo>
                  <a:pt x="4965" y="18231"/>
                  <a:pt x="5006" y="18214"/>
                  <a:pt x="5060" y="18207"/>
                </a:cubicBezTo>
              </a:path>
              <a:path w="11709" h="2704">
                <a:moveTo>
                  <a:pt x="5234" y="18033"/>
                </a:moveTo>
                <a:cubicBezTo>
                  <a:pt x="5306" y="18033"/>
                  <a:pt x="5323" y="18067"/>
                  <a:pt x="5383" y="18083"/>
                </a:cubicBezTo>
                <a:cubicBezTo>
                  <a:pt x="5434" y="18097"/>
                  <a:pt x="5475" y="18090"/>
                  <a:pt x="5482" y="18157"/>
                </a:cubicBezTo>
                <a:cubicBezTo>
                  <a:pt x="5488" y="18214"/>
                  <a:pt x="5463" y="18237"/>
                  <a:pt x="5407" y="18256"/>
                </a:cubicBezTo>
                <a:cubicBezTo>
                  <a:pt x="5366" y="18270"/>
                  <a:pt x="5320" y="18293"/>
                  <a:pt x="5283" y="18306"/>
                </a:cubicBezTo>
                <a:cubicBezTo>
                  <a:pt x="5259" y="18306"/>
                  <a:pt x="5250" y="18306"/>
                  <a:pt x="5234" y="18306"/>
                </a:cubicBezTo>
                <a:cubicBezTo>
                  <a:pt x="5277" y="18339"/>
                  <a:pt x="5284" y="18319"/>
                  <a:pt x="5333" y="18331"/>
                </a:cubicBezTo>
                <a:cubicBezTo>
                  <a:pt x="5437" y="18357"/>
                  <a:pt x="5424" y="18353"/>
                  <a:pt x="5482" y="18430"/>
                </a:cubicBezTo>
                <a:cubicBezTo>
                  <a:pt x="5523" y="18485"/>
                  <a:pt x="5507" y="18557"/>
                  <a:pt x="5507" y="18628"/>
                </a:cubicBezTo>
                <a:cubicBezTo>
                  <a:pt x="5507" y="18688"/>
                  <a:pt x="5455" y="18700"/>
                  <a:pt x="5407" y="18703"/>
                </a:cubicBezTo>
                <a:cubicBezTo>
                  <a:pt x="5346" y="18707"/>
                  <a:pt x="5308" y="18704"/>
                  <a:pt x="5259" y="18678"/>
                </a:cubicBezTo>
                <a:cubicBezTo>
                  <a:pt x="5202" y="18648"/>
                  <a:pt x="5182" y="18626"/>
                  <a:pt x="5135" y="18579"/>
                </a:cubicBezTo>
              </a:path>
              <a:path w="11709" h="2704">
                <a:moveTo>
                  <a:pt x="7987" y="17487"/>
                </a:moveTo>
                <a:cubicBezTo>
                  <a:pt x="8051" y="17511"/>
                  <a:pt x="8092" y="17512"/>
                  <a:pt x="8161" y="17512"/>
                </a:cubicBezTo>
                <a:cubicBezTo>
                  <a:pt x="8169" y="17512"/>
                  <a:pt x="8178" y="17512"/>
                  <a:pt x="8186" y="17512"/>
                </a:cubicBezTo>
              </a:path>
              <a:path w="11709" h="2704">
                <a:moveTo>
                  <a:pt x="8012" y="17785"/>
                </a:moveTo>
                <a:cubicBezTo>
                  <a:pt x="8085" y="17812"/>
                  <a:pt x="8134" y="17835"/>
                  <a:pt x="8210" y="17835"/>
                </a:cubicBezTo>
              </a:path>
              <a:path w="11709" h="2704">
                <a:moveTo>
                  <a:pt x="8682" y="17388"/>
                </a:moveTo>
                <a:cubicBezTo>
                  <a:pt x="8682" y="17545"/>
                  <a:pt x="8682" y="17702"/>
                  <a:pt x="8682" y="17859"/>
                </a:cubicBezTo>
              </a:path>
              <a:path w="11709" h="2704">
                <a:moveTo>
                  <a:pt x="8806" y="17363"/>
                </a:moveTo>
                <a:cubicBezTo>
                  <a:pt x="8862" y="17354"/>
                  <a:pt x="8954" y="17330"/>
                  <a:pt x="9004" y="17388"/>
                </a:cubicBezTo>
                <a:cubicBezTo>
                  <a:pt x="9042" y="17432"/>
                  <a:pt x="9017" y="17469"/>
                  <a:pt x="9004" y="17512"/>
                </a:cubicBezTo>
                <a:cubicBezTo>
                  <a:pt x="8994" y="17547"/>
                  <a:pt x="8999" y="17581"/>
                  <a:pt x="8979" y="17611"/>
                </a:cubicBezTo>
                <a:cubicBezTo>
                  <a:pt x="8935" y="17676"/>
                  <a:pt x="8962" y="17691"/>
                  <a:pt x="8979" y="17760"/>
                </a:cubicBezTo>
                <a:cubicBezTo>
                  <a:pt x="8990" y="17805"/>
                  <a:pt x="9020" y="17825"/>
                  <a:pt x="9054" y="17859"/>
                </a:cubicBezTo>
                <a:cubicBezTo>
                  <a:pt x="9117" y="17923"/>
                  <a:pt x="9136" y="17909"/>
                  <a:pt x="9227" y="17909"/>
                </a:cubicBezTo>
              </a:path>
              <a:path w="11709" h="2704">
                <a:moveTo>
                  <a:pt x="9426" y="17438"/>
                </a:moveTo>
                <a:cubicBezTo>
                  <a:pt x="9457" y="17518"/>
                  <a:pt x="9435" y="17577"/>
                  <a:pt x="9451" y="17661"/>
                </a:cubicBezTo>
                <a:cubicBezTo>
                  <a:pt x="9465" y="17736"/>
                  <a:pt x="9488" y="17812"/>
                  <a:pt x="9500" y="17884"/>
                </a:cubicBezTo>
                <a:cubicBezTo>
                  <a:pt x="9500" y="17901"/>
                  <a:pt x="9500" y="17917"/>
                  <a:pt x="9500" y="17934"/>
                </a:cubicBezTo>
              </a:path>
              <a:path w="11709" h="2704">
                <a:moveTo>
                  <a:pt x="9351" y="17686"/>
                </a:moveTo>
                <a:cubicBezTo>
                  <a:pt x="9441" y="17705"/>
                  <a:pt x="9508" y="17711"/>
                  <a:pt x="9599" y="17711"/>
                </a:cubicBezTo>
                <a:cubicBezTo>
                  <a:pt x="9616" y="17711"/>
                  <a:pt x="9632" y="17711"/>
                  <a:pt x="9649" y="17711"/>
                </a:cubicBezTo>
              </a:path>
              <a:path w="11709" h="2704">
                <a:moveTo>
                  <a:pt x="9847" y="17413"/>
                </a:moveTo>
                <a:cubicBezTo>
                  <a:pt x="9847" y="17347"/>
                  <a:pt x="9831" y="17513"/>
                  <a:pt x="9823" y="17537"/>
                </a:cubicBezTo>
                <a:cubicBezTo>
                  <a:pt x="9798" y="17616"/>
                  <a:pt x="9773" y="17649"/>
                  <a:pt x="9773" y="17735"/>
                </a:cubicBezTo>
                <a:cubicBezTo>
                  <a:pt x="9773" y="17802"/>
                  <a:pt x="9809" y="17878"/>
                  <a:pt x="9847" y="17934"/>
                </a:cubicBezTo>
                <a:cubicBezTo>
                  <a:pt x="9873" y="17971"/>
                  <a:pt x="9924" y="18006"/>
                  <a:pt x="9971" y="17983"/>
                </a:cubicBezTo>
                <a:cubicBezTo>
                  <a:pt x="10008" y="17965"/>
                  <a:pt x="10068" y="17897"/>
                  <a:pt x="10071" y="17859"/>
                </a:cubicBezTo>
                <a:cubicBezTo>
                  <a:pt x="10074" y="17818"/>
                  <a:pt x="10071" y="17776"/>
                  <a:pt x="10071" y="17735"/>
                </a:cubicBezTo>
                <a:cubicBezTo>
                  <a:pt x="10013" y="17735"/>
                  <a:pt x="9992" y="17747"/>
                  <a:pt x="9971" y="17810"/>
                </a:cubicBezTo>
                <a:cubicBezTo>
                  <a:pt x="9955" y="17857"/>
                  <a:pt x="9968" y="17924"/>
                  <a:pt x="9996" y="17959"/>
                </a:cubicBezTo>
                <a:cubicBezTo>
                  <a:pt x="10019" y="17981"/>
                  <a:pt x="10024" y="17989"/>
                  <a:pt x="10046" y="17983"/>
                </a:cubicBezTo>
              </a:path>
              <a:path w="11709" h="2704">
                <a:moveTo>
                  <a:pt x="10294" y="17512"/>
                </a:moveTo>
                <a:cubicBezTo>
                  <a:pt x="10294" y="17656"/>
                  <a:pt x="10287" y="17798"/>
                  <a:pt x="10319" y="17934"/>
                </a:cubicBezTo>
                <a:cubicBezTo>
                  <a:pt x="10330" y="17982"/>
                  <a:pt x="10319" y="17993"/>
                  <a:pt x="10319" y="17934"/>
                </a:cubicBezTo>
                <a:cubicBezTo>
                  <a:pt x="10319" y="17860"/>
                  <a:pt x="10335" y="17802"/>
                  <a:pt x="10344" y="17735"/>
                </a:cubicBezTo>
                <a:cubicBezTo>
                  <a:pt x="10363" y="17587"/>
                  <a:pt x="10342" y="17426"/>
                  <a:pt x="10368" y="17289"/>
                </a:cubicBezTo>
                <a:cubicBezTo>
                  <a:pt x="10377" y="17245"/>
                  <a:pt x="10373" y="17195"/>
                  <a:pt x="10418" y="17190"/>
                </a:cubicBezTo>
                <a:cubicBezTo>
                  <a:pt x="10470" y="17184"/>
                  <a:pt x="10528" y="17183"/>
                  <a:pt x="10567" y="17214"/>
                </a:cubicBezTo>
                <a:cubicBezTo>
                  <a:pt x="10607" y="17245"/>
                  <a:pt x="10645" y="17266"/>
                  <a:pt x="10691" y="17289"/>
                </a:cubicBezTo>
              </a:path>
              <a:path w="11709" h="2704">
                <a:moveTo>
                  <a:pt x="10542" y="17438"/>
                </a:moveTo>
                <a:cubicBezTo>
                  <a:pt x="10574" y="17480"/>
                  <a:pt x="10561" y="17487"/>
                  <a:pt x="10616" y="17487"/>
                </a:cubicBezTo>
                <a:cubicBezTo>
                  <a:pt x="10650" y="17487"/>
                  <a:pt x="10691" y="17514"/>
                  <a:pt x="10716" y="17537"/>
                </a:cubicBezTo>
                <a:cubicBezTo>
                  <a:pt x="10743" y="17561"/>
                  <a:pt x="10760" y="17614"/>
                  <a:pt x="10716" y="17636"/>
                </a:cubicBezTo>
                <a:cubicBezTo>
                  <a:pt x="10691" y="17636"/>
                  <a:pt x="10683" y="17636"/>
                  <a:pt x="10666" y="17636"/>
                </a:cubicBezTo>
                <a:cubicBezTo>
                  <a:pt x="10680" y="17690"/>
                  <a:pt x="10722" y="17725"/>
                  <a:pt x="10740" y="17785"/>
                </a:cubicBezTo>
                <a:cubicBezTo>
                  <a:pt x="10758" y="17845"/>
                  <a:pt x="10798" y="17947"/>
                  <a:pt x="10716" y="17983"/>
                </a:cubicBezTo>
                <a:cubicBezTo>
                  <a:pt x="10678" y="18000"/>
                  <a:pt x="10630" y="17992"/>
                  <a:pt x="10592" y="18008"/>
                </a:cubicBezTo>
                <a:cubicBezTo>
                  <a:pt x="10578" y="18014"/>
                  <a:pt x="10490" y="18061"/>
                  <a:pt x="10468" y="18033"/>
                </a:cubicBezTo>
                <a:cubicBezTo>
                  <a:pt x="10468" y="18008"/>
                  <a:pt x="10468" y="18000"/>
                  <a:pt x="10492" y="18008"/>
                </a:cubicBezTo>
              </a:path>
              <a:path w="11709" h="2704">
                <a:moveTo>
                  <a:pt x="10889" y="18083"/>
                </a:moveTo>
                <a:cubicBezTo>
                  <a:pt x="10822" y="18135"/>
                  <a:pt x="10731" y="18195"/>
                  <a:pt x="10641" y="18207"/>
                </a:cubicBezTo>
                <a:cubicBezTo>
                  <a:pt x="10519" y="18223"/>
                  <a:pt x="10390" y="18211"/>
                  <a:pt x="10269" y="18231"/>
                </a:cubicBezTo>
                <a:cubicBezTo>
                  <a:pt x="10164" y="18248"/>
                  <a:pt x="10051" y="18237"/>
                  <a:pt x="9947" y="18256"/>
                </a:cubicBezTo>
                <a:cubicBezTo>
                  <a:pt x="9829" y="18278"/>
                  <a:pt x="9721" y="18281"/>
                  <a:pt x="9599" y="18281"/>
                </a:cubicBezTo>
                <a:cubicBezTo>
                  <a:pt x="9496" y="18281"/>
                  <a:pt x="9370" y="18314"/>
                  <a:pt x="9277" y="18355"/>
                </a:cubicBezTo>
                <a:cubicBezTo>
                  <a:pt x="9237" y="18375"/>
                  <a:pt x="9230" y="18384"/>
                  <a:pt x="9203" y="18380"/>
                </a:cubicBezTo>
              </a:path>
              <a:path w="11709" h="2704">
                <a:moveTo>
                  <a:pt x="9624" y="18331"/>
                </a:moveTo>
                <a:cubicBezTo>
                  <a:pt x="9659" y="18410"/>
                  <a:pt x="9629" y="18399"/>
                  <a:pt x="9624" y="18479"/>
                </a:cubicBezTo>
                <a:cubicBezTo>
                  <a:pt x="9619" y="18557"/>
                  <a:pt x="9542" y="18654"/>
                  <a:pt x="9550" y="18728"/>
                </a:cubicBezTo>
                <a:cubicBezTo>
                  <a:pt x="9555" y="18771"/>
                  <a:pt x="9588" y="18870"/>
                  <a:pt x="9624" y="18901"/>
                </a:cubicBezTo>
                <a:cubicBezTo>
                  <a:pt x="9694" y="18961"/>
                  <a:pt x="9726" y="18944"/>
                  <a:pt x="9798" y="18926"/>
                </a:cubicBezTo>
                <a:cubicBezTo>
                  <a:pt x="9845" y="18914"/>
                  <a:pt x="9880" y="18879"/>
                  <a:pt x="9897" y="18827"/>
                </a:cubicBezTo>
                <a:cubicBezTo>
                  <a:pt x="9918" y="18765"/>
                  <a:pt x="9909" y="18782"/>
                  <a:pt x="9897" y="18728"/>
                </a:cubicBezTo>
                <a:cubicBezTo>
                  <a:pt x="9897" y="18686"/>
                  <a:pt x="9905" y="18670"/>
                  <a:pt x="9872" y="18678"/>
                </a:cubicBezTo>
                <a:cubicBezTo>
                  <a:pt x="9825" y="18690"/>
                  <a:pt x="9811" y="18725"/>
                  <a:pt x="9798" y="18777"/>
                </a:cubicBezTo>
                <a:cubicBezTo>
                  <a:pt x="9786" y="18826"/>
                  <a:pt x="9807" y="18858"/>
                  <a:pt x="9823" y="18901"/>
                </a:cubicBezTo>
              </a:path>
              <a:path w="11709" h="2704">
                <a:moveTo>
                  <a:pt x="11311" y="18182"/>
                </a:moveTo>
                <a:cubicBezTo>
                  <a:pt x="11369" y="18182"/>
                  <a:pt x="11377" y="18182"/>
                  <a:pt x="11410" y="18182"/>
                </a:cubicBezTo>
              </a:path>
              <a:path w="11709" h="2704">
                <a:moveTo>
                  <a:pt x="11261" y="18306"/>
                </a:moveTo>
                <a:cubicBezTo>
                  <a:pt x="11307" y="18351"/>
                  <a:pt x="11345" y="18393"/>
                  <a:pt x="11410" y="18405"/>
                </a:cubicBezTo>
                <a:cubicBezTo>
                  <a:pt x="11452" y="18405"/>
                  <a:pt x="11460" y="18405"/>
                  <a:pt x="11485" y="18405"/>
                </a:cubicBezTo>
              </a:path>
              <a:path w="11709" h="2704">
                <a:moveTo>
                  <a:pt x="11807" y="17909"/>
                </a:moveTo>
                <a:cubicBezTo>
                  <a:pt x="11867" y="17867"/>
                  <a:pt x="11889" y="17835"/>
                  <a:pt x="11956" y="17835"/>
                </a:cubicBezTo>
                <a:cubicBezTo>
                  <a:pt x="12006" y="17835"/>
                  <a:pt x="12073" y="17864"/>
                  <a:pt x="12105" y="17909"/>
                </a:cubicBezTo>
                <a:cubicBezTo>
                  <a:pt x="12138" y="17956"/>
                  <a:pt x="12141" y="18051"/>
                  <a:pt x="12129" y="18107"/>
                </a:cubicBezTo>
                <a:cubicBezTo>
                  <a:pt x="12108" y="18205"/>
                  <a:pt x="12024" y="18263"/>
                  <a:pt x="11956" y="18331"/>
                </a:cubicBezTo>
                <a:cubicBezTo>
                  <a:pt x="11925" y="18362"/>
                  <a:pt x="11851" y="18376"/>
                  <a:pt x="11807" y="18380"/>
                </a:cubicBezTo>
                <a:cubicBezTo>
                  <a:pt x="11799" y="18380"/>
                  <a:pt x="11790" y="18380"/>
                  <a:pt x="11782" y="18380"/>
                </a:cubicBezTo>
                <a:cubicBezTo>
                  <a:pt x="11782" y="18330"/>
                  <a:pt x="11793" y="18322"/>
                  <a:pt x="11807" y="18281"/>
                </a:cubicBezTo>
                <a:cubicBezTo>
                  <a:pt x="11816" y="18254"/>
                  <a:pt x="11842" y="18242"/>
                  <a:pt x="11881" y="18256"/>
                </a:cubicBezTo>
                <a:cubicBezTo>
                  <a:pt x="11961" y="18285"/>
                  <a:pt x="12043" y="18372"/>
                  <a:pt x="12105" y="18430"/>
                </a:cubicBezTo>
                <a:cubicBezTo>
                  <a:pt x="12135" y="18458"/>
                  <a:pt x="12177" y="18533"/>
                  <a:pt x="12229" y="18504"/>
                </a:cubicBezTo>
                <a:cubicBezTo>
                  <a:pt x="12237" y="18496"/>
                  <a:pt x="12246" y="18487"/>
                  <a:pt x="12254" y="18479"/>
                </a:cubicBezTo>
              </a:path>
              <a:path w="11709" h="2704">
                <a:moveTo>
                  <a:pt x="12551" y="17810"/>
                </a:moveTo>
                <a:cubicBezTo>
                  <a:pt x="12551" y="17873"/>
                  <a:pt x="12567" y="17926"/>
                  <a:pt x="12576" y="17983"/>
                </a:cubicBezTo>
                <a:cubicBezTo>
                  <a:pt x="12595" y="18101"/>
                  <a:pt x="12576" y="18235"/>
                  <a:pt x="12576" y="18355"/>
                </a:cubicBezTo>
              </a:path>
              <a:path w="11709" h="2704">
                <a:moveTo>
                  <a:pt x="12452" y="18083"/>
                </a:moveTo>
                <a:cubicBezTo>
                  <a:pt x="12529" y="18112"/>
                  <a:pt x="12581" y="18127"/>
                  <a:pt x="12650" y="18157"/>
                </a:cubicBezTo>
              </a:path>
              <a:path w="11709" h="2704">
                <a:moveTo>
                  <a:pt x="12898" y="17959"/>
                </a:moveTo>
                <a:cubicBezTo>
                  <a:pt x="12892" y="18062"/>
                  <a:pt x="12874" y="18154"/>
                  <a:pt x="12874" y="18256"/>
                </a:cubicBezTo>
                <a:cubicBezTo>
                  <a:pt x="12874" y="18324"/>
                  <a:pt x="12886" y="18356"/>
                  <a:pt x="12849" y="18405"/>
                </a:cubicBezTo>
                <a:cubicBezTo>
                  <a:pt x="12849" y="18308"/>
                  <a:pt x="12859" y="18223"/>
                  <a:pt x="12874" y="18132"/>
                </a:cubicBezTo>
                <a:cubicBezTo>
                  <a:pt x="12884" y="18075"/>
                  <a:pt x="12889" y="18007"/>
                  <a:pt x="12898" y="17959"/>
                </a:cubicBezTo>
                <a:cubicBezTo>
                  <a:pt x="12910" y="17896"/>
                  <a:pt x="12906" y="17840"/>
                  <a:pt x="12923" y="17785"/>
                </a:cubicBezTo>
                <a:cubicBezTo>
                  <a:pt x="12931" y="17760"/>
                  <a:pt x="12954" y="17674"/>
                  <a:pt x="12973" y="17661"/>
                </a:cubicBezTo>
                <a:cubicBezTo>
                  <a:pt x="12984" y="17654"/>
                  <a:pt x="13084" y="17609"/>
                  <a:pt x="13097" y="17611"/>
                </a:cubicBezTo>
                <a:cubicBezTo>
                  <a:pt x="13125" y="17616"/>
                  <a:pt x="13199" y="17642"/>
                  <a:pt x="13221" y="17661"/>
                </a:cubicBezTo>
                <a:cubicBezTo>
                  <a:pt x="13269" y="17703"/>
                  <a:pt x="13312" y="17745"/>
                  <a:pt x="13370" y="17760"/>
                </a:cubicBezTo>
              </a:path>
              <a:path w="11709" h="2704">
                <a:moveTo>
                  <a:pt x="13196" y="18008"/>
                </a:moveTo>
                <a:cubicBezTo>
                  <a:pt x="13228" y="18008"/>
                  <a:pt x="13275" y="17974"/>
                  <a:pt x="13295" y="17983"/>
                </a:cubicBezTo>
                <a:cubicBezTo>
                  <a:pt x="13336" y="18002"/>
                  <a:pt x="13373" y="18029"/>
                  <a:pt x="13395" y="18058"/>
                </a:cubicBezTo>
                <a:cubicBezTo>
                  <a:pt x="13423" y="18096"/>
                  <a:pt x="13488" y="18138"/>
                  <a:pt x="13419" y="18182"/>
                </a:cubicBezTo>
                <a:cubicBezTo>
                  <a:pt x="13390" y="18200"/>
                  <a:pt x="13306" y="18251"/>
                  <a:pt x="13295" y="18256"/>
                </a:cubicBezTo>
                <a:cubicBezTo>
                  <a:pt x="13269" y="18269"/>
                  <a:pt x="13217" y="18254"/>
                  <a:pt x="13295" y="18281"/>
                </a:cubicBezTo>
                <a:cubicBezTo>
                  <a:pt x="13337" y="18295"/>
                  <a:pt x="13361" y="18320"/>
                  <a:pt x="13395" y="18355"/>
                </a:cubicBezTo>
                <a:cubicBezTo>
                  <a:pt x="13457" y="18417"/>
                  <a:pt x="13411" y="18517"/>
                  <a:pt x="13395" y="18579"/>
                </a:cubicBezTo>
                <a:cubicBezTo>
                  <a:pt x="13385" y="18615"/>
                  <a:pt x="13358" y="18640"/>
                  <a:pt x="13320" y="18653"/>
                </a:cubicBezTo>
                <a:cubicBezTo>
                  <a:pt x="13268" y="18670"/>
                  <a:pt x="13239" y="18633"/>
                  <a:pt x="13196" y="18628"/>
                </a:cubicBezTo>
                <a:cubicBezTo>
                  <a:pt x="13145" y="18622"/>
                  <a:pt x="13129" y="18587"/>
                  <a:pt x="13072" y="18579"/>
                </a:cubicBezTo>
              </a:path>
              <a:path w="11709" h="2704">
                <a:moveTo>
                  <a:pt x="11733" y="17239"/>
                </a:moveTo>
                <a:cubicBezTo>
                  <a:pt x="11664" y="17219"/>
                  <a:pt x="11655" y="17230"/>
                  <a:pt x="11584" y="17264"/>
                </a:cubicBezTo>
                <a:cubicBezTo>
                  <a:pt x="11515" y="17297"/>
                  <a:pt x="11432" y="17326"/>
                  <a:pt x="11385" y="17388"/>
                </a:cubicBezTo>
                <a:cubicBezTo>
                  <a:pt x="11322" y="17471"/>
                  <a:pt x="11336" y="17548"/>
                  <a:pt x="11385" y="17636"/>
                </a:cubicBezTo>
                <a:cubicBezTo>
                  <a:pt x="11428" y="17713"/>
                  <a:pt x="11487" y="17765"/>
                  <a:pt x="11534" y="17835"/>
                </a:cubicBezTo>
                <a:cubicBezTo>
                  <a:pt x="11542" y="17851"/>
                  <a:pt x="11551" y="17868"/>
                  <a:pt x="11559" y="17884"/>
                </a:cubicBezTo>
              </a:path>
              <a:path w="11709" h="2704">
                <a:moveTo>
                  <a:pt x="11534" y="17959"/>
                </a:moveTo>
                <a:cubicBezTo>
                  <a:pt x="11464" y="17990"/>
                  <a:pt x="11431" y="17987"/>
                  <a:pt x="11410" y="18058"/>
                </a:cubicBezTo>
                <a:cubicBezTo>
                  <a:pt x="11384" y="18146"/>
                  <a:pt x="11434" y="18174"/>
                  <a:pt x="11485" y="18231"/>
                </a:cubicBezTo>
                <a:cubicBezTo>
                  <a:pt x="11551" y="18305"/>
                  <a:pt x="11606" y="18368"/>
                  <a:pt x="11683" y="18430"/>
                </a:cubicBezTo>
                <a:cubicBezTo>
                  <a:pt x="11719" y="18458"/>
                  <a:pt x="11775" y="18482"/>
                  <a:pt x="11807" y="18504"/>
                </a:cubicBezTo>
                <a:cubicBezTo>
                  <a:pt x="11800" y="18570"/>
                  <a:pt x="11796" y="18533"/>
                  <a:pt x="11807" y="18579"/>
                </a:cubicBezTo>
                <a:cubicBezTo>
                  <a:pt x="11827" y="18666"/>
                  <a:pt x="11873" y="18694"/>
                  <a:pt x="11956" y="18728"/>
                </a:cubicBezTo>
                <a:cubicBezTo>
                  <a:pt x="12006" y="18748"/>
                  <a:pt x="12091" y="18770"/>
                  <a:pt x="12154" y="18752"/>
                </a:cubicBezTo>
                <a:cubicBezTo>
                  <a:pt x="12206" y="18737"/>
                  <a:pt x="12282" y="18692"/>
                  <a:pt x="12303" y="18678"/>
                </a:cubicBezTo>
                <a:cubicBezTo>
                  <a:pt x="12328" y="18678"/>
                  <a:pt x="12336" y="18678"/>
                  <a:pt x="12328" y="18653"/>
                </a:cubicBezTo>
                <a:cubicBezTo>
                  <a:pt x="12372" y="18685"/>
                  <a:pt x="12403" y="18715"/>
                  <a:pt x="12452" y="18752"/>
                </a:cubicBezTo>
                <a:cubicBezTo>
                  <a:pt x="12512" y="18797"/>
                  <a:pt x="12585" y="18835"/>
                  <a:pt x="12650" y="18876"/>
                </a:cubicBezTo>
                <a:cubicBezTo>
                  <a:pt x="12768" y="18950"/>
                  <a:pt x="12859" y="18987"/>
                  <a:pt x="12998" y="19000"/>
                </a:cubicBezTo>
                <a:cubicBezTo>
                  <a:pt x="13075" y="19007"/>
                  <a:pt x="13079" y="18978"/>
                  <a:pt x="13146" y="18951"/>
                </a:cubicBezTo>
                <a:cubicBezTo>
                  <a:pt x="13199" y="18929"/>
                  <a:pt x="13235" y="18910"/>
                  <a:pt x="13295" y="18901"/>
                </a:cubicBezTo>
                <a:cubicBezTo>
                  <a:pt x="13366" y="18890"/>
                  <a:pt x="13378" y="18885"/>
                  <a:pt x="13444" y="18852"/>
                </a:cubicBezTo>
                <a:cubicBezTo>
                  <a:pt x="13503" y="18822"/>
                  <a:pt x="13571" y="18799"/>
                  <a:pt x="13618" y="18752"/>
                </a:cubicBezTo>
                <a:cubicBezTo>
                  <a:pt x="13657" y="18713"/>
                  <a:pt x="13662" y="18668"/>
                  <a:pt x="13692" y="18628"/>
                </a:cubicBezTo>
                <a:cubicBezTo>
                  <a:pt x="13726" y="18582"/>
                  <a:pt x="13716" y="18602"/>
                  <a:pt x="13767" y="18579"/>
                </a:cubicBezTo>
                <a:cubicBezTo>
                  <a:pt x="13805" y="18562"/>
                  <a:pt x="13867" y="18551"/>
                  <a:pt x="13891" y="18504"/>
                </a:cubicBezTo>
                <a:cubicBezTo>
                  <a:pt x="13932" y="18425"/>
                  <a:pt x="13937" y="18320"/>
                  <a:pt x="13940" y="18231"/>
                </a:cubicBezTo>
                <a:cubicBezTo>
                  <a:pt x="13943" y="18148"/>
                  <a:pt x="13932" y="18082"/>
                  <a:pt x="13891" y="18008"/>
                </a:cubicBezTo>
                <a:cubicBezTo>
                  <a:pt x="13846" y="17928"/>
                  <a:pt x="13812" y="17838"/>
                  <a:pt x="13767" y="17760"/>
                </a:cubicBezTo>
                <a:cubicBezTo>
                  <a:pt x="13721" y="17680"/>
                  <a:pt x="13653" y="17605"/>
                  <a:pt x="13568" y="17562"/>
                </a:cubicBezTo>
                <a:cubicBezTo>
                  <a:pt x="13491" y="17523"/>
                  <a:pt x="13385" y="17462"/>
                  <a:pt x="13295" y="17462"/>
                </a:cubicBezTo>
                <a:cubicBezTo>
                  <a:pt x="13244" y="17462"/>
                  <a:pt x="13220" y="17500"/>
                  <a:pt x="13171" y="17487"/>
                </a:cubicBezTo>
                <a:cubicBezTo>
                  <a:pt x="13130" y="17476"/>
                  <a:pt x="13113" y="17411"/>
                  <a:pt x="13072" y="17388"/>
                </a:cubicBezTo>
                <a:cubicBezTo>
                  <a:pt x="13017" y="17357"/>
                  <a:pt x="12965" y="17349"/>
                  <a:pt x="12898" y="17338"/>
                </a:cubicBezTo>
                <a:cubicBezTo>
                  <a:pt x="12814" y="17325"/>
                  <a:pt x="12693" y="17369"/>
                  <a:pt x="12626" y="17314"/>
                </a:cubicBezTo>
                <a:cubicBezTo>
                  <a:pt x="12564" y="17263"/>
                  <a:pt x="12550" y="17204"/>
                  <a:pt x="12477" y="17165"/>
                </a:cubicBezTo>
                <a:cubicBezTo>
                  <a:pt x="12439" y="17145"/>
                  <a:pt x="12374" y="17142"/>
                  <a:pt x="12328" y="17140"/>
                </a:cubicBezTo>
                <a:cubicBezTo>
                  <a:pt x="12259" y="17137"/>
                  <a:pt x="12260" y="17149"/>
                  <a:pt x="12229" y="17165"/>
                </a:cubicBezTo>
                <a:cubicBezTo>
                  <a:pt x="12183" y="17190"/>
                  <a:pt x="12137" y="17220"/>
                  <a:pt x="12080" y="17239"/>
                </a:cubicBezTo>
                <a:cubicBezTo>
                  <a:pt x="12028" y="17256"/>
                  <a:pt x="11984" y="17273"/>
                  <a:pt x="11931" y="172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95934b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Find the sine, cosine and tangent of 10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10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13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- 30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11120" y="2089080"/>
            <a:ext cx="438120" cy="285840"/>
          </a:xfrm>
          <a:custGeom>
            <a:avLst/>
            <a:gdLst/>
            <a:ahLst/>
            <a:rect l="l" t="t" r="r" b="b"/>
            <a:pathLst>
              <a:path w="1216" h="795">
                <a:moveTo>
                  <a:pt x="1439" y="6127"/>
                </a:moveTo>
                <a:cubicBezTo>
                  <a:pt x="1439" y="6067"/>
                  <a:pt x="1430" y="6078"/>
                  <a:pt x="1389" y="6052"/>
                </a:cubicBezTo>
                <a:cubicBezTo>
                  <a:pt x="1332" y="6015"/>
                  <a:pt x="1349" y="6046"/>
                  <a:pt x="1290" y="6052"/>
                </a:cubicBezTo>
                <a:cubicBezTo>
                  <a:pt x="1253" y="6056"/>
                  <a:pt x="1219" y="6077"/>
                  <a:pt x="1191" y="6102"/>
                </a:cubicBezTo>
                <a:cubicBezTo>
                  <a:pt x="1152" y="6137"/>
                  <a:pt x="1141" y="6150"/>
                  <a:pt x="1141" y="6201"/>
                </a:cubicBezTo>
                <a:cubicBezTo>
                  <a:pt x="1192" y="6201"/>
                  <a:pt x="1199" y="6212"/>
                  <a:pt x="1240" y="6226"/>
                </a:cubicBezTo>
                <a:cubicBezTo>
                  <a:pt x="1291" y="6243"/>
                  <a:pt x="1337" y="6241"/>
                  <a:pt x="1389" y="6276"/>
                </a:cubicBezTo>
                <a:cubicBezTo>
                  <a:pt x="1436" y="6308"/>
                  <a:pt x="1472" y="6372"/>
                  <a:pt x="1488" y="6424"/>
                </a:cubicBezTo>
                <a:cubicBezTo>
                  <a:pt x="1502" y="6470"/>
                  <a:pt x="1475" y="6490"/>
                  <a:pt x="1463" y="6524"/>
                </a:cubicBezTo>
                <a:cubicBezTo>
                  <a:pt x="1450" y="6563"/>
                  <a:pt x="1437" y="6595"/>
                  <a:pt x="1389" y="6598"/>
                </a:cubicBezTo>
                <a:cubicBezTo>
                  <a:pt x="1318" y="6603"/>
                  <a:pt x="1248" y="6604"/>
                  <a:pt x="1191" y="6573"/>
                </a:cubicBezTo>
                <a:cubicBezTo>
                  <a:pt x="1133" y="6542"/>
                  <a:pt x="1144" y="6539"/>
                  <a:pt x="1191" y="6524"/>
                </a:cubicBezTo>
              </a:path>
              <a:path w="1216" h="795">
                <a:moveTo>
                  <a:pt x="1662" y="6102"/>
                </a:moveTo>
                <a:cubicBezTo>
                  <a:pt x="1680" y="6184"/>
                  <a:pt x="1699" y="6271"/>
                  <a:pt x="1712" y="6350"/>
                </a:cubicBezTo>
                <a:cubicBezTo>
                  <a:pt x="1722" y="6409"/>
                  <a:pt x="1720" y="6449"/>
                  <a:pt x="1736" y="6499"/>
                </a:cubicBezTo>
                <a:cubicBezTo>
                  <a:pt x="1753" y="6551"/>
                  <a:pt x="1736" y="6494"/>
                  <a:pt x="1736" y="6474"/>
                </a:cubicBezTo>
              </a:path>
              <a:path w="1216" h="795">
                <a:moveTo>
                  <a:pt x="1687" y="5854"/>
                </a:moveTo>
                <a:cubicBezTo>
                  <a:pt x="1703" y="5837"/>
                  <a:pt x="1720" y="5821"/>
                  <a:pt x="1736" y="5804"/>
                </a:cubicBezTo>
              </a:path>
              <a:path w="1216" h="795">
                <a:moveTo>
                  <a:pt x="1885" y="6251"/>
                </a:moveTo>
                <a:cubicBezTo>
                  <a:pt x="1904" y="6346"/>
                  <a:pt x="1918" y="6441"/>
                  <a:pt x="1960" y="6524"/>
                </a:cubicBezTo>
                <a:cubicBezTo>
                  <a:pt x="1960" y="6419"/>
                  <a:pt x="1965" y="6328"/>
                  <a:pt x="1984" y="6226"/>
                </a:cubicBezTo>
                <a:cubicBezTo>
                  <a:pt x="1991" y="6185"/>
                  <a:pt x="2025" y="6106"/>
                  <a:pt x="2059" y="6077"/>
                </a:cubicBezTo>
                <a:cubicBezTo>
                  <a:pt x="2112" y="6031"/>
                  <a:pt x="2156" y="6044"/>
                  <a:pt x="2208" y="6052"/>
                </a:cubicBezTo>
                <a:cubicBezTo>
                  <a:pt x="2268" y="6062"/>
                  <a:pt x="2269" y="6129"/>
                  <a:pt x="2282" y="6176"/>
                </a:cubicBezTo>
                <a:cubicBezTo>
                  <a:pt x="2304" y="6257"/>
                  <a:pt x="2307" y="6316"/>
                  <a:pt x="2307" y="6400"/>
                </a:cubicBezTo>
                <a:cubicBezTo>
                  <a:pt x="2307" y="6422"/>
                  <a:pt x="2291" y="6568"/>
                  <a:pt x="2332" y="6548"/>
                </a:cubicBezTo>
                <a:cubicBezTo>
                  <a:pt x="2340" y="6540"/>
                  <a:pt x="2348" y="6532"/>
                  <a:pt x="2356" y="65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65160" y="2027160"/>
            <a:ext cx="1098720" cy="393840"/>
          </a:xfrm>
          <a:custGeom>
            <a:avLst/>
            <a:gdLst/>
            <a:ahLst/>
            <a:rect l="l" t="t" r="r" b="b"/>
            <a:pathLst>
              <a:path w="3052" h="1092">
                <a:moveTo>
                  <a:pt x="2753" y="5705"/>
                </a:moveTo>
                <a:cubicBezTo>
                  <a:pt x="2746" y="5786"/>
                  <a:pt x="2726" y="5876"/>
                  <a:pt x="2704" y="5953"/>
                </a:cubicBezTo>
                <a:cubicBezTo>
                  <a:pt x="2678" y="6045"/>
                  <a:pt x="2679" y="6127"/>
                  <a:pt x="2679" y="6226"/>
                </a:cubicBezTo>
                <a:cubicBezTo>
                  <a:pt x="2679" y="6331"/>
                  <a:pt x="2702" y="6354"/>
                  <a:pt x="2729" y="6449"/>
                </a:cubicBezTo>
                <a:cubicBezTo>
                  <a:pt x="2742" y="6493"/>
                  <a:pt x="2751" y="6542"/>
                  <a:pt x="2828" y="6524"/>
                </a:cubicBezTo>
                <a:cubicBezTo>
                  <a:pt x="2871" y="6502"/>
                  <a:pt x="2883" y="6498"/>
                  <a:pt x="2902" y="6474"/>
                </a:cubicBezTo>
              </a:path>
              <a:path w="3052" h="1092">
                <a:moveTo>
                  <a:pt x="3051" y="5879"/>
                </a:moveTo>
                <a:cubicBezTo>
                  <a:pt x="3051" y="6009"/>
                  <a:pt x="3057" y="6129"/>
                  <a:pt x="3076" y="6251"/>
                </a:cubicBezTo>
                <a:cubicBezTo>
                  <a:pt x="3079" y="6267"/>
                  <a:pt x="3082" y="6524"/>
                  <a:pt x="3101" y="6499"/>
                </a:cubicBezTo>
                <a:cubicBezTo>
                  <a:pt x="3101" y="6474"/>
                  <a:pt x="3101" y="6466"/>
                  <a:pt x="3101" y="6449"/>
                </a:cubicBezTo>
              </a:path>
              <a:path w="3052" h="1092">
                <a:moveTo>
                  <a:pt x="3349" y="5928"/>
                </a:moveTo>
                <a:cubicBezTo>
                  <a:pt x="3427" y="5882"/>
                  <a:pt x="3421" y="5879"/>
                  <a:pt x="3497" y="5879"/>
                </a:cubicBezTo>
                <a:cubicBezTo>
                  <a:pt x="3505" y="5879"/>
                  <a:pt x="3514" y="5879"/>
                  <a:pt x="3522" y="5879"/>
                </a:cubicBezTo>
                <a:cubicBezTo>
                  <a:pt x="3522" y="5917"/>
                  <a:pt x="3512" y="5973"/>
                  <a:pt x="3497" y="6003"/>
                </a:cubicBezTo>
                <a:cubicBezTo>
                  <a:pt x="3480" y="6039"/>
                  <a:pt x="3410" y="6059"/>
                  <a:pt x="3398" y="6077"/>
                </a:cubicBezTo>
                <a:cubicBezTo>
                  <a:pt x="3374" y="6113"/>
                  <a:pt x="3372" y="6102"/>
                  <a:pt x="3423" y="6102"/>
                </a:cubicBezTo>
                <a:cubicBezTo>
                  <a:pt x="3481" y="6102"/>
                  <a:pt x="3493" y="6115"/>
                  <a:pt x="3522" y="6152"/>
                </a:cubicBezTo>
                <a:cubicBezTo>
                  <a:pt x="3566" y="6207"/>
                  <a:pt x="3572" y="6230"/>
                  <a:pt x="3572" y="6300"/>
                </a:cubicBezTo>
                <a:cubicBezTo>
                  <a:pt x="3572" y="6358"/>
                  <a:pt x="3534" y="6386"/>
                  <a:pt x="3497" y="6424"/>
                </a:cubicBezTo>
                <a:cubicBezTo>
                  <a:pt x="3461" y="6461"/>
                  <a:pt x="3425" y="6449"/>
                  <a:pt x="3373" y="6449"/>
                </a:cubicBezTo>
                <a:cubicBezTo>
                  <a:pt x="3328" y="6449"/>
                  <a:pt x="3305" y="6451"/>
                  <a:pt x="3299" y="6400"/>
                </a:cubicBezTo>
                <a:cubicBezTo>
                  <a:pt x="3299" y="6392"/>
                  <a:pt x="3299" y="6383"/>
                  <a:pt x="3299" y="6375"/>
                </a:cubicBezTo>
              </a:path>
              <a:path w="3052" h="1092">
                <a:moveTo>
                  <a:pt x="3845" y="5904"/>
                </a:moveTo>
                <a:cubicBezTo>
                  <a:pt x="3927" y="5904"/>
                  <a:pt x="3946" y="5885"/>
                  <a:pt x="4018" y="5879"/>
                </a:cubicBezTo>
                <a:cubicBezTo>
                  <a:pt x="4043" y="5877"/>
                  <a:pt x="4068" y="5879"/>
                  <a:pt x="4093" y="5879"/>
                </a:cubicBezTo>
              </a:path>
              <a:path w="3052" h="1092">
                <a:moveTo>
                  <a:pt x="3795" y="5879"/>
                </a:moveTo>
                <a:cubicBezTo>
                  <a:pt x="3763" y="5960"/>
                  <a:pt x="3746" y="5990"/>
                  <a:pt x="3746" y="6077"/>
                </a:cubicBezTo>
                <a:cubicBezTo>
                  <a:pt x="3746" y="6110"/>
                  <a:pt x="3746" y="6143"/>
                  <a:pt x="3746" y="6176"/>
                </a:cubicBezTo>
                <a:cubicBezTo>
                  <a:pt x="3775" y="6166"/>
                  <a:pt x="3788" y="6156"/>
                  <a:pt x="3820" y="6127"/>
                </a:cubicBezTo>
                <a:cubicBezTo>
                  <a:pt x="3847" y="6103"/>
                  <a:pt x="3902" y="6054"/>
                  <a:pt x="3944" y="6077"/>
                </a:cubicBezTo>
                <a:cubicBezTo>
                  <a:pt x="3991" y="6103"/>
                  <a:pt x="4013" y="6161"/>
                  <a:pt x="4043" y="6201"/>
                </a:cubicBezTo>
                <a:cubicBezTo>
                  <a:pt x="4075" y="6244"/>
                  <a:pt x="4067" y="6303"/>
                  <a:pt x="4043" y="6350"/>
                </a:cubicBezTo>
                <a:cubicBezTo>
                  <a:pt x="4032" y="6373"/>
                  <a:pt x="3967" y="6439"/>
                  <a:pt x="3944" y="6449"/>
                </a:cubicBezTo>
                <a:cubicBezTo>
                  <a:pt x="3914" y="6462"/>
                  <a:pt x="3753" y="6457"/>
                  <a:pt x="3770" y="6424"/>
                </a:cubicBezTo>
                <a:cubicBezTo>
                  <a:pt x="3778" y="6416"/>
                  <a:pt x="3787" y="6408"/>
                  <a:pt x="3795" y="6400"/>
                </a:cubicBezTo>
              </a:path>
              <a:path w="3052" h="1092">
                <a:moveTo>
                  <a:pt x="4242" y="6226"/>
                </a:moveTo>
                <a:cubicBezTo>
                  <a:pt x="4302" y="6226"/>
                  <a:pt x="4316" y="6207"/>
                  <a:pt x="4366" y="6201"/>
                </a:cubicBezTo>
                <a:cubicBezTo>
                  <a:pt x="4394" y="6201"/>
                  <a:pt x="4404" y="6198"/>
                  <a:pt x="4415" y="6176"/>
                </a:cubicBezTo>
              </a:path>
              <a:path w="3052" h="1092">
                <a:moveTo>
                  <a:pt x="4514" y="5928"/>
                </a:moveTo>
                <a:cubicBezTo>
                  <a:pt x="4561" y="5902"/>
                  <a:pt x="4617" y="5863"/>
                  <a:pt x="4663" y="5854"/>
                </a:cubicBezTo>
                <a:cubicBezTo>
                  <a:pt x="4699" y="5847"/>
                  <a:pt x="4816" y="5837"/>
                  <a:pt x="4837" y="5879"/>
                </a:cubicBezTo>
                <a:cubicBezTo>
                  <a:pt x="4853" y="5912"/>
                  <a:pt x="4822" y="5999"/>
                  <a:pt x="4812" y="6028"/>
                </a:cubicBezTo>
                <a:cubicBezTo>
                  <a:pt x="4788" y="6096"/>
                  <a:pt x="4713" y="6089"/>
                  <a:pt x="4688" y="6127"/>
                </a:cubicBezTo>
                <a:cubicBezTo>
                  <a:pt x="4669" y="6156"/>
                  <a:pt x="4677" y="6148"/>
                  <a:pt x="4638" y="6176"/>
                </a:cubicBezTo>
                <a:cubicBezTo>
                  <a:pt x="4644" y="6159"/>
                  <a:pt x="4683" y="6115"/>
                  <a:pt x="4713" y="6102"/>
                </a:cubicBezTo>
                <a:cubicBezTo>
                  <a:pt x="4751" y="6085"/>
                  <a:pt x="4777" y="6122"/>
                  <a:pt x="4787" y="6152"/>
                </a:cubicBezTo>
                <a:cubicBezTo>
                  <a:pt x="4802" y="6197"/>
                  <a:pt x="4780" y="6242"/>
                  <a:pt x="4762" y="6276"/>
                </a:cubicBezTo>
                <a:cubicBezTo>
                  <a:pt x="4739" y="6320"/>
                  <a:pt x="4707" y="6372"/>
                  <a:pt x="4663" y="6400"/>
                </a:cubicBezTo>
                <a:cubicBezTo>
                  <a:pt x="4618" y="6429"/>
                  <a:pt x="4588" y="6424"/>
                  <a:pt x="4539" y="6424"/>
                </a:cubicBezTo>
                <a:cubicBezTo>
                  <a:pt x="4503" y="6424"/>
                  <a:pt x="4468" y="6403"/>
                  <a:pt x="4465" y="6375"/>
                </a:cubicBezTo>
                <a:cubicBezTo>
                  <a:pt x="4461" y="6339"/>
                  <a:pt x="4491" y="6323"/>
                  <a:pt x="4514" y="6300"/>
                </a:cubicBezTo>
              </a:path>
              <a:path w="3052" h="1092">
                <a:moveTo>
                  <a:pt x="5060" y="5978"/>
                </a:moveTo>
                <a:cubicBezTo>
                  <a:pt x="4998" y="6090"/>
                  <a:pt x="4955" y="6179"/>
                  <a:pt x="4936" y="6300"/>
                </a:cubicBezTo>
                <a:cubicBezTo>
                  <a:pt x="4926" y="6362"/>
                  <a:pt x="4928" y="6424"/>
                  <a:pt x="4961" y="6449"/>
                </a:cubicBezTo>
                <a:cubicBezTo>
                  <a:pt x="5011" y="6487"/>
                  <a:pt x="5068" y="6481"/>
                  <a:pt x="5110" y="6424"/>
                </a:cubicBezTo>
                <a:cubicBezTo>
                  <a:pt x="5137" y="6386"/>
                  <a:pt x="5189" y="6270"/>
                  <a:pt x="5184" y="6226"/>
                </a:cubicBezTo>
                <a:cubicBezTo>
                  <a:pt x="5182" y="6204"/>
                  <a:pt x="5149" y="6064"/>
                  <a:pt x="5135" y="6052"/>
                </a:cubicBezTo>
                <a:cubicBezTo>
                  <a:pt x="5124" y="6043"/>
                  <a:pt x="5052" y="6009"/>
                  <a:pt x="5035" y="6003"/>
                </a:cubicBezTo>
                <a:cubicBezTo>
                  <a:pt x="5000" y="5991"/>
                  <a:pt x="5001" y="5990"/>
                  <a:pt x="5035" y="5978"/>
                </a:cubicBezTo>
              </a:path>
              <a:path w="3052" h="1092">
                <a:moveTo>
                  <a:pt x="5209" y="5631"/>
                </a:moveTo>
                <a:cubicBezTo>
                  <a:pt x="5274" y="5631"/>
                  <a:pt x="5357" y="5627"/>
                  <a:pt x="5407" y="5680"/>
                </a:cubicBezTo>
                <a:cubicBezTo>
                  <a:pt x="5498" y="5776"/>
                  <a:pt x="5569" y="5857"/>
                  <a:pt x="5631" y="5978"/>
                </a:cubicBezTo>
                <a:cubicBezTo>
                  <a:pt x="5705" y="6123"/>
                  <a:pt x="5749" y="6284"/>
                  <a:pt x="5730" y="6449"/>
                </a:cubicBezTo>
                <a:cubicBezTo>
                  <a:pt x="5723" y="6507"/>
                  <a:pt x="5694" y="6578"/>
                  <a:pt x="5655" y="6623"/>
                </a:cubicBezTo>
                <a:cubicBezTo>
                  <a:pt x="5622" y="6661"/>
                  <a:pt x="5573" y="6688"/>
                  <a:pt x="5531" y="6697"/>
                </a:cubicBezTo>
                <a:cubicBezTo>
                  <a:pt x="5471" y="6709"/>
                  <a:pt x="5421" y="6716"/>
                  <a:pt x="5358" y="67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70080" y="2197080"/>
            <a:ext cx="54000" cy="61920"/>
          </a:xfrm>
          <a:custGeom>
            <a:avLst/>
            <a:gdLst/>
            <a:ahLst/>
            <a:rect l="l" t="t" r="r" b="b"/>
            <a:pathLst>
              <a:path w="149" h="175">
                <a:moveTo>
                  <a:pt x="6028" y="6102"/>
                </a:moveTo>
                <a:cubicBezTo>
                  <a:pt x="6061" y="6102"/>
                  <a:pt x="6094" y="6102"/>
                  <a:pt x="6127" y="6102"/>
                </a:cubicBezTo>
              </a:path>
              <a:path w="149" h="175">
                <a:moveTo>
                  <a:pt x="6028" y="6276"/>
                </a:moveTo>
                <a:cubicBezTo>
                  <a:pt x="6077" y="6276"/>
                  <a:pt x="6127" y="6276"/>
                  <a:pt x="6176" y="62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46200" y="2089080"/>
            <a:ext cx="1546200" cy="285840"/>
          </a:xfrm>
          <a:custGeom>
            <a:avLst/>
            <a:gdLst/>
            <a:ahLst/>
            <a:rect l="l" t="t" r="r" b="b"/>
            <a:pathLst>
              <a:path w="4293" h="795">
                <a:moveTo>
                  <a:pt x="7119" y="6028"/>
                </a:moveTo>
                <a:cubicBezTo>
                  <a:pt x="7111" y="5997"/>
                  <a:pt x="7081" y="5944"/>
                  <a:pt x="7045" y="5928"/>
                </a:cubicBezTo>
                <a:cubicBezTo>
                  <a:pt x="7003" y="5909"/>
                  <a:pt x="6928" y="5931"/>
                  <a:pt x="6896" y="5953"/>
                </a:cubicBezTo>
                <a:cubicBezTo>
                  <a:pt x="6882" y="5963"/>
                  <a:pt x="6799" y="6024"/>
                  <a:pt x="6796" y="6028"/>
                </a:cubicBezTo>
                <a:cubicBezTo>
                  <a:pt x="6771" y="6065"/>
                  <a:pt x="6810" y="6093"/>
                  <a:pt x="6821" y="6102"/>
                </a:cubicBezTo>
                <a:cubicBezTo>
                  <a:pt x="6864" y="6134"/>
                  <a:pt x="6916" y="6148"/>
                  <a:pt x="6970" y="6176"/>
                </a:cubicBezTo>
                <a:cubicBezTo>
                  <a:pt x="7015" y="6200"/>
                  <a:pt x="7065" y="6232"/>
                  <a:pt x="7094" y="6276"/>
                </a:cubicBezTo>
                <a:cubicBezTo>
                  <a:pt x="7129" y="6329"/>
                  <a:pt x="7135" y="6412"/>
                  <a:pt x="7069" y="6449"/>
                </a:cubicBezTo>
                <a:cubicBezTo>
                  <a:pt x="7028" y="6472"/>
                  <a:pt x="6997" y="6499"/>
                  <a:pt x="6945" y="6499"/>
                </a:cubicBezTo>
                <a:cubicBezTo>
                  <a:pt x="6883" y="6499"/>
                  <a:pt x="6870" y="6481"/>
                  <a:pt x="6846" y="6449"/>
                </a:cubicBezTo>
                <a:cubicBezTo>
                  <a:pt x="6816" y="6419"/>
                  <a:pt x="6811" y="6405"/>
                  <a:pt x="6846" y="6375"/>
                </a:cubicBezTo>
              </a:path>
              <a:path w="4293" h="795">
                <a:moveTo>
                  <a:pt x="7293" y="6052"/>
                </a:moveTo>
                <a:cubicBezTo>
                  <a:pt x="7293" y="6057"/>
                  <a:pt x="7284" y="6444"/>
                  <a:pt x="7268" y="6424"/>
                </a:cubicBezTo>
                <a:cubicBezTo>
                  <a:pt x="7268" y="6416"/>
                  <a:pt x="7268" y="6408"/>
                  <a:pt x="7268" y="6400"/>
                </a:cubicBezTo>
              </a:path>
              <a:path w="4293" h="795">
                <a:moveTo>
                  <a:pt x="7293" y="5854"/>
                </a:moveTo>
                <a:cubicBezTo>
                  <a:pt x="7315" y="5831"/>
                  <a:pt x="7323" y="5826"/>
                  <a:pt x="7317" y="5804"/>
                </a:cubicBezTo>
              </a:path>
              <a:path w="4293" h="795">
                <a:moveTo>
                  <a:pt x="7441" y="6325"/>
                </a:moveTo>
                <a:cubicBezTo>
                  <a:pt x="7441" y="6342"/>
                  <a:pt x="7441" y="6551"/>
                  <a:pt x="7441" y="6424"/>
                </a:cubicBezTo>
                <a:cubicBezTo>
                  <a:pt x="7441" y="6360"/>
                  <a:pt x="7464" y="6301"/>
                  <a:pt x="7491" y="6251"/>
                </a:cubicBezTo>
                <a:cubicBezTo>
                  <a:pt x="7520" y="6197"/>
                  <a:pt x="7522" y="6150"/>
                  <a:pt x="7565" y="6102"/>
                </a:cubicBezTo>
                <a:cubicBezTo>
                  <a:pt x="7605" y="6058"/>
                  <a:pt x="7628" y="6069"/>
                  <a:pt x="7665" y="6077"/>
                </a:cubicBezTo>
                <a:cubicBezTo>
                  <a:pt x="7723" y="6090"/>
                  <a:pt x="7736" y="6170"/>
                  <a:pt x="7739" y="6226"/>
                </a:cubicBezTo>
                <a:cubicBezTo>
                  <a:pt x="7742" y="6284"/>
                  <a:pt x="7713" y="6408"/>
                  <a:pt x="7764" y="6424"/>
                </a:cubicBezTo>
              </a:path>
              <a:path w="4293" h="795">
                <a:moveTo>
                  <a:pt x="8037" y="5904"/>
                </a:moveTo>
                <a:cubicBezTo>
                  <a:pt x="8037" y="6004"/>
                  <a:pt x="8025" y="6161"/>
                  <a:pt x="8037" y="6251"/>
                </a:cubicBezTo>
                <a:cubicBezTo>
                  <a:pt x="8045" y="6310"/>
                  <a:pt x="8062" y="6358"/>
                  <a:pt x="8062" y="6424"/>
                </a:cubicBezTo>
                <a:cubicBezTo>
                  <a:pt x="8062" y="6469"/>
                  <a:pt x="8044" y="6478"/>
                  <a:pt x="8086" y="6449"/>
                </a:cubicBezTo>
              </a:path>
              <a:path w="4293" h="795">
                <a:moveTo>
                  <a:pt x="8235" y="5879"/>
                </a:moveTo>
                <a:cubicBezTo>
                  <a:pt x="8238" y="5877"/>
                  <a:pt x="8402" y="5789"/>
                  <a:pt x="8434" y="5829"/>
                </a:cubicBezTo>
                <a:cubicBezTo>
                  <a:pt x="8469" y="5873"/>
                  <a:pt x="8453" y="5956"/>
                  <a:pt x="8434" y="6003"/>
                </a:cubicBezTo>
                <a:cubicBezTo>
                  <a:pt x="8419" y="6039"/>
                  <a:pt x="8373" y="6109"/>
                  <a:pt x="8334" y="6127"/>
                </a:cubicBezTo>
                <a:cubicBezTo>
                  <a:pt x="8286" y="6149"/>
                  <a:pt x="8362" y="6104"/>
                  <a:pt x="8384" y="6102"/>
                </a:cubicBezTo>
                <a:cubicBezTo>
                  <a:pt x="8418" y="6098"/>
                  <a:pt x="8465" y="6148"/>
                  <a:pt x="8483" y="6176"/>
                </a:cubicBezTo>
                <a:cubicBezTo>
                  <a:pt x="8507" y="6213"/>
                  <a:pt x="8523" y="6280"/>
                  <a:pt x="8508" y="6325"/>
                </a:cubicBezTo>
                <a:cubicBezTo>
                  <a:pt x="8489" y="6381"/>
                  <a:pt x="8467" y="6426"/>
                  <a:pt x="8409" y="6449"/>
                </a:cubicBezTo>
                <a:cubicBezTo>
                  <a:pt x="8363" y="6467"/>
                  <a:pt x="8352" y="6487"/>
                  <a:pt x="8310" y="6449"/>
                </a:cubicBezTo>
                <a:cubicBezTo>
                  <a:pt x="8270" y="6413"/>
                  <a:pt x="8283" y="6411"/>
                  <a:pt x="8310" y="6375"/>
                </a:cubicBezTo>
              </a:path>
              <a:path w="4293" h="795">
                <a:moveTo>
                  <a:pt x="8806" y="5879"/>
                </a:moveTo>
                <a:cubicBezTo>
                  <a:pt x="8860" y="5879"/>
                  <a:pt x="8988" y="5901"/>
                  <a:pt x="9004" y="5854"/>
                </a:cubicBezTo>
              </a:path>
              <a:path w="4293" h="795">
                <a:moveTo>
                  <a:pt x="8756" y="5879"/>
                </a:moveTo>
                <a:cubicBezTo>
                  <a:pt x="8753" y="5889"/>
                  <a:pt x="8690" y="6023"/>
                  <a:pt x="8706" y="6052"/>
                </a:cubicBezTo>
                <a:cubicBezTo>
                  <a:pt x="8729" y="6075"/>
                  <a:pt x="8737" y="6079"/>
                  <a:pt x="8731" y="6102"/>
                </a:cubicBezTo>
                <a:cubicBezTo>
                  <a:pt x="8766" y="6090"/>
                  <a:pt x="8760" y="6048"/>
                  <a:pt x="8806" y="6028"/>
                </a:cubicBezTo>
                <a:cubicBezTo>
                  <a:pt x="8860" y="6004"/>
                  <a:pt x="8897" y="6043"/>
                  <a:pt x="8930" y="6077"/>
                </a:cubicBezTo>
                <a:cubicBezTo>
                  <a:pt x="8961" y="6109"/>
                  <a:pt x="9018" y="6181"/>
                  <a:pt x="9029" y="6226"/>
                </a:cubicBezTo>
                <a:cubicBezTo>
                  <a:pt x="9039" y="6267"/>
                  <a:pt x="9048" y="6427"/>
                  <a:pt x="9004" y="6449"/>
                </a:cubicBezTo>
                <a:cubicBezTo>
                  <a:pt x="8976" y="6463"/>
                  <a:pt x="8935" y="6495"/>
                  <a:pt x="8880" y="6474"/>
                </a:cubicBezTo>
                <a:cubicBezTo>
                  <a:pt x="8826" y="6453"/>
                  <a:pt x="8826" y="6435"/>
                  <a:pt x="8830" y="6424"/>
                </a:cubicBezTo>
                <a:cubicBezTo>
                  <a:pt x="8830" y="6416"/>
                  <a:pt x="8830" y="6408"/>
                  <a:pt x="8830" y="6400"/>
                </a:cubicBezTo>
              </a:path>
              <a:path w="4293" h="795">
                <a:moveTo>
                  <a:pt x="9475" y="6127"/>
                </a:moveTo>
                <a:cubicBezTo>
                  <a:pt x="9475" y="6155"/>
                  <a:pt x="9477" y="6166"/>
                  <a:pt x="9500" y="6176"/>
                </a:cubicBezTo>
                <a:cubicBezTo>
                  <a:pt x="9464" y="6164"/>
                  <a:pt x="9471" y="6122"/>
                  <a:pt x="9426" y="6102"/>
                </a:cubicBezTo>
                <a:cubicBezTo>
                  <a:pt x="9399" y="6090"/>
                  <a:pt x="9368" y="6155"/>
                  <a:pt x="9351" y="6176"/>
                </a:cubicBezTo>
                <a:cubicBezTo>
                  <a:pt x="9316" y="6219"/>
                  <a:pt x="9262" y="6294"/>
                  <a:pt x="9252" y="6350"/>
                </a:cubicBezTo>
                <a:cubicBezTo>
                  <a:pt x="9242" y="6406"/>
                  <a:pt x="9240" y="6483"/>
                  <a:pt x="9277" y="6524"/>
                </a:cubicBezTo>
                <a:cubicBezTo>
                  <a:pt x="9300" y="6549"/>
                  <a:pt x="9364" y="6604"/>
                  <a:pt x="9401" y="6598"/>
                </a:cubicBezTo>
                <a:cubicBezTo>
                  <a:pt x="9456" y="6589"/>
                  <a:pt x="9525" y="6534"/>
                  <a:pt x="9575" y="6499"/>
                </a:cubicBezTo>
              </a:path>
              <a:path w="4293" h="795">
                <a:moveTo>
                  <a:pt x="9699" y="6201"/>
                </a:moveTo>
                <a:cubicBezTo>
                  <a:pt x="9679" y="6287"/>
                  <a:pt x="9649" y="6362"/>
                  <a:pt x="9649" y="6449"/>
                </a:cubicBezTo>
                <a:cubicBezTo>
                  <a:pt x="9649" y="6495"/>
                  <a:pt x="9647" y="6518"/>
                  <a:pt x="9699" y="6524"/>
                </a:cubicBezTo>
                <a:cubicBezTo>
                  <a:pt x="9759" y="6531"/>
                  <a:pt x="9752" y="6495"/>
                  <a:pt x="9798" y="6474"/>
                </a:cubicBezTo>
                <a:cubicBezTo>
                  <a:pt x="9830" y="6460"/>
                  <a:pt x="9886" y="6397"/>
                  <a:pt x="9897" y="6350"/>
                </a:cubicBezTo>
                <a:cubicBezTo>
                  <a:pt x="9912" y="6285"/>
                  <a:pt x="9888" y="6227"/>
                  <a:pt x="9872" y="6176"/>
                </a:cubicBezTo>
                <a:cubicBezTo>
                  <a:pt x="9857" y="6128"/>
                  <a:pt x="9849" y="6127"/>
                  <a:pt x="9798" y="6127"/>
                </a:cubicBezTo>
                <a:cubicBezTo>
                  <a:pt x="9764" y="6127"/>
                  <a:pt x="9756" y="6168"/>
                  <a:pt x="9748" y="6201"/>
                </a:cubicBezTo>
              </a:path>
              <a:path w="4293" h="795">
                <a:moveTo>
                  <a:pt x="10145" y="6127"/>
                </a:moveTo>
                <a:cubicBezTo>
                  <a:pt x="10089" y="6084"/>
                  <a:pt x="10106" y="6123"/>
                  <a:pt x="10046" y="6127"/>
                </a:cubicBezTo>
                <a:cubicBezTo>
                  <a:pt x="9979" y="6132"/>
                  <a:pt x="10008" y="6129"/>
                  <a:pt x="9971" y="6176"/>
                </a:cubicBezTo>
                <a:cubicBezTo>
                  <a:pt x="9981" y="6206"/>
                  <a:pt x="10013" y="6218"/>
                  <a:pt x="10046" y="6251"/>
                </a:cubicBezTo>
                <a:cubicBezTo>
                  <a:pt x="10093" y="6298"/>
                  <a:pt x="10120" y="6342"/>
                  <a:pt x="10145" y="6400"/>
                </a:cubicBezTo>
                <a:cubicBezTo>
                  <a:pt x="10160" y="6435"/>
                  <a:pt x="10170" y="6473"/>
                  <a:pt x="10120" y="6499"/>
                </a:cubicBezTo>
                <a:cubicBezTo>
                  <a:pt x="10088" y="6515"/>
                  <a:pt x="10035" y="6539"/>
                  <a:pt x="9996" y="6548"/>
                </a:cubicBezTo>
                <a:cubicBezTo>
                  <a:pt x="9935" y="6563"/>
                  <a:pt x="9934" y="6501"/>
                  <a:pt x="9947" y="6474"/>
                </a:cubicBezTo>
              </a:path>
              <a:path w="4293" h="795">
                <a:moveTo>
                  <a:pt x="10443" y="5953"/>
                </a:moveTo>
                <a:cubicBezTo>
                  <a:pt x="10498" y="5946"/>
                  <a:pt x="10558" y="5914"/>
                  <a:pt x="10616" y="5928"/>
                </a:cubicBezTo>
                <a:cubicBezTo>
                  <a:pt x="10676" y="5943"/>
                  <a:pt x="10749" y="5973"/>
                  <a:pt x="10716" y="6052"/>
                </a:cubicBezTo>
                <a:cubicBezTo>
                  <a:pt x="10699" y="6093"/>
                  <a:pt x="10606" y="6172"/>
                  <a:pt x="10567" y="6176"/>
                </a:cubicBezTo>
                <a:cubicBezTo>
                  <a:pt x="10559" y="6176"/>
                  <a:pt x="10550" y="6176"/>
                  <a:pt x="10542" y="6176"/>
                </a:cubicBezTo>
                <a:cubicBezTo>
                  <a:pt x="10551" y="6203"/>
                  <a:pt x="10599" y="6215"/>
                  <a:pt x="10641" y="6226"/>
                </a:cubicBezTo>
                <a:cubicBezTo>
                  <a:pt x="10701" y="6241"/>
                  <a:pt x="10691" y="6295"/>
                  <a:pt x="10691" y="6350"/>
                </a:cubicBezTo>
                <a:cubicBezTo>
                  <a:pt x="10691" y="6420"/>
                  <a:pt x="10690" y="6425"/>
                  <a:pt x="10641" y="6474"/>
                </a:cubicBezTo>
                <a:cubicBezTo>
                  <a:pt x="10595" y="6520"/>
                  <a:pt x="10584" y="6524"/>
                  <a:pt x="10517" y="6524"/>
                </a:cubicBezTo>
                <a:cubicBezTo>
                  <a:pt x="10470" y="6524"/>
                  <a:pt x="10428" y="6523"/>
                  <a:pt x="10393" y="6499"/>
                </a:cubicBezTo>
                <a:cubicBezTo>
                  <a:pt x="10337" y="6461"/>
                  <a:pt x="10386" y="6431"/>
                  <a:pt x="10418" y="6400"/>
                </a:cubicBezTo>
              </a:path>
              <a:path w="4293" h="795">
                <a:moveTo>
                  <a:pt x="10914" y="6052"/>
                </a:moveTo>
                <a:cubicBezTo>
                  <a:pt x="10881" y="6119"/>
                  <a:pt x="10827" y="6203"/>
                  <a:pt x="10815" y="6276"/>
                </a:cubicBezTo>
                <a:cubicBezTo>
                  <a:pt x="10805" y="6337"/>
                  <a:pt x="10766" y="6462"/>
                  <a:pt x="10790" y="6524"/>
                </a:cubicBezTo>
                <a:cubicBezTo>
                  <a:pt x="10803" y="6558"/>
                  <a:pt x="10826" y="6594"/>
                  <a:pt x="10864" y="6598"/>
                </a:cubicBezTo>
                <a:cubicBezTo>
                  <a:pt x="10926" y="6605"/>
                  <a:pt x="10964" y="6585"/>
                  <a:pt x="11013" y="6548"/>
                </a:cubicBezTo>
                <a:cubicBezTo>
                  <a:pt x="11077" y="6501"/>
                  <a:pt x="11079" y="6367"/>
                  <a:pt x="11088" y="6300"/>
                </a:cubicBezTo>
                <a:cubicBezTo>
                  <a:pt x="11093" y="6265"/>
                  <a:pt x="11055" y="6200"/>
                  <a:pt x="11038" y="6176"/>
                </a:cubicBezTo>
                <a:cubicBezTo>
                  <a:pt x="11019" y="6148"/>
                  <a:pt x="10968" y="6112"/>
                  <a:pt x="10939" y="6102"/>
                </a:cubicBezTo>
                <a:cubicBezTo>
                  <a:pt x="10914" y="6102"/>
                  <a:pt x="10906" y="6102"/>
                  <a:pt x="10914" y="61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06880" y="2295360"/>
            <a:ext cx="152280" cy="972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1410" y="6375"/>
                </a:moveTo>
                <a:cubicBezTo>
                  <a:pt x="11485" y="6375"/>
                  <a:pt x="11539" y="6382"/>
                  <a:pt x="11609" y="6400"/>
                </a:cubicBezTo>
                <a:cubicBezTo>
                  <a:pt x="11647" y="6410"/>
                  <a:pt x="11711" y="6375"/>
                  <a:pt x="11757" y="6375"/>
                </a:cubicBezTo>
                <a:cubicBezTo>
                  <a:pt x="11782" y="6375"/>
                  <a:pt x="11807" y="6375"/>
                  <a:pt x="11832" y="63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18000" y="2170080"/>
            <a:ext cx="420840" cy="204840"/>
          </a:xfrm>
          <a:custGeom>
            <a:avLst/>
            <a:gdLst/>
            <a:ahLst/>
            <a:rect l="l" t="t" r="r" b="b"/>
            <a:pathLst>
              <a:path w="1167" h="571">
                <a:moveTo>
                  <a:pt x="12898" y="6201"/>
                </a:moveTo>
                <a:cubicBezTo>
                  <a:pt x="12890" y="6218"/>
                  <a:pt x="12882" y="6234"/>
                  <a:pt x="12874" y="6251"/>
                </a:cubicBezTo>
                <a:cubicBezTo>
                  <a:pt x="12864" y="6210"/>
                  <a:pt x="12840" y="6189"/>
                  <a:pt x="12824" y="6152"/>
                </a:cubicBezTo>
                <a:cubicBezTo>
                  <a:pt x="12792" y="6076"/>
                  <a:pt x="12804" y="6052"/>
                  <a:pt x="12725" y="6052"/>
                </a:cubicBezTo>
                <a:cubicBezTo>
                  <a:pt x="12660" y="6052"/>
                  <a:pt x="12657" y="6132"/>
                  <a:pt x="12626" y="6176"/>
                </a:cubicBezTo>
                <a:cubicBezTo>
                  <a:pt x="12578" y="6245"/>
                  <a:pt x="12557" y="6339"/>
                  <a:pt x="12551" y="6424"/>
                </a:cubicBezTo>
                <a:cubicBezTo>
                  <a:pt x="12546" y="6490"/>
                  <a:pt x="12557" y="6504"/>
                  <a:pt x="12601" y="6548"/>
                </a:cubicBezTo>
                <a:cubicBezTo>
                  <a:pt x="12639" y="6586"/>
                  <a:pt x="12663" y="6616"/>
                  <a:pt x="12725" y="6598"/>
                </a:cubicBezTo>
                <a:cubicBezTo>
                  <a:pt x="12791" y="6578"/>
                  <a:pt x="12861" y="6530"/>
                  <a:pt x="12923" y="6499"/>
                </a:cubicBezTo>
              </a:path>
              <a:path w="1167" h="571">
                <a:moveTo>
                  <a:pt x="13122" y="6176"/>
                </a:moveTo>
                <a:cubicBezTo>
                  <a:pt x="13051" y="6277"/>
                  <a:pt x="13076" y="6273"/>
                  <a:pt x="13047" y="6375"/>
                </a:cubicBezTo>
                <a:cubicBezTo>
                  <a:pt x="13030" y="6435"/>
                  <a:pt x="13028" y="6449"/>
                  <a:pt x="13072" y="6499"/>
                </a:cubicBezTo>
                <a:cubicBezTo>
                  <a:pt x="13112" y="6544"/>
                  <a:pt x="13131" y="6522"/>
                  <a:pt x="13171" y="6499"/>
                </a:cubicBezTo>
                <a:cubicBezTo>
                  <a:pt x="13198" y="6483"/>
                  <a:pt x="13287" y="6438"/>
                  <a:pt x="13295" y="6400"/>
                </a:cubicBezTo>
                <a:cubicBezTo>
                  <a:pt x="13305" y="6349"/>
                  <a:pt x="13333" y="6257"/>
                  <a:pt x="13320" y="6201"/>
                </a:cubicBezTo>
                <a:cubicBezTo>
                  <a:pt x="13307" y="6144"/>
                  <a:pt x="13300" y="6117"/>
                  <a:pt x="13271" y="6077"/>
                </a:cubicBezTo>
                <a:cubicBezTo>
                  <a:pt x="13244" y="6077"/>
                  <a:pt x="13159" y="6089"/>
                  <a:pt x="13146" y="6102"/>
                </a:cubicBezTo>
                <a:cubicBezTo>
                  <a:pt x="13121" y="6125"/>
                  <a:pt x="13059" y="6220"/>
                  <a:pt x="13047" y="6251"/>
                </a:cubicBezTo>
                <a:cubicBezTo>
                  <a:pt x="13037" y="6275"/>
                  <a:pt x="13066" y="6302"/>
                  <a:pt x="13072" y="6325"/>
                </a:cubicBezTo>
              </a:path>
              <a:path w="1167" h="571">
                <a:moveTo>
                  <a:pt x="13692" y="6028"/>
                </a:moveTo>
                <a:cubicBezTo>
                  <a:pt x="13642" y="6043"/>
                  <a:pt x="13580" y="6044"/>
                  <a:pt x="13543" y="6077"/>
                </a:cubicBezTo>
                <a:cubicBezTo>
                  <a:pt x="13523" y="6095"/>
                  <a:pt x="13455" y="6145"/>
                  <a:pt x="13469" y="6176"/>
                </a:cubicBezTo>
                <a:cubicBezTo>
                  <a:pt x="13488" y="6217"/>
                  <a:pt x="13560" y="6237"/>
                  <a:pt x="13593" y="6251"/>
                </a:cubicBezTo>
                <a:cubicBezTo>
                  <a:pt x="13649" y="6275"/>
                  <a:pt x="13697" y="6315"/>
                  <a:pt x="13717" y="6375"/>
                </a:cubicBezTo>
                <a:cubicBezTo>
                  <a:pt x="13727" y="6404"/>
                  <a:pt x="13721" y="6459"/>
                  <a:pt x="13692" y="6474"/>
                </a:cubicBezTo>
                <a:cubicBezTo>
                  <a:pt x="13660" y="6490"/>
                  <a:pt x="13633" y="6499"/>
                  <a:pt x="13593" y="6499"/>
                </a:cubicBezTo>
                <a:cubicBezTo>
                  <a:pt x="13541" y="6499"/>
                  <a:pt x="13483" y="6517"/>
                  <a:pt x="13469" y="64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45040" y="2133720"/>
            <a:ext cx="1268280" cy="250560"/>
          </a:xfrm>
          <a:custGeom>
            <a:avLst/>
            <a:gdLst/>
            <a:ahLst/>
            <a:rect l="l" t="t" r="r" b="b"/>
            <a:pathLst>
              <a:path w="3523" h="696">
                <a:moveTo>
                  <a:pt x="14039" y="6028"/>
                </a:moveTo>
                <a:cubicBezTo>
                  <a:pt x="14021" y="6157"/>
                  <a:pt x="14015" y="6271"/>
                  <a:pt x="14015" y="6400"/>
                </a:cubicBezTo>
                <a:cubicBezTo>
                  <a:pt x="14015" y="6465"/>
                  <a:pt x="14022" y="6497"/>
                  <a:pt x="14039" y="6548"/>
                </a:cubicBezTo>
                <a:cubicBezTo>
                  <a:pt x="14055" y="6597"/>
                  <a:pt x="14020" y="6607"/>
                  <a:pt x="14064" y="6548"/>
                </a:cubicBezTo>
              </a:path>
              <a:path w="3523" h="696">
                <a:moveTo>
                  <a:pt x="14188" y="6176"/>
                </a:moveTo>
                <a:cubicBezTo>
                  <a:pt x="14212" y="6116"/>
                  <a:pt x="14230" y="6065"/>
                  <a:pt x="14288" y="6028"/>
                </a:cubicBezTo>
                <a:cubicBezTo>
                  <a:pt x="14326" y="6004"/>
                  <a:pt x="14387" y="5953"/>
                  <a:pt x="14436" y="5978"/>
                </a:cubicBezTo>
                <a:cubicBezTo>
                  <a:pt x="14474" y="5997"/>
                  <a:pt x="14468" y="6098"/>
                  <a:pt x="14461" y="6127"/>
                </a:cubicBezTo>
                <a:cubicBezTo>
                  <a:pt x="14452" y="6161"/>
                  <a:pt x="14397" y="6236"/>
                  <a:pt x="14362" y="6251"/>
                </a:cubicBezTo>
                <a:cubicBezTo>
                  <a:pt x="14308" y="6275"/>
                  <a:pt x="14313" y="6242"/>
                  <a:pt x="14362" y="6226"/>
                </a:cubicBezTo>
                <a:cubicBezTo>
                  <a:pt x="14408" y="6211"/>
                  <a:pt x="14421" y="6231"/>
                  <a:pt x="14436" y="6251"/>
                </a:cubicBezTo>
                <a:cubicBezTo>
                  <a:pt x="14461" y="6285"/>
                  <a:pt x="14477" y="6328"/>
                  <a:pt x="14461" y="6375"/>
                </a:cubicBezTo>
                <a:cubicBezTo>
                  <a:pt x="14448" y="6412"/>
                  <a:pt x="14428" y="6480"/>
                  <a:pt x="14387" y="6499"/>
                </a:cubicBezTo>
                <a:cubicBezTo>
                  <a:pt x="14354" y="6514"/>
                  <a:pt x="14329" y="6524"/>
                  <a:pt x="14288" y="6524"/>
                </a:cubicBezTo>
                <a:cubicBezTo>
                  <a:pt x="14191" y="6524"/>
                  <a:pt x="14203" y="6486"/>
                  <a:pt x="14213" y="6424"/>
                </a:cubicBezTo>
                <a:cubicBezTo>
                  <a:pt x="14213" y="6416"/>
                  <a:pt x="14213" y="6408"/>
                  <a:pt x="14213" y="6400"/>
                </a:cubicBezTo>
              </a:path>
              <a:path w="3523" h="696">
                <a:moveTo>
                  <a:pt x="14808" y="6003"/>
                </a:moveTo>
                <a:cubicBezTo>
                  <a:pt x="14878" y="5996"/>
                  <a:pt x="14912" y="5978"/>
                  <a:pt x="14982" y="5978"/>
                </a:cubicBezTo>
                <a:cubicBezTo>
                  <a:pt x="15020" y="5978"/>
                  <a:pt x="15031" y="5954"/>
                  <a:pt x="15056" y="5928"/>
                </a:cubicBezTo>
              </a:path>
              <a:path w="3523" h="696">
                <a:moveTo>
                  <a:pt x="14684" y="6028"/>
                </a:moveTo>
                <a:cubicBezTo>
                  <a:pt x="14638" y="6106"/>
                  <a:pt x="14635" y="6100"/>
                  <a:pt x="14635" y="6176"/>
                </a:cubicBezTo>
                <a:cubicBezTo>
                  <a:pt x="14635" y="6211"/>
                  <a:pt x="14657" y="6248"/>
                  <a:pt x="14684" y="6251"/>
                </a:cubicBezTo>
                <a:cubicBezTo>
                  <a:pt x="14735" y="6257"/>
                  <a:pt x="14750" y="6236"/>
                  <a:pt x="14784" y="6201"/>
                </a:cubicBezTo>
                <a:cubicBezTo>
                  <a:pt x="14824" y="6160"/>
                  <a:pt x="14819" y="6125"/>
                  <a:pt x="14883" y="6176"/>
                </a:cubicBezTo>
                <a:cubicBezTo>
                  <a:pt x="14921" y="6206"/>
                  <a:pt x="14949" y="6261"/>
                  <a:pt x="14957" y="6300"/>
                </a:cubicBezTo>
                <a:cubicBezTo>
                  <a:pt x="14967" y="6351"/>
                  <a:pt x="14956" y="6432"/>
                  <a:pt x="14932" y="6474"/>
                </a:cubicBezTo>
                <a:cubicBezTo>
                  <a:pt x="14908" y="6516"/>
                  <a:pt x="14864" y="6528"/>
                  <a:pt x="14833" y="6548"/>
                </a:cubicBezTo>
                <a:cubicBezTo>
                  <a:pt x="14789" y="6577"/>
                  <a:pt x="14767" y="6573"/>
                  <a:pt x="14709" y="6573"/>
                </a:cubicBezTo>
                <a:cubicBezTo>
                  <a:pt x="14670" y="6573"/>
                  <a:pt x="14644" y="6549"/>
                  <a:pt x="14635" y="6524"/>
                </a:cubicBezTo>
              </a:path>
              <a:path w="3523" h="696">
                <a:moveTo>
                  <a:pt x="15602" y="6052"/>
                </a:moveTo>
                <a:cubicBezTo>
                  <a:pt x="15570" y="6076"/>
                  <a:pt x="15513" y="6095"/>
                  <a:pt x="15478" y="6102"/>
                </a:cubicBezTo>
                <a:cubicBezTo>
                  <a:pt x="15422" y="6113"/>
                  <a:pt x="15403" y="6136"/>
                  <a:pt x="15354" y="6152"/>
                </a:cubicBezTo>
                <a:cubicBezTo>
                  <a:pt x="15318" y="6164"/>
                  <a:pt x="15300" y="6188"/>
                  <a:pt x="15329" y="6226"/>
                </a:cubicBezTo>
                <a:cubicBezTo>
                  <a:pt x="15361" y="6268"/>
                  <a:pt x="15432" y="6300"/>
                  <a:pt x="15478" y="6325"/>
                </a:cubicBezTo>
                <a:cubicBezTo>
                  <a:pt x="15539" y="6357"/>
                  <a:pt x="15570" y="6404"/>
                  <a:pt x="15577" y="6474"/>
                </a:cubicBezTo>
                <a:cubicBezTo>
                  <a:pt x="15582" y="6527"/>
                  <a:pt x="15570" y="6552"/>
                  <a:pt x="15528" y="6573"/>
                </a:cubicBezTo>
                <a:cubicBezTo>
                  <a:pt x="15503" y="6585"/>
                  <a:pt x="15437" y="6616"/>
                  <a:pt x="15404" y="6598"/>
                </a:cubicBezTo>
                <a:cubicBezTo>
                  <a:pt x="15344" y="6564"/>
                  <a:pt x="15367" y="6545"/>
                  <a:pt x="15379" y="6499"/>
                </a:cubicBezTo>
              </a:path>
              <a:path w="3523" h="696">
                <a:moveTo>
                  <a:pt x="15825" y="6201"/>
                </a:moveTo>
                <a:cubicBezTo>
                  <a:pt x="15843" y="6306"/>
                  <a:pt x="15850" y="6394"/>
                  <a:pt x="15850" y="6499"/>
                </a:cubicBezTo>
                <a:cubicBezTo>
                  <a:pt x="15850" y="6509"/>
                  <a:pt x="15850" y="6664"/>
                  <a:pt x="15850" y="6598"/>
                </a:cubicBezTo>
                <a:cubicBezTo>
                  <a:pt x="15850" y="6590"/>
                  <a:pt x="15850" y="6581"/>
                  <a:pt x="15850" y="6573"/>
                </a:cubicBezTo>
              </a:path>
              <a:path w="3523" h="696">
                <a:moveTo>
                  <a:pt x="15850" y="6028"/>
                </a:moveTo>
                <a:cubicBezTo>
                  <a:pt x="15872" y="5976"/>
                  <a:pt x="15864" y="5965"/>
                  <a:pt x="15900" y="5953"/>
                </a:cubicBezTo>
              </a:path>
              <a:path w="3523" h="696">
                <a:moveTo>
                  <a:pt x="16049" y="6424"/>
                </a:moveTo>
                <a:cubicBezTo>
                  <a:pt x="16049" y="6482"/>
                  <a:pt x="16049" y="6540"/>
                  <a:pt x="16049" y="6598"/>
                </a:cubicBezTo>
                <a:cubicBezTo>
                  <a:pt x="16049" y="6650"/>
                  <a:pt x="16067" y="6566"/>
                  <a:pt x="16073" y="6548"/>
                </a:cubicBezTo>
                <a:cubicBezTo>
                  <a:pt x="16094" y="6485"/>
                  <a:pt x="16083" y="6391"/>
                  <a:pt x="16098" y="6325"/>
                </a:cubicBezTo>
                <a:cubicBezTo>
                  <a:pt x="16103" y="6302"/>
                  <a:pt x="16137" y="6188"/>
                  <a:pt x="16148" y="6176"/>
                </a:cubicBezTo>
                <a:cubicBezTo>
                  <a:pt x="16178" y="6144"/>
                  <a:pt x="16247" y="6109"/>
                  <a:pt x="16297" y="6127"/>
                </a:cubicBezTo>
                <a:cubicBezTo>
                  <a:pt x="16398" y="6164"/>
                  <a:pt x="16422" y="6350"/>
                  <a:pt x="16396" y="6449"/>
                </a:cubicBezTo>
                <a:cubicBezTo>
                  <a:pt x="16382" y="6502"/>
                  <a:pt x="16371" y="6518"/>
                  <a:pt x="16371" y="6573"/>
                </a:cubicBezTo>
                <a:cubicBezTo>
                  <a:pt x="16371" y="6637"/>
                  <a:pt x="16392" y="6563"/>
                  <a:pt x="16396" y="6548"/>
                </a:cubicBezTo>
              </a:path>
              <a:path w="3523" h="696">
                <a:moveTo>
                  <a:pt x="16594" y="5978"/>
                </a:moveTo>
                <a:cubicBezTo>
                  <a:pt x="16664" y="5966"/>
                  <a:pt x="16721" y="5953"/>
                  <a:pt x="16793" y="5953"/>
                </a:cubicBezTo>
                <a:cubicBezTo>
                  <a:pt x="16857" y="5953"/>
                  <a:pt x="16863" y="5989"/>
                  <a:pt x="16917" y="6003"/>
                </a:cubicBezTo>
                <a:cubicBezTo>
                  <a:pt x="16907" y="6070"/>
                  <a:pt x="16877" y="6093"/>
                  <a:pt x="16842" y="6152"/>
                </a:cubicBezTo>
                <a:cubicBezTo>
                  <a:pt x="16805" y="6215"/>
                  <a:pt x="16756" y="6232"/>
                  <a:pt x="16694" y="6251"/>
                </a:cubicBezTo>
                <a:cubicBezTo>
                  <a:pt x="16686" y="6251"/>
                  <a:pt x="16677" y="6251"/>
                  <a:pt x="16669" y="6251"/>
                </a:cubicBezTo>
                <a:cubicBezTo>
                  <a:pt x="16710" y="6241"/>
                  <a:pt x="16755" y="6209"/>
                  <a:pt x="16793" y="6201"/>
                </a:cubicBezTo>
                <a:cubicBezTo>
                  <a:pt x="16847" y="6190"/>
                  <a:pt x="16887" y="6205"/>
                  <a:pt x="16917" y="6251"/>
                </a:cubicBezTo>
                <a:cubicBezTo>
                  <a:pt x="16953" y="6307"/>
                  <a:pt x="16940" y="6343"/>
                  <a:pt x="16917" y="6400"/>
                </a:cubicBezTo>
                <a:cubicBezTo>
                  <a:pt x="16890" y="6467"/>
                  <a:pt x="16833" y="6494"/>
                  <a:pt x="16768" y="6499"/>
                </a:cubicBezTo>
                <a:cubicBezTo>
                  <a:pt x="16724" y="6503"/>
                  <a:pt x="16644" y="6515"/>
                  <a:pt x="16619" y="6474"/>
                </a:cubicBezTo>
                <a:cubicBezTo>
                  <a:pt x="16619" y="6449"/>
                  <a:pt x="16619" y="6441"/>
                  <a:pt x="16644" y="6449"/>
                </a:cubicBezTo>
              </a:path>
              <a:path w="3523" h="696">
                <a:moveTo>
                  <a:pt x="17214" y="6077"/>
                </a:moveTo>
                <a:cubicBezTo>
                  <a:pt x="17168" y="6196"/>
                  <a:pt x="17125" y="6311"/>
                  <a:pt x="17090" y="6424"/>
                </a:cubicBezTo>
                <a:cubicBezTo>
                  <a:pt x="17081" y="6452"/>
                  <a:pt x="17059" y="6561"/>
                  <a:pt x="17115" y="6573"/>
                </a:cubicBezTo>
                <a:cubicBezTo>
                  <a:pt x="17182" y="6588"/>
                  <a:pt x="17255" y="6575"/>
                  <a:pt x="17314" y="6548"/>
                </a:cubicBezTo>
                <a:cubicBezTo>
                  <a:pt x="17413" y="6502"/>
                  <a:pt x="17423" y="6443"/>
                  <a:pt x="17462" y="6350"/>
                </a:cubicBezTo>
                <a:cubicBezTo>
                  <a:pt x="17488" y="6289"/>
                  <a:pt x="17552" y="6196"/>
                  <a:pt x="17537" y="6127"/>
                </a:cubicBezTo>
                <a:cubicBezTo>
                  <a:pt x="17525" y="6072"/>
                  <a:pt x="17500" y="6042"/>
                  <a:pt x="17462" y="6003"/>
                </a:cubicBezTo>
                <a:cubicBezTo>
                  <a:pt x="17423" y="5963"/>
                  <a:pt x="17386" y="5943"/>
                  <a:pt x="17338" y="5928"/>
                </a:cubicBezTo>
                <a:cubicBezTo>
                  <a:pt x="17314" y="5928"/>
                  <a:pt x="17305" y="5928"/>
                  <a:pt x="17289" y="59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16120" y="2357280"/>
            <a:ext cx="3975120" cy="866880"/>
          </a:xfrm>
          <a:custGeom>
            <a:avLst/>
            <a:gdLst/>
            <a:ahLst/>
            <a:rect l="l" t="t" r="r" b="b"/>
            <a:pathLst>
              <a:path w="11039" h="2407">
                <a:moveTo>
                  <a:pt x="7317" y="6921"/>
                </a:moveTo>
                <a:cubicBezTo>
                  <a:pt x="7317" y="7009"/>
                  <a:pt x="7327" y="7072"/>
                  <a:pt x="7342" y="7144"/>
                </a:cubicBezTo>
                <a:cubicBezTo>
                  <a:pt x="7351" y="7188"/>
                  <a:pt x="7342" y="7247"/>
                  <a:pt x="7342" y="7293"/>
                </a:cubicBezTo>
                <a:cubicBezTo>
                  <a:pt x="7342" y="7227"/>
                  <a:pt x="7349" y="7173"/>
                  <a:pt x="7317" y="7119"/>
                </a:cubicBezTo>
                <a:cubicBezTo>
                  <a:pt x="7347" y="7069"/>
                  <a:pt x="7342" y="7032"/>
                  <a:pt x="7342" y="6970"/>
                </a:cubicBezTo>
                <a:cubicBezTo>
                  <a:pt x="7342" y="6926"/>
                  <a:pt x="7365" y="6877"/>
                  <a:pt x="7392" y="6846"/>
                </a:cubicBezTo>
                <a:cubicBezTo>
                  <a:pt x="7424" y="6810"/>
                  <a:pt x="7453" y="6793"/>
                  <a:pt x="7491" y="6772"/>
                </a:cubicBezTo>
                <a:cubicBezTo>
                  <a:pt x="7560" y="6733"/>
                  <a:pt x="7617" y="6766"/>
                  <a:pt x="7689" y="6747"/>
                </a:cubicBezTo>
                <a:cubicBezTo>
                  <a:pt x="7742" y="6733"/>
                  <a:pt x="7758" y="6722"/>
                  <a:pt x="7813" y="6722"/>
                </a:cubicBezTo>
                <a:cubicBezTo>
                  <a:pt x="7825" y="6722"/>
                  <a:pt x="7942" y="6743"/>
                  <a:pt x="7938" y="6747"/>
                </a:cubicBezTo>
                <a:cubicBezTo>
                  <a:pt x="7913" y="6747"/>
                  <a:pt x="7905" y="6747"/>
                  <a:pt x="7888" y="6747"/>
                </a:cubicBezTo>
              </a:path>
              <a:path w="11039" h="2407">
                <a:moveTo>
                  <a:pt x="7640" y="6945"/>
                </a:moveTo>
                <a:cubicBezTo>
                  <a:pt x="7676" y="6936"/>
                  <a:pt x="7706" y="6903"/>
                  <a:pt x="7739" y="6896"/>
                </a:cubicBezTo>
                <a:cubicBezTo>
                  <a:pt x="7767" y="6890"/>
                  <a:pt x="7848" y="6900"/>
                  <a:pt x="7863" y="6921"/>
                </a:cubicBezTo>
                <a:cubicBezTo>
                  <a:pt x="7881" y="6947"/>
                  <a:pt x="7888" y="6949"/>
                  <a:pt x="7888" y="6995"/>
                </a:cubicBezTo>
                <a:cubicBezTo>
                  <a:pt x="7888" y="7046"/>
                  <a:pt x="7824" y="7084"/>
                  <a:pt x="7789" y="7119"/>
                </a:cubicBezTo>
                <a:cubicBezTo>
                  <a:pt x="7770" y="7138"/>
                  <a:pt x="7723" y="7212"/>
                  <a:pt x="7714" y="7218"/>
                </a:cubicBezTo>
                <a:cubicBezTo>
                  <a:pt x="7706" y="7218"/>
                  <a:pt x="7697" y="7218"/>
                  <a:pt x="7689" y="7218"/>
                </a:cubicBezTo>
                <a:cubicBezTo>
                  <a:pt x="7698" y="7245"/>
                  <a:pt x="7707" y="7264"/>
                  <a:pt x="7739" y="7268"/>
                </a:cubicBezTo>
                <a:cubicBezTo>
                  <a:pt x="7781" y="7273"/>
                  <a:pt x="8026" y="7254"/>
                  <a:pt x="8012" y="7243"/>
                </a:cubicBezTo>
                <a:cubicBezTo>
                  <a:pt x="8004" y="7243"/>
                  <a:pt x="7995" y="7243"/>
                  <a:pt x="7987" y="7243"/>
                </a:cubicBezTo>
              </a:path>
              <a:path w="11039" h="2407">
                <a:moveTo>
                  <a:pt x="7268" y="7466"/>
                </a:moveTo>
                <a:cubicBezTo>
                  <a:pt x="7281" y="7504"/>
                  <a:pt x="7297" y="7491"/>
                  <a:pt x="7342" y="7491"/>
                </a:cubicBezTo>
                <a:cubicBezTo>
                  <a:pt x="7409" y="7491"/>
                  <a:pt x="7454" y="7477"/>
                  <a:pt x="7516" y="7466"/>
                </a:cubicBezTo>
                <a:cubicBezTo>
                  <a:pt x="7542" y="7462"/>
                  <a:pt x="7825" y="7480"/>
                  <a:pt x="7813" y="7441"/>
                </a:cubicBezTo>
                <a:cubicBezTo>
                  <a:pt x="7789" y="7441"/>
                  <a:pt x="7780" y="7441"/>
                  <a:pt x="7764" y="7441"/>
                </a:cubicBezTo>
              </a:path>
              <a:path w="11039" h="2407">
                <a:moveTo>
                  <a:pt x="7541" y="7516"/>
                </a:moveTo>
                <a:cubicBezTo>
                  <a:pt x="7601" y="7507"/>
                  <a:pt x="7624" y="7491"/>
                  <a:pt x="7689" y="7491"/>
                </a:cubicBezTo>
                <a:cubicBezTo>
                  <a:pt x="7736" y="7491"/>
                  <a:pt x="7701" y="7484"/>
                  <a:pt x="7764" y="7491"/>
                </a:cubicBezTo>
                <a:cubicBezTo>
                  <a:pt x="7772" y="7491"/>
                  <a:pt x="7781" y="7491"/>
                  <a:pt x="7789" y="7491"/>
                </a:cubicBezTo>
                <a:cubicBezTo>
                  <a:pt x="7789" y="7527"/>
                  <a:pt x="7782" y="7563"/>
                  <a:pt x="7764" y="7590"/>
                </a:cubicBezTo>
                <a:cubicBezTo>
                  <a:pt x="7738" y="7630"/>
                  <a:pt x="7696" y="7645"/>
                  <a:pt x="7665" y="7665"/>
                </a:cubicBezTo>
                <a:cubicBezTo>
                  <a:pt x="7625" y="7691"/>
                  <a:pt x="7588" y="7772"/>
                  <a:pt x="7565" y="7789"/>
                </a:cubicBezTo>
                <a:cubicBezTo>
                  <a:pt x="7541" y="7789"/>
                  <a:pt x="7533" y="7789"/>
                  <a:pt x="7541" y="7813"/>
                </a:cubicBezTo>
                <a:cubicBezTo>
                  <a:pt x="7617" y="7813"/>
                  <a:pt x="7675" y="7810"/>
                  <a:pt x="7739" y="7789"/>
                </a:cubicBezTo>
                <a:cubicBezTo>
                  <a:pt x="7745" y="7787"/>
                  <a:pt x="7832" y="7789"/>
                  <a:pt x="7764" y="7789"/>
                </a:cubicBezTo>
              </a:path>
              <a:path w="11039" h="2407">
                <a:moveTo>
                  <a:pt x="8310" y="7466"/>
                </a:moveTo>
                <a:cubicBezTo>
                  <a:pt x="8302" y="7458"/>
                  <a:pt x="8293" y="7449"/>
                  <a:pt x="8285" y="7441"/>
                </a:cubicBezTo>
              </a:path>
              <a:path w="11039" h="2407">
                <a:moveTo>
                  <a:pt x="8607" y="7094"/>
                </a:moveTo>
                <a:cubicBezTo>
                  <a:pt x="8607" y="7181"/>
                  <a:pt x="8602" y="7237"/>
                  <a:pt x="8582" y="7317"/>
                </a:cubicBezTo>
                <a:cubicBezTo>
                  <a:pt x="8579" y="7328"/>
                  <a:pt x="8607" y="7428"/>
                  <a:pt x="8607" y="7367"/>
                </a:cubicBezTo>
                <a:cubicBezTo>
                  <a:pt x="8607" y="7282"/>
                  <a:pt x="8612" y="7222"/>
                  <a:pt x="8632" y="7144"/>
                </a:cubicBezTo>
                <a:cubicBezTo>
                  <a:pt x="8645" y="7094"/>
                  <a:pt x="8635" y="7040"/>
                  <a:pt x="8657" y="6995"/>
                </a:cubicBezTo>
                <a:cubicBezTo>
                  <a:pt x="8677" y="6954"/>
                  <a:pt x="8698" y="6908"/>
                  <a:pt x="8731" y="6871"/>
                </a:cubicBezTo>
                <a:cubicBezTo>
                  <a:pt x="8767" y="6831"/>
                  <a:pt x="8800" y="6800"/>
                  <a:pt x="8855" y="6796"/>
                </a:cubicBezTo>
                <a:cubicBezTo>
                  <a:pt x="8913" y="6792"/>
                  <a:pt x="8942" y="6772"/>
                  <a:pt x="9004" y="6772"/>
                </a:cubicBezTo>
                <a:cubicBezTo>
                  <a:pt x="9054" y="6772"/>
                  <a:pt x="9103" y="6772"/>
                  <a:pt x="9153" y="6772"/>
                </a:cubicBezTo>
              </a:path>
              <a:path w="11039" h="2407">
                <a:moveTo>
                  <a:pt x="8930" y="6995"/>
                </a:moveTo>
                <a:cubicBezTo>
                  <a:pt x="8969" y="6985"/>
                  <a:pt x="8993" y="6957"/>
                  <a:pt x="9029" y="6945"/>
                </a:cubicBezTo>
                <a:cubicBezTo>
                  <a:pt x="9090" y="6925"/>
                  <a:pt x="9103" y="6977"/>
                  <a:pt x="9103" y="7020"/>
                </a:cubicBezTo>
                <a:cubicBezTo>
                  <a:pt x="9103" y="7038"/>
                  <a:pt x="9055" y="7082"/>
                  <a:pt x="9029" y="7094"/>
                </a:cubicBezTo>
                <a:cubicBezTo>
                  <a:pt x="8996" y="7108"/>
                  <a:pt x="8984" y="7114"/>
                  <a:pt x="8954" y="7144"/>
                </a:cubicBezTo>
                <a:cubicBezTo>
                  <a:pt x="8996" y="7144"/>
                  <a:pt x="9019" y="7154"/>
                  <a:pt x="9054" y="7169"/>
                </a:cubicBezTo>
                <a:cubicBezTo>
                  <a:pt x="9100" y="7188"/>
                  <a:pt x="9123" y="7220"/>
                  <a:pt x="9128" y="7268"/>
                </a:cubicBezTo>
                <a:cubicBezTo>
                  <a:pt x="9133" y="7314"/>
                  <a:pt x="9066" y="7355"/>
                  <a:pt x="9029" y="7367"/>
                </a:cubicBezTo>
                <a:cubicBezTo>
                  <a:pt x="8999" y="7377"/>
                  <a:pt x="8959" y="7389"/>
                  <a:pt x="8930" y="7392"/>
                </a:cubicBezTo>
                <a:cubicBezTo>
                  <a:pt x="8905" y="7392"/>
                  <a:pt x="8897" y="7392"/>
                  <a:pt x="8880" y="7392"/>
                </a:cubicBezTo>
              </a:path>
              <a:path w="11039" h="2407">
                <a:moveTo>
                  <a:pt x="8558" y="7466"/>
                </a:moveTo>
                <a:cubicBezTo>
                  <a:pt x="8614" y="7466"/>
                  <a:pt x="9160" y="7462"/>
                  <a:pt x="9153" y="7441"/>
                </a:cubicBezTo>
                <a:cubicBezTo>
                  <a:pt x="9145" y="7441"/>
                  <a:pt x="9136" y="7441"/>
                  <a:pt x="9128" y="7441"/>
                </a:cubicBezTo>
              </a:path>
              <a:path w="11039" h="2407">
                <a:moveTo>
                  <a:pt x="8855" y="7640"/>
                </a:moveTo>
                <a:cubicBezTo>
                  <a:pt x="8936" y="7640"/>
                  <a:pt x="9009" y="7642"/>
                  <a:pt x="9054" y="7665"/>
                </a:cubicBezTo>
                <a:cubicBezTo>
                  <a:pt x="9079" y="7665"/>
                  <a:pt x="9087" y="7665"/>
                  <a:pt x="9079" y="7689"/>
                </a:cubicBezTo>
                <a:cubicBezTo>
                  <a:pt x="9069" y="7718"/>
                  <a:pt x="9036" y="7754"/>
                  <a:pt x="9004" y="7789"/>
                </a:cubicBezTo>
                <a:cubicBezTo>
                  <a:pt x="8957" y="7840"/>
                  <a:pt x="8905" y="7889"/>
                  <a:pt x="8855" y="7938"/>
                </a:cubicBezTo>
                <a:cubicBezTo>
                  <a:pt x="8817" y="7975"/>
                  <a:pt x="8806" y="7984"/>
                  <a:pt x="8806" y="8037"/>
                </a:cubicBezTo>
                <a:cubicBezTo>
                  <a:pt x="8922" y="8037"/>
                  <a:pt x="9037" y="8037"/>
                  <a:pt x="9153" y="8037"/>
                </a:cubicBezTo>
              </a:path>
              <a:path w="11039" h="2407">
                <a:moveTo>
                  <a:pt x="9847" y="7367"/>
                </a:moveTo>
                <a:cubicBezTo>
                  <a:pt x="9944" y="7367"/>
                  <a:pt x="10029" y="7378"/>
                  <a:pt x="10120" y="7392"/>
                </a:cubicBezTo>
                <a:cubicBezTo>
                  <a:pt x="10219" y="7408"/>
                  <a:pt x="10383" y="7397"/>
                  <a:pt x="10443" y="7367"/>
                </a:cubicBezTo>
                <a:cubicBezTo>
                  <a:pt x="10451" y="7367"/>
                  <a:pt x="10460" y="7367"/>
                  <a:pt x="10468" y="7367"/>
                </a:cubicBezTo>
              </a:path>
              <a:path w="11039" h="2407">
                <a:moveTo>
                  <a:pt x="10840" y="7069"/>
                </a:moveTo>
                <a:cubicBezTo>
                  <a:pt x="10908" y="7069"/>
                  <a:pt x="11169" y="7097"/>
                  <a:pt x="11187" y="7045"/>
                </a:cubicBezTo>
              </a:path>
              <a:path w="11039" h="2407">
                <a:moveTo>
                  <a:pt x="11435" y="6921"/>
                </a:moveTo>
                <a:cubicBezTo>
                  <a:pt x="11412" y="6981"/>
                  <a:pt x="11388" y="7032"/>
                  <a:pt x="11385" y="7094"/>
                </a:cubicBezTo>
                <a:cubicBezTo>
                  <a:pt x="11382" y="7168"/>
                  <a:pt x="11385" y="7243"/>
                  <a:pt x="11385" y="7317"/>
                </a:cubicBezTo>
                <a:cubicBezTo>
                  <a:pt x="11385" y="7173"/>
                  <a:pt x="11381" y="7032"/>
                  <a:pt x="11410" y="6896"/>
                </a:cubicBezTo>
                <a:cubicBezTo>
                  <a:pt x="11415" y="6873"/>
                  <a:pt x="11424" y="6816"/>
                  <a:pt x="11435" y="6796"/>
                </a:cubicBezTo>
                <a:cubicBezTo>
                  <a:pt x="11478" y="6721"/>
                  <a:pt x="11522" y="6743"/>
                  <a:pt x="11584" y="6722"/>
                </a:cubicBezTo>
                <a:cubicBezTo>
                  <a:pt x="11648" y="6701"/>
                  <a:pt x="11688" y="6697"/>
                  <a:pt x="11757" y="6697"/>
                </a:cubicBezTo>
                <a:cubicBezTo>
                  <a:pt x="11823" y="6697"/>
                  <a:pt x="11880" y="6684"/>
                  <a:pt x="11931" y="6722"/>
                </a:cubicBezTo>
              </a:path>
              <a:path w="11039" h="2407">
                <a:moveTo>
                  <a:pt x="11633" y="6896"/>
                </a:moveTo>
                <a:cubicBezTo>
                  <a:pt x="11693" y="6896"/>
                  <a:pt x="11876" y="6863"/>
                  <a:pt x="11906" y="6921"/>
                </a:cubicBezTo>
                <a:cubicBezTo>
                  <a:pt x="11917" y="6943"/>
                  <a:pt x="11888" y="7031"/>
                  <a:pt x="11881" y="7045"/>
                </a:cubicBezTo>
                <a:cubicBezTo>
                  <a:pt x="11867" y="7073"/>
                  <a:pt x="11787" y="7125"/>
                  <a:pt x="11757" y="7144"/>
                </a:cubicBezTo>
                <a:cubicBezTo>
                  <a:pt x="11737" y="7157"/>
                  <a:pt x="11642" y="7205"/>
                  <a:pt x="11633" y="7218"/>
                </a:cubicBezTo>
                <a:cubicBezTo>
                  <a:pt x="11633" y="7226"/>
                  <a:pt x="11633" y="7235"/>
                  <a:pt x="11633" y="7243"/>
                </a:cubicBezTo>
                <a:cubicBezTo>
                  <a:pt x="11677" y="7269"/>
                  <a:pt x="11704" y="7268"/>
                  <a:pt x="11757" y="7268"/>
                </a:cubicBezTo>
                <a:cubicBezTo>
                  <a:pt x="11816" y="7268"/>
                  <a:pt x="11851" y="7249"/>
                  <a:pt x="11906" y="7243"/>
                </a:cubicBezTo>
                <a:cubicBezTo>
                  <a:pt x="11980" y="7236"/>
                  <a:pt x="11939" y="7243"/>
                  <a:pt x="11881" y="7243"/>
                </a:cubicBezTo>
              </a:path>
              <a:path w="11039" h="2407">
                <a:moveTo>
                  <a:pt x="11286" y="7417"/>
                </a:moveTo>
                <a:cubicBezTo>
                  <a:pt x="11331" y="7428"/>
                  <a:pt x="11357" y="7441"/>
                  <a:pt x="11410" y="7441"/>
                </a:cubicBezTo>
                <a:cubicBezTo>
                  <a:pt x="11567" y="7441"/>
                  <a:pt x="11724" y="7441"/>
                  <a:pt x="11881" y="7441"/>
                </a:cubicBezTo>
              </a:path>
              <a:path w="11039" h="2407">
                <a:moveTo>
                  <a:pt x="11435" y="7665"/>
                </a:moveTo>
                <a:cubicBezTo>
                  <a:pt x="11481" y="7683"/>
                  <a:pt x="11503" y="7665"/>
                  <a:pt x="11559" y="7665"/>
                </a:cubicBezTo>
                <a:cubicBezTo>
                  <a:pt x="11611" y="7665"/>
                  <a:pt x="11653" y="7617"/>
                  <a:pt x="11708" y="7640"/>
                </a:cubicBezTo>
                <a:cubicBezTo>
                  <a:pt x="11735" y="7651"/>
                  <a:pt x="11777" y="7676"/>
                  <a:pt x="11757" y="7714"/>
                </a:cubicBezTo>
                <a:cubicBezTo>
                  <a:pt x="11744" y="7738"/>
                  <a:pt x="11675" y="7823"/>
                  <a:pt x="11658" y="7838"/>
                </a:cubicBezTo>
                <a:cubicBezTo>
                  <a:pt x="11601" y="7887"/>
                  <a:pt x="11562" y="7928"/>
                  <a:pt x="11509" y="7987"/>
                </a:cubicBezTo>
                <a:cubicBezTo>
                  <a:pt x="11476" y="8024"/>
                  <a:pt x="11462" y="8051"/>
                  <a:pt x="11435" y="8086"/>
                </a:cubicBezTo>
                <a:cubicBezTo>
                  <a:pt x="11471" y="8113"/>
                  <a:pt x="11511" y="8131"/>
                  <a:pt x="11559" y="8136"/>
                </a:cubicBezTo>
                <a:cubicBezTo>
                  <a:pt x="11624" y="8143"/>
                  <a:pt x="11841" y="8159"/>
                  <a:pt x="11857" y="8111"/>
                </a:cubicBezTo>
              </a:path>
              <a:path w="11039" h="2407">
                <a:moveTo>
                  <a:pt x="12378" y="7441"/>
                </a:moveTo>
                <a:lnTo>
                  <a:pt x="12378" y="7441"/>
                </a:lnTo>
              </a:path>
              <a:path w="11039" h="2407">
                <a:moveTo>
                  <a:pt x="12998" y="6821"/>
                </a:moveTo>
                <a:cubicBezTo>
                  <a:pt x="12998" y="6891"/>
                  <a:pt x="13017" y="6951"/>
                  <a:pt x="13022" y="7020"/>
                </a:cubicBezTo>
                <a:cubicBezTo>
                  <a:pt x="13027" y="7091"/>
                  <a:pt x="13002" y="7147"/>
                  <a:pt x="12998" y="7218"/>
                </a:cubicBezTo>
                <a:cubicBezTo>
                  <a:pt x="12996" y="7259"/>
                  <a:pt x="12998" y="7301"/>
                  <a:pt x="12998" y="7342"/>
                </a:cubicBezTo>
              </a:path>
              <a:path w="11039" h="2407">
                <a:moveTo>
                  <a:pt x="12675" y="7392"/>
                </a:moveTo>
                <a:cubicBezTo>
                  <a:pt x="12812" y="7392"/>
                  <a:pt x="12943" y="7394"/>
                  <a:pt x="13072" y="7417"/>
                </a:cubicBezTo>
                <a:cubicBezTo>
                  <a:pt x="13134" y="7428"/>
                  <a:pt x="13207" y="7417"/>
                  <a:pt x="13271" y="7417"/>
                </a:cubicBezTo>
              </a:path>
              <a:path w="11039" h="2407">
                <a:moveTo>
                  <a:pt x="12799" y="7665"/>
                </a:moveTo>
                <a:cubicBezTo>
                  <a:pt x="12847" y="7629"/>
                  <a:pt x="12898" y="7640"/>
                  <a:pt x="12948" y="7615"/>
                </a:cubicBezTo>
                <a:cubicBezTo>
                  <a:pt x="12994" y="7592"/>
                  <a:pt x="13012" y="7590"/>
                  <a:pt x="13072" y="7590"/>
                </a:cubicBezTo>
                <a:cubicBezTo>
                  <a:pt x="13104" y="7590"/>
                  <a:pt x="13138" y="7598"/>
                  <a:pt x="13146" y="7615"/>
                </a:cubicBezTo>
                <a:cubicBezTo>
                  <a:pt x="13160" y="7645"/>
                  <a:pt x="13132" y="7692"/>
                  <a:pt x="13122" y="7714"/>
                </a:cubicBezTo>
                <a:cubicBezTo>
                  <a:pt x="13099" y="7769"/>
                  <a:pt x="13062" y="7797"/>
                  <a:pt x="13022" y="7838"/>
                </a:cubicBezTo>
                <a:cubicBezTo>
                  <a:pt x="12977" y="7884"/>
                  <a:pt x="12945" y="7939"/>
                  <a:pt x="12898" y="7987"/>
                </a:cubicBezTo>
                <a:cubicBezTo>
                  <a:pt x="12878" y="8007"/>
                  <a:pt x="12806" y="8051"/>
                  <a:pt x="12799" y="8062"/>
                </a:cubicBezTo>
                <a:cubicBezTo>
                  <a:pt x="12782" y="8086"/>
                  <a:pt x="12784" y="8081"/>
                  <a:pt x="12774" y="8111"/>
                </a:cubicBezTo>
                <a:cubicBezTo>
                  <a:pt x="12857" y="8111"/>
                  <a:pt x="12928" y="8112"/>
                  <a:pt x="12998" y="8136"/>
                </a:cubicBezTo>
                <a:cubicBezTo>
                  <a:pt x="13036" y="8149"/>
                  <a:pt x="13087" y="8150"/>
                  <a:pt x="13122" y="8161"/>
                </a:cubicBezTo>
                <a:cubicBezTo>
                  <a:pt x="13136" y="8165"/>
                  <a:pt x="13262" y="8161"/>
                  <a:pt x="13196" y="8161"/>
                </a:cubicBezTo>
              </a:path>
              <a:path w="11039" h="2407">
                <a:moveTo>
                  <a:pt x="10220" y="7243"/>
                </a:moveTo>
                <a:cubicBezTo>
                  <a:pt x="10220" y="7341"/>
                  <a:pt x="10212" y="7432"/>
                  <a:pt x="10195" y="7516"/>
                </a:cubicBezTo>
                <a:cubicBezTo>
                  <a:pt x="10187" y="7557"/>
                  <a:pt x="10195" y="7631"/>
                  <a:pt x="10195" y="7590"/>
                </a:cubicBezTo>
              </a:path>
              <a:path w="11039" h="2407">
                <a:moveTo>
                  <a:pt x="11013" y="6896"/>
                </a:moveTo>
                <a:cubicBezTo>
                  <a:pt x="11013" y="6996"/>
                  <a:pt x="11016" y="7076"/>
                  <a:pt x="11038" y="7169"/>
                </a:cubicBezTo>
                <a:cubicBezTo>
                  <a:pt x="11050" y="7220"/>
                  <a:pt x="11038" y="7289"/>
                  <a:pt x="11038" y="7342"/>
                </a:cubicBezTo>
              </a:path>
              <a:path w="11039" h="2407">
                <a:moveTo>
                  <a:pt x="14015" y="7268"/>
                </a:moveTo>
                <a:cubicBezTo>
                  <a:pt x="14080" y="7308"/>
                  <a:pt x="14092" y="7272"/>
                  <a:pt x="14163" y="7268"/>
                </a:cubicBezTo>
                <a:cubicBezTo>
                  <a:pt x="14196" y="7266"/>
                  <a:pt x="14230" y="7268"/>
                  <a:pt x="14263" y="7268"/>
                </a:cubicBezTo>
              </a:path>
              <a:path w="11039" h="2407">
                <a:moveTo>
                  <a:pt x="14139" y="7491"/>
                </a:moveTo>
                <a:cubicBezTo>
                  <a:pt x="14205" y="7491"/>
                  <a:pt x="14271" y="7491"/>
                  <a:pt x="14337" y="7491"/>
                </a:cubicBezTo>
              </a:path>
              <a:path w="11039" h="2407">
                <a:moveTo>
                  <a:pt x="15081" y="7144"/>
                </a:moveTo>
                <a:cubicBezTo>
                  <a:pt x="15063" y="7232"/>
                  <a:pt x="15056" y="7303"/>
                  <a:pt x="15056" y="7392"/>
                </a:cubicBezTo>
                <a:cubicBezTo>
                  <a:pt x="15056" y="7442"/>
                  <a:pt x="15056" y="7491"/>
                  <a:pt x="15056" y="7541"/>
                </a:cubicBezTo>
                <a:cubicBezTo>
                  <a:pt x="15056" y="7478"/>
                  <a:pt x="15041" y="7418"/>
                  <a:pt x="15032" y="7367"/>
                </a:cubicBezTo>
                <a:cubicBezTo>
                  <a:pt x="15018" y="7292"/>
                  <a:pt x="15012" y="7100"/>
                  <a:pt x="15056" y="7045"/>
                </a:cubicBezTo>
                <a:cubicBezTo>
                  <a:pt x="15114" y="6973"/>
                  <a:pt x="15154" y="6970"/>
                  <a:pt x="15230" y="6945"/>
                </a:cubicBezTo>
                <a:cubicBezTo>
                  <a:pt x="15297" y="6923"/>
                  <a:pt x="15358" y="6900"/>
                  <a:pt x="15429" y="6896"/>
                </a:cubicBezTo>
                <a:cubicBezTo>
                  <a:pt x="15495" y="6892"/>
                  <a:pt x="15561" y="6896"/>
                  <a:pt x="15627" y="6896"/>
                </a:cubicBezTo>
              </a:path>
              <a:path w="11039" h="2407">
                <a:moveTo>
                  <a:pt x="15379" y="7169"/>
                </a:moveTo>
                <a:cubicBezTo>
                  <a:pt x="15379" y="7234"/>
                  <a:pt x="15358" y="7282"/>
                  <a:pt x="15354" y="7342"/>
                </a:cubicBezTo>
                <a:cubicBezTo>
                  <a:pt x="15350" y="7396"/>
                  <a:pt x="15352" y="7471"/>
                  <a:pt x="15379" y="7516"/>
                </a:cubicBezTo>
                <a:cubicBezTo>
                  <a:pt x="15409" y="7566"/>
                  <a:pt x="15451" y="7586"/>
                  <a:pt x="15503" y="7590"/>
                </a:cubicBezTo>
                <a:cubicBezTo>
                  <a:pt x="15574" y="7596"/>
                  <a:pt x="15623" y="7549"/>
                  <a:pt x="15677" y="7516"/>
                </a:cubicBezTo>
                <a:cubicBezTo>
                  <a:pt x="15739" y="7479"/>
                  <a:pt x="15757" y="7456"/>
                  <a:pt x="15776" y="7392"/>
                </a:cubicBezTo>
                <a:cubicBezTo>
                  <a:pt x="15787" y="7354"/>
                  <a:pt x="15762" y="7308"/>
                  <a:pt x="15726" y="7293"/>
                </a:cubicBezTo>
                <a:cubicBezTo>
                  <a:pt x="15702" y="7283"/>
                  <a:pt x="15644" y="7327"/>
                  <a:pt x="15627" y="7342"/>
                </a:cubicBezTo>
                <a:cubicBezTo>
                  <a:pt x="15608" y="7360"/>
                  <a:pt x="15525" y="7457"/>
                  <a:pt x="15528" y="7491"/>
                </a:cubicBezTo>
                <a:cubicBezTo>
                  <a:pt x="15531" y="7523"/>
                  <a:pt x="15572" y="7562"/>
                  <a:pt x="15602" y="7565"/>
                </a:cubicBezTo>
                <a:cubicBezTo>
                  <a:pt x="15610" y="7565"/>
                  <a:pt x="15619" y="7565"/>
                  <a:pt x="15627" y="7565"/>
                </a:cubicBezTo>
              </a:path>
              <a:path w="11039" h="2407">
                <a:moveTo>
                  <a:pt x="16396" y="7020"/>
                </a:moveTo>
                <a:cubicBezTo>
                  <a:pt x="16396" y="7179"/>
                  <a:pt x="16383" y="7341"/>
                  <a:pt x="16421" y="7491"/>
                </a:cubicBezTo>
                <a:cubicBezTo>
                  <a:pt x="16430" y="7528"/>
                  <a:pt x="16422" y="7500"/>
                  <a:pt x="16396" y="7491"/>
                </a:cubicBezTo>
              </a:path>
              <a:path w="11039" h="2407">
                <a:moveTo>
                  <a:pt x="16123" y="7243"/>
                </a:moveTo>
                <a:cubicBezTo>
                  <a:pt x="16205" y="7278"/>
                  <a:pt x="16280" y="7268"/>
                  <a:pt x="16371" y="7268"/>
                </a:cubicBezTo>
                <a:cubicBezTo>
                  <a:pt x="16439" y="7268"/>
                  <a:pt x="16481" y="7251"/>
                  <a:pt x="16545" y="7243"/>
                </a:cubicBezTo>
              </a:path>
              <a:path w="11039" h="2407">
                <a:moveTo>
                  <a:pt x="16818" y="7119"/>
                </a:moveTo>
                <a:cubicBezTo>
                  <a:pt x="16818" y="7202"/>
                  <a:pt x="16838" y="7264"/>
                  <a:pt x="16842" y="7342"/>
                </a:cubicBezTo>
                <a:cubicBezTo>
                  <a:pt x="16846" y="7413"/>
                  <a:pt x="16825" y="7485"/>
                  <a:pt x="16867" y="7541"/>
                </a:cubicBezTo>
                <a:cubicBezTo>
                  <a:pt x="16867" y="7443"/>
                  <a:pt x="16865" y="7359"/>
                  <a:pt x="16842" y="7268"/>
                </a:cubicBezTo>
                <a:cubicBezTo>
                  <a:pt x="16824" y="7198"/>
                  <a:pt x="16850" y="7125"/>
                  <a:pt x="16867" y="7069"/>
                </a:cubicBezTo>
                <a:cubicBezTo>
                  <a:pt x="16873" y="7049"/>
                  <a:pt x="16923" y="6954"/>
                  <a:pt x="16942" y="6945"/>
                </a:cubicBezTo>
                <a:cubicBezTo>
                  <a:pt x="16995" y="6919"/>
                  <a:pt x="17105" y="6881"/>
                  <a:pt x="17165" y="6871"/>
                </a:cubicBezTo>
                <a:cubicBezTo>
                  <a:pt x="17218" y="6862"/>
                  <a:pt x="17349" y="6855"/>
                  <a:pt x="17363" y="6896"/>
                </a:cubicBezTo>
              </a:path>
              <a:path w="11039" h="2407">
                <a:moveTo>
                  <a:pt x="17041" y="7193"/>
                </a:moveTo>
                <a:cubicBezTo>
                  <a:pt x="17084" y="7193"/>
                  <a:pt x="17103" y="7181"/>
                  <a:pt x="17140" y="7169"/>
                </a:cubicBezTo>
                <a:cubicBezTo>
                  <a:pt x="17162" y="7162"/>
                  <a:pt x="17255" y="7125"/>
                  <a:pt x="17289" y="7144"/>
                </a:cubicBezTo>
                <a:cubicBezTo>
                  <a:pt x="17315" y="7158"/>
                  <a:pt x="17359" y="7178"/>
                  <a:pt x="17338" y="7218"/>
                </a:cubicBezTo>
                <a:cubicBezTo>
                  <a:pt x="17315" y="7261"/>
                  <a:pt x="17307" y="7331"/>
                  <a:pt x="17264" y="7367"/>
                </a:cubicBezTo>
                <a:cubicBezTo>
                  <a:pt x="17223" y="7402"/>
                  <a:pt x="17180" y="7426"/>
                  <a:pt x="17140" y="7466"/>
                </a:cubicBezTo>
                <a:cubicBezTo>
                  <a:pt x="17102" y="7504"/>
                  <a:pt x="17090" y="7512"/>
                  <a:pt x="17090" y="7565"/>
                </a:cubicBezTo>
                <a:cubicBezTo>
                  <a:pt x="17090" y="7616"/>
                  <a:pt x="17155" y="7597"/>
                  <a:pt x="17190" y="7615"/>
                </a:cubicBezTo>
                <a:cubicBezTo>
                  <a:pt x="17244" y="7643"/>
                  <a:pt x="17280" y="7623"/>
                  <a:pt x="17338" y="7640"/>
                </a:cubicBezTo>
                <a:cubicBezTo>
                  <a:pt x="17392" y="7656"/>
                  <a:pt x="17407" y="7665"/>
                  <a:pt x="17462" y="7665"/>
                </a:cubicBezTo>
                <a:cubicBezTo>
                  <a:pt x="17499" y="7665"/>
                  <a:pt x="17523" y="7658"/>
                  <a:pt x="17487" y="7640"/>
                </a:cubicBezTo>
              </a:path>
              <a:path w="11039" h="2407">
                <a:moveTo>
                  <a:pt x="17661" y="7838"/>
                </a:moveTo>
                <a:cubicBezTo>
                  <a:pt x="17556" y="7838"/>
                  <a:pt x="17461" y="7826"/>
                  <a:pt x="17363" y="7813"/>
                </a:cubicBezTo>
                <a:cubicBezTo>
                  <a:pt x="17270" y="7801"/>
                  <a:pt x="17180" y="7810"/>
                  <a:pt x="17090" y="7789"/>
                </a:cubicBezTo>
                <a:cubicBezTo>
                  <a:pt x="16967" y="7760"/>
                  <a:pt x="16842" y="7760"/>
                  <a:pt x="16718" y="7739"/>
                </a:cubicBezTo>
                <a:cubicBezTo>
                  <a:pt x="16572" y="7714"/>
                  <a:pt x="16420" y="7700"/>
                  <a:pt x="16272" y="7689"/>
                </a:cubicBezTo>
                <a:cubicBezTo>
                  <a:pt x="16124" y="7678"/>
                  <a:pt x="15971" y="7675"/>
                  <a:pt x="15825" y="7665"/>
                </a:cubicBezTo>
                <a:cubicBezTo>
                  <a:pt x="15685" y="7655"/>
                  <a:pt x="15546" y="7689"/>
                  <a:pt x="15404" y="7689"/>
                </a:cubicBezTo>
                <a:cubicBezTo>
                  <a:pt x="15315" y="7689"/>
                  <a:pt x="15036" y="7689"/>
                  <a:pt x="15032" y="7689"/>
                </a:cubicBezTo>
              </a:path>
              <a:path w="11039" h="2407">
                <a:moveTo>
                  <a:pt x="15925" y="7863"/>
                </a:moveTo>
                <a:cubicBezTo>
                  <a:pt x="15889" y="7899"/>
                  <a:pt x="15881" y="7929"/>
                  <a:pt x="15850" y="7962"/>
                </a:cubicBezTo>
                <a:cubicBezTo>
                  <a:pt x="15825" y="7989"/>
                  <a:pt x="15767" y="8050"/>
                  <a:pt x="15751" y="8086"/>
                </a:cubicBezTo>
                <a:cubicBezTo>
                  <a:pt x="15751" y="8094"/>
                  <a:pt x="15751" y="8103"/>
                  <a:pt x="15751" y="8111"/>
                </a:cubicBezTo>
                <a:cubicBezTo>
                  <a:pt x="15808" y="8111"/>
                  <a:pt x="15829" y="8121"/>
                  <a:pt x="15875" y="8136"/>
                </a:cubicBezTo>
                <a:cubicBezTo>
                  <a:pt x="15954" y="8162"/>
                  <a:pt x="16157" y="8150"/>
                  <a:pt x="16222" y="8111"/>
                </a:cubicBezTo>
              </a:path>
              <a:path w="11039" h="2407">
                <a:moveTo>
                  <a:pt x="16222" y="7813"/>
                </a:moveTo>
                <a:cubicBezTo>
                  <a:pt x="16222" y="7885"/>
                  <a:pt x="16206" y="7946"/>
                  <a:pt x="16197" y="8012"/>
                </a:cubicBezTo>
                <a:cubicBezTo>
                  <a:pt x="16181" y="8131"/>
                  <a:pt x="16166" y="8372"/>
                  <a:pt x="16222" y="8483"/>
                </a:cubicBezTo>
                <a:cubicBezTo>
                  <a:pt x="16250" y="8511"/>
                  <a:pt x="16259" y="8525"/>
                  <a:pt x="16247" y="8558"/>
                </a:cubicBezTo>
              </a:path>
              <a:path w="11039" h="2407">
                <a:moveTo>
                  <a:pt x="14635" y="6871"/>
                </a:moveTo>
                <a:cubicBezTo>
                  <a:pt x="14604" y="6897"/>
                  <a:pt x="14558" y="6937"/>
                  <a:pt x="14511" y="6970"/>
                </a:cubicBezTo>
                <a:cubicBezTo>
                  <a:pt x="14443" y="7018"/>
                  <a:pt x="14371" y="7058"/>
                  <a:pt x="14312" y="7119"/>
                </a:cubicBezTo>
                <a:cubicBezTo>
                  <a:pt x="14256" y="7177"/>
                  <a:pt x="14224" y="7219"/>
                  <a:pt x="14213" y="7293"/>
                </a:cubicBezTo>
                <a:cubicBezTo>
                  <a:pt x="14205" y="7348"/>
                  <a:pt x="14206" y="7330"/>
                  <a:pt x="14238" y="7367"/>
                </a:cubicBezTo>
                <a:cubicBezTo>
                  <a:pt x="14300" y="7438"/>
                  <a:pt x="14326" y="7396"/>
                  <a:pt x="14412" y="7417"/>
                </a:cubicBezTo>
                <a:cubicBezTo>
                  <a:pt x="14456" y="7417"/>
                  <a:pt x="14469" y="7414"/>
                  <a:pt x="14486" y="7441"/>
                </a:cubicBezTo>
                <a:cubicBezTo>
                  <a:pt x="14444" y="7503"/>
                  <a:pt x="14413" y="7558"/>
                  <a:pt x="14362" y="7615"/>
                </a:cubicBezTo>
                <a:cubicBezTo>
                  <a:pt x="14306" y="7678"/>
                  <a:pt x="14237" y="7727"/>
                  <a:pt x="14213" y="7813"/>
                </a:cubicBezTo>
                <a:cubicBezTo>
                  <a:pt x="14196" y="7874"/>
                  <a:pt x="14223" y="7942"/>
                  <a:pt x="14263" y="7987"/>
                </a:cubicBezTo>
                <a:cubicBezTo>
                  <a:pt x="14316" y="8048"/>
                  <a:pt x="14397" y="8061"/>
                  <a:pt x="14461" y="8086"/>
                </a:cubicBezTo>
                <a:cubicBezTo>
                  <a:pt x="14531" y="8113"/>
                  <a:pt x="14586" y="8106"/>
                  <a:pt x="14660" y="8111"/>
                </a:cubicBezTo>
                <a:cubicBezTo>
                  <a:pt x="14631" y="8169"/>
                  <a:pt x="14584" y="8243"/>
                  <a:pt x="14560" y="8310"/>
                </a:cubicBezTo>
                <a:cubicBezTo>
                  <a:pt x="14533" y="8386"/>
                  <a:pt x="14520" y="8472"/>
                  <a:pt x="14560" y="8558"/>
                </a:cubicBezTo>
                <a:cubicBezTo>
                  <a:pt x="14597" y="8638"/>
                  <a:pt x="14688" y="8634"/>
                  <a:pt x="14759" y="8657"/>
                </a:cubicBezTo>
                <a:cubicBezTo>
                  <a:pt x="14898" y="8703"/>
                  <a:pt x="14928" y="8681"/>
                  <a:pt x="15056" y="8657"/>
                </a:cubicBezTo>
                <a:cubicBezTo>
                  <a:pt x="15122" y="8645"/>
                  <a:pt x="15190" y="8647"/>
                  <a:pt x="15255" y="8632"/>
                </a:cubicBezTo>
                <a:cubicBezTo>
                  <a:pt x="15257" y="8638"/>
                  <a:pt x="15297" y="8701"/>
                  <a:pt x="15304" y="8731"/>
                </a:cubicBezTo>
                <a:cubicBezTo>
                  <a:pt x="15332" y="8847"/>
                  <a:pt x="15318" y="8884"/>
                  <a:pt x="15453" y="8930"/>
                </a:cubicBezTo>
                <a:cubicBezTo>
                  <a:pt x="15551" y="8963"/>
                  <a:pt x="15672" y="8964"/>
                  <a:pt x="15776" y="8954"/>
                </a:cubicBezTo>
                <a:cubicBezTo>
                  <a:pt x="15888" y="8943"/>
                  <a:pt x="15973" y="8902"/>
                  <a:pt x="16073" y="8880"/>
                </a:cubicBezTo>
                <a:cubicBezTo>
                  <a:pt x="16180" y="8856"/>
                  <a:pt x="16215" y="8847"/>
                  <a:pt x="16297" y="8781"/>
                </a:cubicBezTo>
                <a:cubicBezTo>
                  <a:pt x="16332" y="8781"/>
                  <a:pt x="16344" y="8771"/>
                  <a:pt x="16346" y="8731"/>
                </a:cubicBezTo>
                <a:cubicBezTo>
                  <a:pt x="16369" y="8749"/>
                  <a:pt x="16402" y="8838"/>
                  <a:pt x="16470" y="8855"/>
                </a:cubicBezTo>
                <a:cubicBezTo>
                  <a:pt x="16571" y="8881"/>
                  <a:pt x="16729" y="8837"/>
                  <a:pt x="16818" y="8806"/>
                </a:cubicBezTo>
                <a:cubicBezTo>
                  <a:pt x="16933" y="8766"/>
                  <a:pt x="16997" y="8705"/>
                  <a:pt x="17090" y="8632"/>
                </a:cubicBezTo>
                <a:cubicBezTo>
                  <a:pt x="17147" y="8587"/>
                  <a:pt x="17205" y="8547"/>
                  <a:pt x="17239" y="8483"/>
                </a:cubicBezTo>
                <a:cubicBezTo>
                  <a:pt x="17239" y="8442"/>
                  <a:pt x="17239" y="8434"/>
                  <a:pt x="17239" y="8409"/>
                </a:cubicBezTo>
                <a:cubicBezTo>
                  <a:pt x="17299" y="8417"/>
                  <a:pt x="17321" y="8429"/>
                  <a:pt x="17388" y="8434"/>
                </a:cubicBezTo>
                <a:cubicBezTo>
                  <a:pt x="17455" y="8439"/>
                  <a:pt x="17577" y="8436"/>
                  <a:pt x="17636" y="8409"/>
                </a:cubicBezTo>
                <a:cubicBezTo>
                  <a:pt x="17755" y="8355"/>
                  <a:pt x="17853" y="8266"/>
                  <a:pt x="17959" y="8161"/>
                </a:cubicBezTo>
                <a:cubicBezTo>
                  <a:pt x="18012" y="8108"/>
                  <a:pt x="18096" y="8043"/>
                  <a:pt x="18107" y="7962"/>
                </a:cubicBezTo>
                <a:cubicBezTo>
                  <a:pt x="18118" y="7886"/>
                  <a:pt x="18066" y="7902"/>
                  <a:pt x="18107" y="7863"/>
                </a:cubicBezTo>
                <a:cubicBezTo>
                  <a:pt x="18139" y="7832"/>
                  <a:pt x="18198" y="7852"/>
                  <a:pt x="18231" y="7813"/>
                </a:cubicBezTo>
                <a:cubicBezTo>
                  <a:pt x="18289" y="7745"/>
                  <a:pt x="18294" y="7701"/>
                  <a:pt x="18306" y="7615"/>
                </a:cubicBezTo>
                <a:cubicBezTo>
                  <a:pt x="18318" y="7527"/>
                  <a:pt x="18312" y="7425"/>
                  <a:pt x="18281" y="7342"/>
                </a:cubicBezTo>
                <a:cubicBezTo>
                  <a:pt x="18242" y="7238"/>
                  <a:pt x="18151" y="7157"/>
                  <a:pt x="18058" y="7094"/>
                </a:cubicBezTo>
                <a:cubicBezTo>
                  <a:pt x="17977" y="7039"/>
                  <a:pt x="17865" y="7017"/>
                  <a:pt x="17785" y="6970"/>
                </a:cubicBezTo>
                <a:cubicBezTo>
                  <a:pt x="17746" y="6947"/>
                  <a:pt x="17723" y="6926"/>
                  <a:pt x="17686" y="6896"/>
                </a:cubicBezTo>
                <a:cubicBezTo>
                  <a:pt x="17611" y="6835"/>
                  <a:pt x="17555" y="6785"/>
                  <a:pt x="17462" y="6747"/>
                </a:cubicBezTo>
                <a:cubicBezTo>
                  <a:pt x="17281" y="6672"/>
                  <a:pt x="17129" y="6708"/>
                  <a:pt x="16942" y="6722"/>
                </a:cubicBezTo>
                <a:cubicBezTo>
                  <a:pt x="16868" y="6727"/>
                  <a:pt x="16788" y="6750"/>
                  <a:pt x="16718" y="6747"/>
                </a:cubicBezTo>
                <a:cubicBezTo>
                  <a:pt x="16655" y="6744"/>
                  <a:pt x="16584" y="6711"/>
                  <a:pt x="16520" y="6697"/>
                </a:cubicBezTo>
                <a:cubicBezTo>
                  <a:pt x="16454" y="6682"/>
                  <a:pt x="16362" y="6626"/>
                  <a:pt x="16297" y="6623"/>
                </a:cubicBezTo>
                <a:cubicBezTo>
                  <a:pt x="16213" y="6619"/>
                  <a:pt x="16128" y="6654"/>
                  <a:pt x="16049" y="6672"/>
                </a:cubicBezTo>
                <a:cubicBezTo>
                  <a:pt x="15998" y="6683"/>
                  <a:pt x="15928" y="6729"/>
                  <a:pt x="15875" y="6722"/>
                </a:cubicBezTo>
                <a:cubicBezTo>
                  <a:pt x="15816" y="6714"/>
                  <a:pt x="15758" y="6670"/>
                  <a:pt x="15701" y="6648"/>
                </a:cubicBezTo>
                <a:cubicBezTo>
                  <a:pt x="15590" y="6604"/>
                  <a:pt x="15499" y="6560"/>
                  <a:pt x="15379" y="6548"/>
                </a:cubicBezTo>
                <a:cubicBezTo>
                  <a:pt x="15265" y="6536"/>
                  <a:pt x="15162" y="6587"/>
                  <a:pt x="15056" y="6623"/>
                </a:cubicBezTo>
                <a:cubicBezTo>
                  <a:pt x="14965" y="6654"/>
                  <a:pt x="14892" y="6698"/>
                  <a:pt x="14833" y="6747"/>
                </a:cubicBezTo>
                <a:cubicBezTo>
                  <a:pt x="14797" y="6778"/>
                  <a:pt x="14770" y="6816"/>
                  <a:pt x="14734" y="6846"/>
                </a:cubicBezTo>
                <a:cubicBezTo>
                  <a:pt x="14690" y="6868"/>
                  <a:pt x="14679" y="6871"/>
                  <a:pt x="14660" y="68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0120" y="3106800"/>
            <a:ext cx="1635120" cy="376200"/>
          </a:xfrm>
          <a:custGeom>
            <a:avLst/>
            <a:gdLst/>
            <a:ahLst/>
            <a:rect l="l" t="t" r="r" b="b"/>
            <a:pathLst>
              <a:path w="4540" h="1043">
                <a:moveTo>
                  <a:pt x="1191" y="8930"/>
                </a:moveTo>
                <a:cubicBezTo>
                  <a:pt x="1206" y="8982"/>
                  <a:pt x="1236" y="9050"/>
                  <a:pt x="1240" y="9103"/>
                </a:cubicBezTo>
                <a:cubicBezTo>
                  <a:pt x="1243" y="9153"/>
                  <a:pt x="1228" y="9127"/>
                  <a:pt x="1215" y="9079"/>
                </a:cubicBezTo>
                <a:cubicBezTo>
                  <a:pt x="1202" y="9032"/>
                  <a:pt x="1196" y="8960"/>
                  <a:pt x="1141" y="8930"/>
                </a:cubicBezTo>
                <a:cubicBezTo>
                  <a:pt x="1106" y="8930"/>
                  <a:pt x="1093" y="8921"/>
                  <a:pt x="1091" y="8880"/>
                </a:cubicBezTo>
                <a:cubicBezTo>
                  <a:pt x="1038" y="8880"/>
                  <a:pt x="1026" y="8904"/>
                  <a:pt x="992" y="8930"/>
                </a:cubicBezTo>
                <a:cubicBezTo>
                  <a:pt x="958" y="8956"/>
                  <a:pt x="924" y="9037"/>
                  <a:pt x="918" y="9079"/>
                </a:cubicBezTo>
                <a:cubicBezTo>
                  <a:pt x="905" y="9172"/>
                  <a:pt x="904" y="9326"/>
                  <a:pt x="943" y="9401"/>
                </a:cubicBezTo>
                <a:cubicBezTo>
                  <a:pt x="965" y="9443"/>
                  <a:pt x="995" y="9490"/>
                  <a:pt x="1042" y="9500"/>
                </a:cubicBezTo>
                <a:cubicBezTo>
                  <a:pt x="1132" y="9520"/>
                  <a:pt x="1196" y="9462"/>
                  <a:pt x="1240" y="9401"/>
                </a:cubicBezTo>
              </a:path>
              <a:path w="4540" h="1043">
                <a:moveTo>
                  <a:pt x="1364" y="9103"/>
                </a:moveTo>
                <a:cubicBezTo>
                  <a:pt x="1357" y="9221"/>
                  <a:pt x="1314" y="9334"/>
                  <a:pt x="1364" y="9451"/>
                </a:cubicBezTo>
                <a:cubicBezTo>
                  <a:pt x="1374" y="9475"/>
                  <a:pt x="1441" y="9498"/>
                  <a:pt x="1463" y="9500"/>
                </a:cubicBezTo>
                <a:cubicBezTo>
                  <a:pt x="1509" y="9503"/>
                  <a:pt x="1579" y="9480"/>
                  <a:pt x="1612" y="9451"/>
                </a:cubicBezTo>
                <a:cubicBezTo>
                  <a:pt x="1683" y="9390"/>
                  <a:pt x="1719" y="9321"/>
                  <a:pt x="1736" y="9227"/>
                </a:cubicBezTo>
                <a:cubicBezTo>
                  <a:pt x="1748" y="9160"/>
                  <a:pt x="1723" y="9084"/>
                  <a:pt x="1687" y="9029"/>
                </a:cubicBezTo>
                <a:cubicBezTo>
                  <a:pt x="1665" y="8994"/>
                  <a:pt x="1543" y="8940"/>
                  <a:pt x="1513" y="8954"/>
                </a:cubicBezTo>
                <a:cubicBezTo>
                  <a:pt x="1476" y="8971"/>
                  <a:pt x="1398" y="9032"/>
                  <a:pt x="1389" y="9079"/>
                </a:cubicBezTo>
                <a:cubicBezTo>
                  <a:pt x="1372" y="9170"/>
                  <a:pt x="1370" y="9233"/>
                  <a:pt x="1463" y="9252"/>
                </a:cubicBezTo>
              </a:path>
              <a:path w="4540" h="1043">
                <a:moveTo>
                  <a:pt x="2108" y="8954"/>
                </a:moveTo>
                <a:cubicBezTo>
                  <a:pt x="2030" y="8954"/>
                  <a:pt x="2041" y="8991"/>
                  <a:pt x="1984" y="9004"/>
                </a:cubicBezTo>
                <a:cubicBezTo>
                  <a:pt x="1906" y="9022"/>
                  <a:pt x="1948" y="9041"/>
                  <a:pt x="1910" y="9079"/>
                </a:cubicBezTo>
                <a:cubicBezTo>
                  <a:pt x="1900" y="9089"/>
                  <a:pt x="1920" y="9119"/>
                  <a:pt x="1984" y="9153"/>
                </a:cubicBezTo>
                <a:cubicBezTo>
                  <a:pt x="2030" y="9178"/>
                  <a:pt x="2105" y="9253"/>
                  <a:pt x="2133" y="9302"/>
                </a:cubicBezTo>
                <a:cubicBezTo>
                  <a:pt x="2154" y="9339"/>
                  <a:pt x="2176" y="9413"/>
                  <a:pt x="2133" y="9451"/>
                </a:cubicBezTo>
                <a:cubicBezTo>
                  <a:pt x="2101" y="9479"/>
                  <a:pt x="1933" y="9451"/>
                  <a:pt x="1885" y="9451"/>
                </a:cubicBezTo>
                <a:cubicBezTo>
                  <a:pt x="1896" y="9376"/>
                  <a:pt x="1900" y="9386"/>
                  <a:pt x="1960" y="9327"/>
                </a:cubicBezTo>
              </a:path>
              <a:path w="4540" h="1043">
                <a:moveTo>
                  <a:pt x="2456" y="8731"/>
                </a:moveTo>
                <a:cubicBezTo>
                  <a:pt x="2403" y="8799"/>
                  <a:pt x="2365" y="8876"/>
                  <a:pt x="2332" y="8954"/>
                </a:cubicBezTo>
                <a:cubicBezTo>
                  <a:pt x="2288" y="9057"/>
                  <a:pt x="2282" y="9143"/>
                  <a:pt x="2282" y="9252"/>
                </a:cubicBezTo>
                <a:cubicBezTo>
                  <a:pt x="2282" y="9327"/>
                  <a:pt x="2312" y="9392"/>
                  <a:pt x="2356" y="9451"/>
                </a:cubicBezTo>
                <a:cubicBezTo>
                  <a:pt x="2395" y="9502"/>
                  <a:pt x="2420" y="9500"/>
                  <a:pt x="2480" y="9500"/>
                </a:cubicBezTo>
                <a:cubicBezTo>
                  <a:pt x="2537" y="9500"/>
                  <a:pt x="2558" y="9495"/>
                  <a:pt x="2580" y="9451"/>
                </a:cubicBezTo>
              </a:path>
              <a:path w="4540" h="1043">
                <a:moveTo>
                  <a:pt x="2729" y="8855"/>
                </a:moveTo>
                <a:cubicBezTo>
                  <a:pt x="2729" y="8924"/>
                  <a:pt x="2712" y="8962"/>
                  <a:pt x="2704" y="9029"/>
                </a:cubicBezTo>
                <a:cubicBezTo>
                  <a:pt x="2687" y="9166"/>
                  <a:pt x="2696" y="9322"/>
                  <a:pt x="2729" y="9451"/>
                </a:cubicBezTo>
                <a:cubicBezTo>
                  <a:pt x="2739" y="9490"/>
                  <a:pt x="2731" y="9413"/>
                  <a:pt x="2753" y="9376"/>
                </a:cubicBezTo>
              </a:path>
              <a:path w="4540" h="1043">
                <a:moveTo>
                  <a:pt x="2902" y="8930"/>
                </a:moveTo>
                <a:cubicBezTo>
                  <a:pt x="2930" y="8915"/>
                  <a:pt x="3053" y="8839"/>
                  <a:pt x="3101" y="8880"/>
                </a:cubicBezTo>
                <a:cubicBezTo>
                  <a:pt x="3160" y="8930"/>
                  <a:pt x="3136" y="8978"/>
                  <a:pt x="3125" y="9004"/>
                </a:cubicBezTo>
                <a:cubicBezTo>
                  <a:pt x="3095" y="9075"/>
                  <a:pt x="3104" y="9051"/>
                  <a:pt x="3051" y="9079"/>
                </a:cubicBezTo>
                <a:cubicBezTo>
                  <a:pt x="3043" y="9087"/>
                  <a:pt x="3034" y="9095"/>
                  <a:pt x="3026" y="9103"/>
                </a:cubicBezTo>
                <a:cubicBezTo>
                  <a:pt x="3065" y="9122"/>
                  <a:pt x="3103" y="9116"/>
                  <a:pt x="3125" y="9153"/>
                </a:cubicBezTo>
                <a:cubicBezTo>
                  <a:pt x="3163" y="9217"/>
                  <a:pt x="3201" y="9289"/>
                  <a:pt x="3175" y="9376"/>
                </a:cubicBezTo>
                <a:cubicBezTo>
                  <a:pt x="3160" y="9426"/>
                  <a:pt x="3125" y="9451"/>
                  <a:pt x="3076" y="9451"/>
                </a:cubicBezTo>
                <a:cubicBezTo>
                  <a:pt x="2997" y="9451"/>
                  <a:pt x="2941" y="9478"/>
                  <a:pt x="2927" y="9401"/>
                </a:cubicBezTo>
                <a:cubicBezTo>
                  <a:pt x="2927" y="9393"/>
                  <a:pt x="2927" y="9384"/>
                  <a:pt x="2927" y="9376"/>
                </a:cubicBezTo>
              </a:path>
              <a:path w="4540" h="1043">
                <a:moveTo>
                  <a:pt x="3473" y="8930"/>
                </a:moveTo>
                <a:cubicBezTo>
                  <a:pt x="3604" y="8930"/>
                  <a:pt x="3645" y="8932"/>
                  <a:pt x="3746" y="8880"/>
                </a:cubicBezTo>
                <a:cubicBezTo>
                  <a:pt x="3770" y="8880"/>
                  <a:pt x="3778" y="8880"/>
                  <a:pt x="3770" y="8855"/>
                </a:cubicBezTo>
              </a:path>
              <a:path w="4540" h="1043">
                <a:moveTo>
                  <a:pt x="3423" y="8930"/>
                </a:moveTo>
                <a:cubicBezTo>
                  <a:pt x="3386" y="9012"/>
                  <a:pt x="3373" y="9008"/>
                  <a:pt x="3373" y="9103"/>
                </a:cubicBezTo>
                <a:cubicBezTo>
                  <a:pt x="3373" y="9120"/>
                  <a:pt x="3373" y="9136"/>
                  <a:pt x="3373" y="9153"/>
                </a:cubicBezTo>
                <a:cubicBezTo>
                  <a:pt x="3462" y="9153"/>
                  <a:pt x="3435" y="9145"/>
                  <a:pt x="3497" y="9103"/>
                </a:cubicBezTo>
                <a:cubicBezTo>
                  <a:pt x="3512" y="9093"/>
                  <a:pt x="3572" y="9065"/>
                  <a:pt x="3597" y="9079"/>
                </a:cubicBezTo>
                <a:cubicBezTo>
                  <a:pt x="3609" y="9086"/>
                  <a:pt x="3693" y="9168"/>
                  <a:pt x="3696" y="9178"/>
                </a:cubicBezTo>
                <a:cubicBezTo>
                  <a:pt x="3714" y="9237"/>
                  <a:pt x="3742" y="9313"/>
                  <a:pt x="3696" y="9376"/>
                </a:cubicBezTo>
                <a:cubicBezTo>
                  <a:pt x="3688" y="9387"/>
                  <a:pt x="3609" y="9448"/>
                  <a:pt x="3597" y="9451"/>
                </a:cubicBezTo>
                <a:cubicBezTo>
                  <a:pt x="3538" y="9464"/>
                  <a:pt x="3459" y="9451"/>
                  <a:pt x="3398" y="9451"/>
                </a:cubicBezTo>
                <a:cubicBezTo>
                  <a:pt x="3398" y="9399"/>
                  <a:pt x="3400" y="9381"/>
                  <a:pt x="3448" y="9376"/>
                </a:cubicBezTo>
              </a:path>
              <a:path w="4540" h="1043">
                <a:moveTo>
                  <a:pt x="3870" y="9227"/>
                </a:moveTo>
                <a:cubicBezTo>
                  <a:pt x="3936" y="9227"/>
                  <a:pt x="4002" y="9227"/>
                  <a:pt x="4068" y="9227"/>
                </a:cubicBezTo>
              </a:path>
              <a:path w="4540" h="1043">
                <a:moveTo>
                  <a:pt x="4217" y="8954"/>
                </a:moveTo>
                <a:cubicBezTo>
                  <a:pt x="4281" y="8908"/>
                  <a:pt x="4284" y="8880"/>
                  <a:pt x="4366" y="8880"/>
                </a:cubicBezTo>
                <a:cubicBezTo>
                  <a:pt x="4422" y="8880"/>
                  <a:pt x="4466" y="8890"/>
                  <a:pt x="4490" y="8930"/>
                </a:cubicBezTo>
                <a:cubicBezTo>
                  <a:pt x="4524" y="8987"/>
                  <a:pt x="4469" y="9002"/>
                  <a:pt x="4440" y="9029"/>
                </a:cubicBezTo>
                <a:cubicBezTo>
                  <a:pt x="4428" y="9040"/>
                  <a:pt x="4296" y="9094"/>
                  <a:pt x="4291" y="9103"/>
                </a:cubicBezTo>
                <a:cubicBezTo>
                  <a:pt x="4260" y="9160"/>
                  <a:pt x="4313" y="9153"/>
                  <a:pt x="4242" y="9153"/>
                </a:cubicBezTo>
                <a:cubicBezTo>
                  <a:pt x="4306" y="9153"/>
                  <a:pt x="4288" y="9111"/>
                  <a:pt x="4341" y="9103"/>
                </a:cubicBezTo>
                <a:cubicBezTo>
                  <a:pt x="4430" y="9090"/>
                  <a:pt x="4400" y="9138"/>
                  <a:pt x="4465" y="9153"/>
                </a:cubicBezTo>
                <a:cubicBezTo>
                  <a:pt x="4515" y="9164"/>
                  <a:pt x="4535" y="9197"/>
                  <a:pt x="4539" y="9252"/>
                </a:cubicBezTo>
                <a:cubicBezTo>
                  <a:pt x="4543" y="9313"/>
                  <a:pt x="4540" y="9352"/>
                  <a:pt x="4514" y="9401"/>
                </a:cubicBezTo>
                <a:cubicBezTo>
                  <a:pt x="4468" y="9489"/>
                  <a:pt x="4444" y="9429"/>
                  <a:pt x="4366" y="9451"/>
                </a:cubicBezTo>
                <a:cubicBezTo>
                  <a:pt x="4346" y="9457"/>
                  <a:pt x="4244" y="9474"/>
                  <a:pt x="4217" y="9451"/>
                </a:cubicBezTo>
                <a:cubicBezTo>
                  <a:pt x="4167" y="9409"/>
                  <a:pt x="4199" y="9369"/>
                  <a:pt x="4217" y="9327"/>
                </a:cubicBezTo>
              </a:path>
              <a:path w="4540" h="1043">
                <a:moveTo>
                  <a:pt x="4738" y="9029"/>
                </a:moveTo>
                <a:cubicBezTo>
                  <a:pt x="4701" y="9151"/>
                  <a:pt x="4670" y="9251"/>
                  <a:pt x="4663" y="9376"/>
                </a:cubicBezTo>
                <a:cubicBezTo>
                  <a:pt x="4660" y="9422"/>
                  <a:pt x="4696" y="9466"/>
                  <a:pt x="4738" y="9475"/>
                </a:cubicBezTo>
                <a:cubicBezTo>
                  <a:pt x="4797" y="9487"/>
                  <a:pt x="4872" y="9480"/>
                  <a:pt x="4911" y="9475"/>
                </a:cubicBezTo>
                <a:cubicBezTo>
                  <a:pt x="4985" y="9465"/>
                  <a:pt x="5021" y="9464"/>
                  <a:pt x="5035" y="9376"/>
                </a:cubicBezTo>
                <a:cubicBezTo>
                  <a:pt x="5043" y="9326"/>
                  <a:pt x="5034" y="9187"/>
                  <a:pt x="4986" y="9153"/>
                </a:cubicBezTo>
                <a:cubicBezTo>
                  <a:pt x="4963" y="9137"/>
                  <a:pt x="4898" y="9083"/>
                  <a:pt x="4862" y="9079"/>
                </a:cubicBezTo>
                <a:cubicBezTo>
                  <a:pt x="4827" y="9079"/>
                  <a:pt x="4823" y="9070"/>
                  <a:pt x="4862" y="9029"/>
                </a:cubicBezTo>
              </a:path>
              <a:path w="4540" h="1043">
                <a:moveTo>
                  <a:pt x="5085" y="8632"/>
                </a:moveTo>
                <a:cubicBezTo>
                  <a:pt x="5179" y="8646"/>
                  <a:pt x="5224" y="8701"/>
                  <a:pt x="5283" y="8781"/>
                </a:cubicBezTo>
                <a:cubicBezTo>
                  <a:pt x="5361" y="8887"/>
                  <a:pt x="5392" y="8979"/>
                  <a:pt x="5432" y="9103"/>
                </a:cubicBezTo>
                <a:cubicBezTo>
                  <a:pt x="5462" y="9196"/>
                  <a:pt x="5457" y="9279"/>
                  <a:pt x="5457" y="9376"/>
                </a:cubicBezTo>
                <a:cubicBezTo>
                  <a:pt x="5457" y="9479"/>
                  <a:pt x="5434" y="9472"/>
                  <a:pt x="5383" y="9550"/>
                </a:cubicBezTo>
                <a:cubicBezTo>
                  <a:pt x="5325" y="9640"/>
                  <a:pt x="5217" y="9652"/>
                  <a:pt x="5110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95360" y="3214800"/>
            <a:ext cx="1839960" cy="277560"/>
          </a:xfrm>
          <a:custGeom>
            <a:avLst/>
            <a:gdLst/>
            <a:ahLst/>
            <a:rect l="l" t="t" r="r" b="b"/>
            <a:pathLst>
              <a:path w="5111" h="770">
                <a:moveTo>
                  <a:pt x="6623" y="9029"/>
                </a:moveTo>
                <a:cubicBezTo>
                  <a:pt x="6623" y="9046"/>
                  <a:pt x="6623" y="9062"/>
                  <a:pt x="6623" y="9079"/>
                </a:cubicBezTo>
                <a:cubicBezTo>
                  <a:pt x="6616" y="9038"/>
                  <a:pt x="6656" y="9029"/>
                  <a:pt x="6623" y="9004"/>
                </a:cubicBezTo>
                <a:cubicBezTo>
                  <a:pt x="6595" y="8983"/>
                  <a:pt x="6598" y="8979"/>
                  <a:pt x="6598" y="8930"/>
                </a:cubicBezTo>
                <a:cubicBezTo>
                  <a:pt x="6560" y="8930"/>
                  <a:pt x="6524" y="8919"/>
                  <a:pt x="6499" y="8954"/>
                </a:cubicBezTo>
                <a:cubicBezTo>
                  <a:pt x="6473" y="8992"/>
                  <a:pt x="6427" y="9061"/>
                  <a:pt x="6424" y="9079"/>
                </a:cubicBezTo>
                <a:cubicBezTo>
                  <a:pt x="6410" y="9160"/>
                  <a:pt x="6391" y="9217"/>
                  <a:pt x="6375" y="9302"/>
                </a:cubicBezTo>
                <a:cubicBezTo>
                  <a:pt x="6371" y="9324"/>
                  <a:pt x="6405" y="9434"/>
                  <a:pt x="6424" y="9451"/>
                </a:cubicBezTo>
                <a:cubicBezTo>
                  <a:pt x="6430" y="9457"/>
                  <a:pt x="6514" y="9474"/>
                  <a:pt x="6524" y="9475"/>
                </a:cubicBezTo>
                <a:cubicBezTo>
                  <a:pt x="6580" y="9479"/>
                  <a:pt x="6612" y="9451"/>
                  <a:pt x="6672" y="9451"/>
                </a:cubicBezTo>
              </a:path>
              <a:path w="5111" h="770">
                <a:moveTo>
                  <a:pt x="6846" y="9079"/>
                </a:moveTo>
                <a:cubicBezTo>
                  <a:pt x="6840" y="9135"/>
                  <a:pt x="6839" y="9199"/>
                  <a:pt x="6821" y="9252"/>
                </a:cubicBezTo>
                <a:cubicBezTo>
                  <a:pt x="6798" y="9320"/>
                  <a:pt x="6793" y="9332"/>
                  <a:pt x="6821" y="9401"/>
                </a:cubicBezTo>
                <a:cubicBezTo>
                  <a:pt x="6847" y="9466"/>
                  <a:pt x="6862" y="9451"/>
                  <a:pt x="6921" y="9451"/>
                </a:cubicBezTo>
                <a:cubicBezTo>
                  <a:pt x="6962" y="9451"/>
                  <a:pt x="7019" y="9358"/>
                  <a:pt x="7045" y="9327"/>
                </a:cubicBezTo>
                <a:cubicBezTo>
                  <a:pt x="7079" y="9287"/>
                  <a:pt x="7090" y="9132"/>
                  <a:pt x="7069" y="9079"/>
                </a:cubicBezTo>
                <a:cubicBezTo>
                  <a:pt x="7064" y="9067"/>
                  <a:pt x="7032" y="9016"/>
                  <a:pt x="6995" y="9004"/>
                </a:cubicBezTo>
                <a:cubicBezTo>
                  <a:pt x="6949" y="8989"/>
                  <a:pt x="6929" y="9018"/>
                  <a:pt x="6896" y="9029"/>
                </a:cubicBezTo>
                <a:cubicBezTo>
                  <a:pt x="6853" y="9043"/>
                  <a:pt x="6818" y="9058"/>
                  <a:pt x="6821" y="9103"/>
                </a:cubicBezTo>
                <a:cubicBezTo>
                  <a:pt x="6825" y="9148"/>
                  <a:pt x="6846" y="9170"/>
                  <a:pt x="6871" y="9178"/>
                </a:cubicBezTo>
              </a:path>
              <a:path w="5111" h="770">
                <a:moveTo>
                  <a:pt x="7367" y="9004"/>
                </a:moveTo>
                <a:cubicBezTo>
                  <a:pt x="7261" y="9004"/>
                  <a:pt x="7316" y="9023"/>
                  <a:pt x="7243" y="9079"/>
                </a:cubicBezTo>
                <a:cubicBezTo>
                  <a:pt x="7218" y="9079"/>
                  <a:pt x="7210" y="9079"/>
                  <a:pt x="7193" y="9079"/>
                </a:cubicBezTo>
                <a:cubicBezTo>
                  <a:pt x="7211" y="9239"/>
                  <a:pt x="7206" y="9084"/>
                  <a:pt x="7293" y="9178"/>
                </a:cubicBezTo>
                <a:cubicBezTo>
                  <a:pt x="7325" y="9213"/>
                  <a:pt x="7402" y="9279"/>
                  <a:pt x="7417" y="9327"/>
                </a:cubicBezTo>
                <a:cubicBezTo>
                  <a:pt x="7430" y="9368"/>
                  <a:pt x="7369" y="9433"/>
                  <a:pt x="7342" y="9451"/>
                </a:cubicBezTo>
                <a:cubicBezTo>
                  <a:pt x="7268" y="9500"/>
                  <a:pt x="7184" y="9454"/>
                  <a:pt x="7193" y="9401"/>
                </a:cubicBezTo>
                <a:cubicBezTo>
                  <a:pt x="7193" y="9393"/>
                  <a:pt x="7193" y="9384"/>
                  <a:pt x="7193" y="9376"/>
                </a:cubicBezTo>
              </a:path>
              <a:path w="5111" h="770">
                <a:moveTo>
                  <a:pt x="7640" y="9004"/>
                </a:moveTo>
                <a:cubicBezTo>
                  <a:pt x="7659" y="9051"/>
                  <a:pt x="7640" y="9110"/>
                  <a:pt x="7640" y="9178"/>
                </a:cubicBezTo>
                <a:cubicBezTo>
                  <a:pt x="7640" y="9269"/>
                  <a:pt x="7640" y="9360"/>
                  <a:pt x="7640" y="9451"/>
                </a:cubicBezTo>
              </a:path>
              <a:path w="5111" h="770">
                <a:moveTo>
                  <a:pt x="7863" y="8954"/>
                </a:moveTo>
                <a:cubicBezTo>
                  <a:pt x="7952" y="8945"/>
                  <a:pt x="7946" y="8933"/>
                  <a:pt x="8012" y="8954"/>
                </a:cubicBezTo>
                <a:cubicBezTo>
                  <a:pt x="8060" y="8969"/>
                  <a:pt x="8088" y="9033"/>
                  <a:pt x="8037" y="9079"/>
                </a:cubicBezTo>
                <a:cubicBezTo>
                  <a:pt x="8018" y="9096"/>
                  <a:pt x="7924" y="9150"/>
                  <a:pt x="7913" y="9153"/>
                </a:cubicBezTo>
                <a:cubicBezTo>
                  <a:pt x="7853" y="9166"/>
                  <a:pt x="7945" y="9153"/>
                  <a:pt x="7962" y="9153"/>
                </a:cubicBezTo>
                <a:cubicBezTo>
                  <a:pt x="8010" y="9153"/>
                  <a:pt x="8040" y="9214"/>
                  <a:pt x="8062" y="9252"/>
                </a:cubicBezTo>
                <a:cubicBezTo>
                  <a:pt x="8109" y="9332"/>
                  <a:pt x="8070" y="9377"/>
                  <a:pt x="8062" y="9451"/>
                </a:cubicBezTo>
                <a:cubicBezTo>
                  <a:pt x="8017" y="9451"/>
                  <a:pt x="8002" y="9472"/>
                  <a:pt x="7962" y="9475"/>
                </a:cubicBezTo>
                <a:cubicBezTo>
                  <a:pt x="7914" y="9478"/>
                  <a:pt x="7851" y="9489"/>
                  <a:pt x="7838" y="9451"/>
                </a:cubicBezTo>
              </a:path>
              <a:path w="5111" h="770">
                <a:moveTo>
                  <a:pt x="8310" y="9004"/>
                </a:moveTo>
                <a:cubicBezTo>
                  <a:pt x="8409" y="9004"/>
                  <a:pt x="8529" y="9035"/>
                  <a:pt x="8582" y="8954"/>
                </a:cubicBezTo>
              </a:path>
              <a:path w="5111" h="770">
                <a:moveTo>
                  <a:pt x="8285" y="9029"/>
                </a:moveTo>
                <a:cubicBezTo>
                  <a:pt x="8253" y="9077"/>
                  <a:pt x="8190" y="9167"/>
                  <a:pt x="8260" y="9227"/>
                </a:cubicBezTo>
                <a:cubicBezTo>
                  <a:pt x="8268" y="9227"/>
                  <a:pt x="8277" y="9227"/>
                  <a:pt x="8285" y="9227"/>
                </a:cubicBezTo>
                <a:cubicBezTo>
                  <a:pt x="8325" y="9207"/>
                  <a:pt x="8331" y="9159"/>
                  <a:pt x="8384" y="9153"/>
                </a:cubicBezTo>
                <a:cubicBezTo>
                  <a:pt x="8461" y="9144"/>
                  <a:pt x="8433" y="9188"/>
                  <a:pt x="8483" y="9227"/>
                </a:cubicBezTo>
                <a:cubicBezTo>
                  <a:pt x="8521" y="9256"/>
                  <a:pt x="8553" y="9257"/>
                  <a:pt x="8558" y="9327"/>
                </a:cubicBezTo>
                <a:cubicBezTo>
                  <a:pt x="8562" y="9385"/>
                  <a:pt x="8562" y="9425"/>
                  <a:pt x="8533" y="9451"/>
                </a:cubicBezTo>
                <a:cubicBezTo>
                  <a:pt x="8474" y="9504"/>
                  <a:pt x="8478" y="9500"/>
                  <a:pt x="8409" y="9500"/>
                </a:cubicBezTo>
                <a:cubicBezTo>
                  <a:pt x="8382" y="9500"/>
                  <a:pt x="8322" y="9493"/>
                  <a:pt x="8310" y="9475"/>
                </a:cubicBezTo>
                <a:cubicBezTo>
                  <a:pt x="8310" y="9451"/>
                  <a:pt x="8310" y="9443"/>
                  <a:pt x="8334" y="9451"/>
                </a:cubicBezTo>
              </a:path>
              <a:path w="5111" h="770">
                <a:moveTo>
                  <a:pt x="9054" y="9103"/>
                </a:moveTo>
                <a:cubicBezTo>
                  <a:pt x="9104" y="9219"/>
                  <a:pt x="9102" y="9135"/>
                  <a:pt x="9079" y="9103"/>
                </a:cubicBezTo>
                <a:cubicBezTo>
                  <a:pt x="9066" y="9085"/>
                  <a:pt x="9038" y="9079"/>
                  <a:pt x="9004" y="9079"/>
                </a:cubicBezTo>
                <a:cubicBezTo>
                  <a:pt x="8973" y="9079"/>
                  <a:pt x="8906" y="9147"/>
                  <a:pt x="8905" y="9153"/>
                </a:cubicBezTo>
                <a:cubicBezTo>
                  <a:pt x="8893" y="9205"/>
                  <a:pt x="8859" y="9274"/>
                  <a:pt x="8855" y="9327"/>
                </a:cubicBezTo>
                <a:cubicBezTo>
                  <a:pt x="8850" y="9396"/>
                  <a:pt x="8859" y="9416"/>
                  <a:pt x="8905" y="9451"/>
                </a:cubicBezTo>
                <a:cubicBezTo>
                  <a:pt x="8965" y="9497"/>
                  <a:pt x="9010" y="9485"/>
                  <a:pt x="9079" y="9475"/>
                </a:cubicBezTo>
                <a:cubicBezTo>
                  <a:pt x="9113" y="9475"/>
                  <a:pt x="9131" y="9470"/>
                  <a:pt x="9153" y="9451"/>
                </a:cubicBezTo>
              </a:path>
              <a:path w="5111" h="770">
                <a:moveTo>
                  <a:pt x="9302" y="9153"/>
                </a:moveTo>
                <a:cubicBezTo>
                  <a:pt x="9297" y="9178"/>
                  <a:pt x="9236" y="9352"/>
                  <a:pt x="9252" y="9401"/>
                </a:cubicBezTo>
                <a:cubicBezTo>
                  <a:pt x="9273" y="9463"/>
                  <a:pt x="9294" y="9475"/>
                  <a:pt x="9351" y="9475"/>
                </a:cubicBezTo>
                <a:cubicBezTo>
                  <a:pt x="9363" y="9475"/>
                  <a:pt x="9498" y="9454"/>
                  <a:pt x="9500" y="9451"/>
                </a:cubicBezTo>
                <a:cubicBezTo>
                  <a:pt x="9554" y="9370"/>
                  <a:pt x="9577" y="9359"/>
                  <a:pt x="9599" y="9252"/>
                </a:cubicBezTo>
                <a:cubicBezTo>
                  <a:pt x="9609" y="9204"/>
                  <a:pt x="9602" y="9144"/>
                  <a:pt x="9575" y="9103"/>
                </a:cubicBezTo>
                <a:cubicBezTo>
                  <a:pt x="9550" y="9066"/>
                  <a:pt x="9462" y="9063"/>
                  <a:pt x="9426" y="9079"/>
                </a:cubicBezTo>
                <a:cubicBezTo>
                  <a:pt x="9369" y="9104"/>
                  <a:pt x="9376" y="9179"/>
                  <a:pt x="9376" y="9227"/>
                </a:cubicBezTo>
                <a:cubicBezTo>
                  <a:pt x="9376" y="9252"/>
                  <a:pt x="9376" y="9260"/>
                  <a:pt x="9401" y="9252"/>
                </a:cubicBezTo>
              </a:path>
              <a:path w="5111" h="770">
                <a:moveTo>
                  <a:pt x="9897" y="9153"/>
                </a:moveTo>
                <a:cubicBezTo>
                  <a:pt x="9847" y="9153"/>
                  <a:pt x="9798" y="9153"/>
                  <a:pt x="9748" y="9153"/>
                </a:cubicBezTo>
                <a:cubicBezTo>
                  <a:pt x="9748" y="9224"/>
                  <a:pt x="9746" y="9233"/>
                  <a:pt x="9823" y="9252"/>
                </a:cubicBezTo>
                <a:cubicBezTo>
                  <a:pt x="9884" y="9267"/>
                  <a:pt x="9935" y="9348"/>
                  <a:pt x="9947" y="9376"/>
                </a:cubicBezTo>
                <a:cubicBezTo>
                  <a:pt x="9972" y="9435"/>
                  <a:pt x="9913" y="9451"/>
                  <a:pt x="9872" y="9451"/>
                </a:cubicBezTo>
                <a:cubicBezTo>
                  <a:pt x="9854" y="9451"/>
                  <a:pt x="9763" y="9493"/>
                  <a:pt x="9748" y="9475"/>
                </a:cubicBezTo>
                <a:cubicBezTo>
                  <a:pt x="9719" y="9440"/>
                  <a:pt x="9736" y="9454"/>
                  <a:pt x="9798" y="9401"/>
                </a:cubicBezTo>
              </a:path>
              <a:path w="5111" h="770">
                <a:moveTo>
                  <a:pt x="10145" y="9029"/>
                </a:moveTo>
                <a:cubicBezTo>
                  <a:pt x="10195" y="9016"/>
                  <a:pt x="10209" y="9004"/>
                  <a:pt x="10269" y="9004"/>
                </a:cubicBezTo>
                <a:cubicBezTo>
                  <a:pt x="10319" y="9004"/>
                  <a:pt x="10368" y="9004"/>
                  <a:pt x="10418" y="9004"/>
                </a:cubicBezTo>
                <a:cubicBezTo>
                  <a:pt x="10418" y="9055"/>
                  <a:pt x="10413" y="9117"/>
                  <a:pt x="10368" y="9153"/>
                </a:cubicBezTo>
                <a:cubicBezTo>
                  <a:pt x="10350" y="9167"/>
                  <a:pt x="10286" y="9158"/>
                  <a:pt x="10269" y="9178"/>
                </a:cubicBezTo>
                <a:cubicBezTo>
                  <a:pt x="10261" y="9194"/>
                  <a:pt x="10252" y="9211"/>
                  <a:pt x="10244" y="9227"/>
                </a:cubicBezTo>
                <a:cubicBezTo>
                  <a:pt x="10311" y="9227"/>
                  <a:pt x="10304" y="9237"/>
                  <a:pt x="10344" y="9178"/>
                </a:cubicBezTo>
                <a:cubicBezTo>
                  <a:pt x="10408" y="9204"/>
                  <a:pt x="10455" y="9227"/>
                  <a:pt x="10468" y="9302"/>
                </a:cubicBezTo>
                <a:cubicBezTo>
                  <a:pt x="10477" y="9357"/>
                  <a:pt x="10476" y="9434"/>
                  <a:pt x="10443" y="9475"/>
                </a:cubicBezTo>
                <a:cubicBezTo>
                  <a:pt x="10394" y="9536"/>
                  <a:pt x="10366" y="9491"/>
                  <a:pt x="10319" y="9525"/>
                </a:cubicBezTo>
                <a:cubicBezTo>
                  <a:pt x="10274" y="9558"/>
                  <a:pt x="10291" y="9531"/>
                  <a:pt x="10244" y="9525"/>
                </a:cubicBezTo>
                <a:cubicBezTo>
                  <a:pt x="10229" y="9523"/>
                  <a:pt x="10184" y="9497"/>
                  <a:pt x="10195" y="9475"/>
                </a:cubicBezTo>
                <a:cubicBezTo>
                  <a:pt x="10217" y="9453"/>
                  <a:pt x="10222" y="9445"/>
                  <a:pt x="10244" y="9451"/>
                </a:cubicBezTo>
              </a:path>
              <a:path w="5111" h="770">
                <a:moveTo>
                  <a:pt x="10641" y="9153"/>
                </a:moveTo>
                <a:cubicBezTo>
                  <a:pt x="10614" y="9235"/>
                  <a:pt x="10599" y="9322"/>
                  <a:pt x="10567" y="9401"/>
                </a:cubicBezTo>
                <a:cubicBezTo>
                  <a:pt x="10536" y="9479"/>
                  <a:pt x="10491" y="9516"/>
                  <a:pt x="10542" y="9599"/>
                </a:cubicBezTo>
                <a:cubicBezTo>
                  <a:pt x="10571" y="9645"/>
                  <a:pt x="10580" y="9618"/>
                  <a:pt x="10616" y="9674"/>
                </a:cubicBezTo>
                <a:cubicBezTo>
                  <a:pt x="10685" y="9674"/>
                  <a:pt x="10709" y="9625"/>
                  <a:pt x="10765" y="9599"/>
                </a:cubicBezTo>
                <a:cubicBezTo>
                  <a:pt x="10836" y="9566"/>
                  <a:pt x="10794" y="9512"/>
                  <a:pt x="10815" y="9451"/>
                </a:cubicBezTo>
                <a:cubicBezTo>
                  <a:pt x="10843" y="9369"/>
                  <a:pt x="10820" y="9384"/>
                  <a:pt x="10815" y="9302"/>
                </a:cubicBezTo>
                <a:cubicBezTo>
                  <a:pt x="10813" y="9267"/>
                  <a:pt x="10781" y="9194"/>
                  <a:pt x="10765" y="9178"/>
                </a:cubicBezTo>
                <a:cubicBezTo>
                  <a:pt x="10747" y="9161"/>
                  <a:pt x="10715" y="9170"/>
                  <a:pt x="10765" y="9153"/>
                </a:cubicBezTo>
                <a:cubicBezTo>
                  <a:pt x="10776" y="9185"/>
                  <a:pt x="10823" y="9178"/>
                  <a:pt x="10790" y="9178"/>
                </a:cubicBezTo>
                <a:cubicBezTo>
                  <a:pt x="10782" y="9178"/>
                  <a:pt x="10773" y="9178"/>
                  <a:pt x="10765" y="9178"/>
                </a:cubicBezTo>
              </a:path>
              <a:path w="5111" h="770">
                <a:moveTo>
                  <a:pt x="11038" y="9401"/>
                </a:moveTo>
                <a:cubicBezTo>
                  <a:pt x="11078" y="9461"/>
                  <a:pt x="11070" y="9451"/>
                  <a:pt x="11137" y="9451"/>
                </a:cubicBezTo>
                <a:cubicBezTo>
                  <a:pt x="11253" y="9451"/>
                  <a:pt x="11369" y="9451"/>
                  <a:pt x="11485" y="9451"/>
                </a:cubicBezTo>
              </a:path>
              <a:path w="5111" h="770">
                <a:moveTo>
                  <a:pt x="11311" y="9178"/>
                </a:moveTo>
                <a:cubicBezTo>
                  <a:pt x="11311" y="9273"/>
                  <a:pt x="11296" y="9363"/>
                  <a:pt x="11286" y="9451"/>
                </a:cubicBezTo>
                <a:cubicBezTo>
                  <a:pt x="11283" y="9476"/>
                  <a:pt x="11286" y="9722"/>
                  <a:pt x="11286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59160" y="3214800"/>
            <a:ext cx="822600" cy="268200"/>
          </a:xfrm>
          <a:custGeom>
            <a:avLst/>
            <a:gdLst/>
            <a:ahLst/>
            <a:rect l="l" t="t" r="r" b="b"/>
            <a:pathLst>
              <a:path w="2283" h="745">
                <a:moveTo>
                  <a:pt x="12005" y="9178"/>
                </a:moveTo>
                <a:cubicBezTo>
                  <a:pt x="11928" y="9178"/>
                  <a:pt x="11924" y="9214"/>
                  <a:pt x="11857" y="9227"/>
                </a:cubicBezTo>
                <a:cubicBezTo>
                  <a:pt x="11804" y="9237"/>
                  <a:pt x="11836" y="9283"/>
                  <a:pt x="11857" y="9302"/>
                </a:cubicBezTo>
                <a:cubicBezTo>
                  <a:pt x="11913" y="9353"/>
                  <a:pt x="11960" y="9397"/>
                  <a:pt x="12005" y="9451"/>
                </a:cubicBezTo>
                <a:cubicBezTo>
                  <a:pt x="12036" y="9488"/>
                  <a:pt x="12091" y="9541"/>
                  <a:pt x="12055" y="9599"/>
                </a:cubicBezTo>
                <a:cubicBezTo>
                  <a:pt x="12044" y="9616"/>
                  <a:pt x="11981" y="9624"/>
                  <a:pt x="11956" y="9624"/>
                </a:cubicBezTo>
                <a:cubicBezTo>
                  <a:pt x="11920" y="9624"/>
                  <a:pt x="11870" y="9633"/>
                  <a:pt x="11857" y="9599"/>
                </a:cubicBezTo>
                <a:cubicBezTo>
                  <a:pt x="11857" y="9558"/>
                  <a:pt x="11849" y="9542"/>
                  <a:pt x="11881" y="9550"/>
                </a:cubicBezTo>
              </a:path>
              <a:path w="2283" h="745">
                <a:moveTo>
                  <a:pt x="12229" y="9227"/>
                </a:moveTo>
                <a:cubicBezTo>
                  <a:pt x="12229" y="9307"/>
                  <a:pt x="12193" y="9667"/>
                  <a:pt x="12254" y="9525"/>
                </a:cubicBezTo>
              </a:path>
              <a:path w="2283" h="745">
                <a:moveTo>
                  <a:pt x="12378" y="9004"/>
                </a:moveTo>
                <a:cubicBezTo>
                  <a:pt x="12394" y="8979"/>
                  <a:pt x="12411" y="8955"/>
                  <a:pt x="12427" y="8930"/>
                </a:cubicBezTo>
              </a:path>
              <a:path w="2283" h="745">
                <a:moveTo>
                  <a:pt x="12477" y="9451"/>
                </a:moveTo>
                <a:cubicBezTo>
                  <a:pt x="12477" y="9500"/>
                  <a:pt x="12477" y="9550"/>
                  <a:pt x="12477" y="9599"/>
                </a:cubicBezTo>
                <a:cubicBezTo>
                  <a:pt x="12480" y="9580"/>
                  <a:pt x="12491" y="9467"/>
                  <a:pt x="12502" y="9451"/>
                </a:cubicBezTo>
                <a:cubicBezTo>
                  <a:pt x="12516" y="9431"/>
                  <a:pt x="12546" y="9367"/>
                  <a:pt x="12576" y="9327"/>
                </a:cubicBezTo>
                <a:cubicBezTo>
                  <a:pt x="12608" y="9285"/>
                  <a:pt x="12587" y="9232"/>
                  <a:pt x="12650" y="9227"/>
                </a:cubicBezTo>
                <a:cubicBezTo>
                  <a:pt x="12724" y="9222"/>
                  <a:pt x="12745" y="9230"/>
                  <a:pt x="12774" y="9302"/>
                </a:cubicBezTo>
                <a:cubicBezTo>
                  <a:pt x="12818" y="9410"/>
                  <a:pt x="12781" y="9489"/>
                  <a:pt x="12774" y="9599"/>
                </a:cubicBezTo>
                <a:cubicBezTo>
                  <a:pt x="12770" y="9661"/>
                  <a:pt x="12762" y="9674"/>
                  <a:pt x="12824" y="9674"/>
                </a:cubicBezTo>
              </a:path>
              <a:path w="2283" h="745">
                <a:moveTo>
                  <a:pt x="13072" y="9079"/>
                </a:moveTo>
                <a:cubicBezTo>
                  <a:pt x="13072" y="9191"/>
                  <a:pt x="13059" y="9293"/>
                  <a:pt x="13047" y="9401"/>
                </a:cubicBezTo>
                <a:cubicBezTo>
                  <a:pt x="13039" y="9472"/>
                  <a:pt x="13037" y="9560"/>
                  <a:pt x="13022" y="9599"/>
                </a:cubicBezTo>
                <a:cubicBezTo>
                  <a:pt x="13006" y="9642"/>
                  <a:pt x="13025" y="9659"/>
                  <a:pt x="13047" y="9674"/>
                </a:cubicBezTo>
              </a:path>
              <a:path w="2283" h="745">
                <a:moveTo>
                  <a:pt x="13196" y="9153"/>
                </a:moveTo>
                <a:cubicBezTo>
                  <a:pt x="13268" y="9107"/>
                  <a:pt x="13325" y="9049"/>
                  <a:pt x="13419" y="9079"/>
                </a:cubicBezTo>
                <a:cubicBezTo>
                  <a:pt x="13512" y="9109"/>
                  <a:pt x="13460" y="9165"/>
                  <a:pt x="13444" y="9227"/>
                </a:cubicBezTo>
                <a:cubicBezTo>
                  <a:pt x="13432" y="9275"/>
                  <a:pt x="13419" y="9311"/>
                  <a:pt x="13370" y="9327"/>
                </a:cubicBezTo>
                <a:cubicBezTo>
                  <a:pt x="13335" y="9327"/>
                  <a:pt x="13322" y="9336"/>
                  <a:pt x="13320" y="9376"/>
                </a:cubicBezTo>
                <a:cubicBezTo>
                  <a:pt x="13334" y="9355"/>
                  <a:pt x="13370" y="9289"/>
                  <a:pt x="13395" y="9302"/>
                </a:cubicBezTo>
                <a:cubicBezTo>
                  <a:pt x="13438" y="9324"/>
                  <a:pt x="13467" y="9357"/>
                  <a:pt x="13494" y="9401"/>
                </a:cubicBezTo>
                <a:cubicBezTo>
                  <a:pt x="13525" y="9453"/>
                  <a:pt x="13537" y="9546"/>
                  <a:pt x="13494" y="9599"/>
                </a:cubicBezTo>
                <a:cubicBezTo>
                  <a:pt x="13460" y="9641"/>
                  <a:pt x="13405" y="9610"/>
                  <a:pt x="13370" y="9599"/>
                </a:cubicBezTo>
                <a:cubicBezTo>
                  <a:pt x="13329" y="9587"/>
                  <a:pt x="13345" y="9569"/>
                  <a:pt x="13345" y="9525"/>
                </a:cubicBezTo>
              </a:path>
              <a:path w="2283" h="745">
                <a:moveTo>
                  <a:pt x="13866" y="9103"/>
                </a:moveTo>
                <a:cubicBezTo>
                  <a:pt x="13938" y="9103"/>
                  <a:pt x="13980" y="9085"/>
                  <a:pt x="14039" y="9079"/>
                </a:cubicBezTo>
                <a:cubicBezTo>
                  <a:pt x="14101" y="9072"/>
                  <a:pt x="14070" y="9095"/>
                  <a:pt x="14114" y="9029"/>
                </a:cubicBezTo>
              </a:path>
              <a:path w="2283" h="745">
                <a:moveTo>
                  <a:pt x="13791" y="9103"/>
                </a:moveTo>
                <a:cubicBezTo>
                  <a:pt x="13762" y="9156"/>
                  <a:pt x="13720" y="9215"/>
                  <a:pt x="13717" y="9252"/>
                </a:cubicBezTo>
                <a:cubicBezTo>
                  <a:pt x="13713" y="9298"/>
                  <a:pt x="13731" y="9322"/>
                  <a:pt x="13767" y="9327"/>
                </a:cubicBezTo>
                <a:cubicBezTo>
                  <a:pt x="13830" y="9335"/>
                  <a:pt x="13828" y="9269"/>
                  <a:pt x="13866" y="9252"/>
                </a:cubicBezTo>
                <a:cubicBezTo>
                  <a:pt x="13923" y="9227"/>
                  <a:pt x="13977" y="9279"/>
                  <a:pt x="13990" y="9327"/>
                </a:cubicBezTo>
                <a:cubicBezTo>
                  <a:pt x="14006" y="9385"/>
                  <a:pt x="14015" y="9420"/>
                  <a:pt x="14015" y="9500"/>
                </a:cubicBezTo>
                <a:cubicBezTo>
                  <a:pt x="14015" y="9558"/>
                  <a:pt x="14002" y="9570"/>
                  <a:pt x="13965" y="9599"/>
                </a:cubicBezTo>
                <a:cubicBezTo>
                  <a:pt x="13945" y="9615"/>
                  <a:pt x="13856" y="9667"/>
                  <a:pt x="13841" y="9674"/>
                </a:cubicBezTo>
                <a:cubicBezTo>
                  <a:pt x="13793" y="9694"/>
                  <a:pt x="13707" y="9675"/>
                  <a:pt x="13717" y="9624"/>
                </a:cubicBezTo>
                <a:cubicBezTo>
                  <a:pt x="13725" y="9616"/>
                  <a:pt x="13734" y="9607"/>
                  <a:pt x="13742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80040" y="3276720"/>
            <a:ext cx="722160" cy="233280"/>
          </a:xfrm>
          <a:custGeom>
            <a:avLst/>
            <a:gdLst/>
            <a:ahLst/>
            <a:rect l="l" t="t" r="r" b="b"/>
            <a:pathLst>
              <a:path w="2010" h="646">
                <a:moveTo>
                  <a:pt x="14635" y="9302"/>
                </a:moveTo>
                <a:cubicBezTo>
                  <a:pt x="14576" y="9302"/>
                  <a:pt x="14485" y="9287"/>
                  <a:pt x="14436" y="9327"/>
                </a:cubicBezTo>
                <a:cubicBezTo>
                  <a:pt x="14378" y="9374"/>
                  <a:pt x="14424" y="9433"/>
                  <a:pt x="14461" y="9451"/>
                </a:cubicBezTo>
                <a:cubicBezTo>
                  <a:pt x="14564" y="9501"/>
                  <a:pt x="14554" y="9506"/>
                  <a:pt x="14610" y="9599"/>
                </a:cubicBezTo>
                <a:cubicBezTo>
                  <a:pt x="14647" y="9661"/>
                  <a:pt x="14633" y="9705"/>
                  <a:pt x="14560" y="9748"/>
                </a:cubicBezTo>
                <a:cubicBezTo>
                  <a:pt x="14506" y="9779"/>
                  <a:pt x="14406" y="9750"/>
                  <a:pt x="14387" y="9699"/>
                </a:cubicBezTo>
                <a:cubicBezTo>
                  <a:pt x="14371" y="9654"/>
                  <a:pt x="14380" y="9610"/>
                  <a:pt x="14412" y="9599"/>
                </a:cubicBezTo>
              </a:path>
              <a:path w="2010" h="646">
                <a:moveTo>
                  <a:pt x="14833" y="9451"/>
                </a:moveTo>
                <a:cubicBezTo>
                  <a:pt x="14826" y="9528"/>
                  <a:pt x="14808" y="9596"/>
                  <a:pt x="14808" y="9674"/>
                </a:cubicBezTo>
                <a:cubicBezTo>
                  <a:pt x="14808" y="9721"/>
                  <a:pt x="14806" y="9789"/>
                  <a:pt x="14784" y="9699"/>
                </a:cubicBezTo>
              </a:path>
              <a:path w="2010" h="646">
                <a:moveTo>
                  <a:pt x="14833" y="9227"/>
                </a:moveTo>
                <a:cubicBezTo>
                  <a:pt x="14848" y="9090"/>
                  <a:pt x="14865" y="9211"/>
                  <a:pt x="14883" y="9103"/>
                </a:cubicBezTo>
                <a:cubicBezTo>
                  <a:pt x="14921" y="9142"/>
                  <a:pt x="14923" y="9159"/>
                  <a:pt x="14957" y="9153"/>
                </a:cubicBezTo>
              </a:path>
              <a:path w="2010" h="646">
                <a:moveTo>
                  <a:pt x="15032" y="9451"/>
                </a:moveTo>
                <a:cubicBezTo>
                  <a:pt x="15013" y="9583"/>
                  <a:pt x="15005" y="9599"/>
                  <a:pt x="15007" y="9674"/>
                </a:cubicBezTo>
                <a:cubicBezTo>
                  <a:pt x="14973" y="9595"/>
                  <a:pt x="15002" y="9583"/>
                  <a:pt x="15007" y="9500"/>
                </a:cubicBezTo>
                <a:cubicBezTo>
                  <a:pt x="15010" y="9446"/>
                  <a:pt x="15037" y="9365"/>
                  <a:pt x="15081" y="9327"/>
                </a:cubicBezTo>
                <a:cubicBezTo>
                  <a:pt x="15111" y="9301"/>
                  <a:pt x="15215" y="9285"/>
                  <a:pt x="15255" y="9302"/>
                </a:cubicBezTo>
                <a:cubicBezTo>
                  <a:pt x="15292" y="9317"/>
                  <a:pt x="15302" y="9442"/>
                  <a:pt x="15304" y="9475"/>
                </a:cubicBezTo>
                <a:cubicBezTo>
                  <a:pt x="15308" y="9553"/>
                  <a:pt x="15283" y="9581"/>
                  <a:pt x="15280" y="9624"/>
                </a:cubicBezTo>
                <a:cubicBezTo>
                  <a:pt x="15271" y="9739"/>
                  <a:pt x="15280" y="9629"/>
                  <a:pt x="15280" y="9599"/>
                </a:cubicBezTo>
              </a:path>
              <a:path w="2010" h="646">
                <a:moveTo>
                  <a:pt x="15478" y="9178"/>
                </a:moveTo>
                <a:cubicBezTo>
                  <a:pt x="15536" y="9160"/>
                  <a:pt x="15614" y="9135"/>
                  <a:pt x="15677" y="9153"/>
                </a:cubicBezTo>
                <a:cubicBezTo>
                  <a:pt x="15742" y="9171"/>
                  <a:pt x="15778" y="9217"/>
                  <a:pt x="15825" y="9227"/>
                </a:cubicBezTo>
                <a:cubicBezTo>
                  <a:pt x="15852" y="9233"/>
                  <a:pt x="15832" y="9292"/>
                  <a:pt x="15801" y="9327"/>
                </a:cubicBezTo>
                <a:cubicBezTo>
                  <a:pt x="15742" y="9394"/>
                  <a:pt x="15685" y="9401"/>
                  <a:pt x="15602" y="9401"/>
                </a:cubicBezTo>
                <a:cubicBezTo>
                  <a:pt x="15577" y="9401"/>
                  <a:pt x="15569" y="9401"/>
                  <a:pt x="15602" y="9401"/>
                </a:cubicBezTo>
                <a:cubicBezTo>
                  <a:pt x="15683" y="9401"/>
                  <a:pt x="15697" y="9421"/>
                  <a:pt x="15751" y="9451"/>
                </a:cubicBezTo>
                <a:cubicBezTo>
                  <a:pt x="15782" y="9468"/>
                  <a:pt x="15819" y="9500"/>
                  <a:pt x="15801" y="9550"/>
                </a:cubicBezTo>
                <a:cubicBezTo>
                  <a:pt x="15770" y="9637"/>
                  <a:pt x="15725" y="9579"/>
                  <a:pt x="15677" y="9624"/>
                </a:cubicBezTo>
                <a:cubicBezTo>
                  <a:pt x="15669" y="9641"/>
                  <a:pt x="15660" y="9657"/>
                  <a:pt x="15652" y="9674"/>
                </a:cubicBezTo>
                <a:cubicBezTo>
                  <a:pt x="15622" y="9630"/>
                  <a:pt x="15602" y="9616"/>
                  <a:pt x="15553" y="9599"/>
                </a:cubicBezTo>
                <a:cubicBezTo>
                  <a:pt x="15498" y="9580"/>
                  <a:pt x="15497" y="9641"/>
                  <a:pt x="15528" y="9550"/>
                </a:cubicBezTo>
              </a:path>
              <a:path w="2010" h="646">
                <a:moveTo>
                  <a:pt x="16098" y="9302"/>
                </a:moveTo>
                <a:cubicBezTo>
                  <a:pt x="16062" y="9401"/>
                  <a:pt x="16006" y="9495"/>
                  <a:pt x="15999" y="9599"/>
                </a:cubicBezTo>
                <a:cubicBezTo>
                  <a:pt x="15995" y="9653"/>
                  <a:pt x="15996" y="9681"/>
                  <a:pt x="16049" y="9699"/>
                </a:cubicBezTo>
                <a:cubicBezTo>
                  <a:pt x="16105" y="9718"/>
                  <a:pt x="16156" y="9682"/>
                  <a:pt x="16197" y="9674"/>
                </a:cubicBezTo>
                <a:cubicBezTo>
                  <a:pt x="16270" y="9659"/>
                  <a:pt x="16315" y="9625"/>
                  <a:pt x="16346" y="9550"/>
                </a:cubicBezTo>
                <a:cubicBezTo>
                  <a:pt x="16373" y="9485"/>
                  <a:pt x="16420" y="9375"/>
                  <a:pt x="16396" y="9302"/>
                </a:cubicBezTo>
                <a:cubicBezTo>
                  <a:pt x="16361" y="9199"/>
                  <a:pt x="16333" y="9267"/>
                  <a:pt x="16272" y="9227"/>
                </a:cubicBezTo>
                <a:cubicBezTo>
                  <a:pt x="16172" y="9161"/>
                  <a:pt x="16229" y="9185"/>
                  <a:pt x="16123" y="92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81160" y="3268800"/>
            <a:ext cx="4079880" cy="1071360"/>
          </a:xfrm>
          <a:custGeom>
            <a:avLst/>
            <a:gdLst/>
            <a:ahLst/>
            <a:rect l="l" t="t" r="r" b="b"/>
            <a:pathLst>
              <a:path w="11337" h="2977">
                <a:moveTo>
                  <a:pt x="5779" y="9079"/>
                </a:moveTo>
                <a:cubicBezTo>
                  <a:pt x="5821" y="9079"/>
                  <a:pt x="5862" y="9079"/>
                  <a:pt x="5904" y="9079"/>
                </a:cubicBezTo>
              </a:path>
              <a:path w="11337" h="2977">
                <a:moveTo>
                  <a:pt x="5804" y="9252"/>
                </a:moveTo>
                <a:cubicBezTo>
                  <a:pt x="5879" y="9252"/>
                  <a:pt x="5910" y="9241"/>
                  <a:pt x="5978" y="9227"/>
                </a:cubicBezTo>
              </a:path>
              <a:path w="11337" h="2977">
                <a:moveTo>
                  <a:pt x="6449" y="10046"/>
                </a:moveTo>
                <a:cubicBezTo>
                  <a:pt x="6521" y="10056"/>
                  <a:pt x="6541" y="10071"/>
                  <a:pt x="6623" y="10071"/>
                </a:cubicBezTo>
              </a:path>
              <a:path w="11337" h="2977">
                <a:moveTo>
                  <a:pt x="7094" y="9897"/>
                </a:moveTo>
                <a:cubicBezTo>
                  <a:pt x="7094" y="10021"/>
                  <a:pt x="7094" y="10145"/>
                  <a:pt x="7094" y="10269"/>
                </a:cubicBezTo>
                <a:cubicBezTo>
                  <a:pt x="7069" y="10211"/>
                  <a:pt x="7069" y="10184"/>
                  <a:pt x="7069" y="10120"/>
                </a:cubicBezTo>
                <a:cubicBezTo>
                  <a:pt x="7069" y="10079"/>
                  <a:pt x="7081" y="10011"/>
                  <a:pt x="7094" y="9971"/>
                </a:cubicBezTo>
                <a:cubicBezTo>
                  <a:pt x="7108" y="9929"/>
                  <a:pt x="7127" y="9846"/>
                  <a:pt x="7169" y="9823"/>
                </a:cubicBezTo>
                <a:cubicBezTo>
                  <a:pt x="7199" y="9806"/>
                  <a:pt x="7260" y="9780"/>
                  <a:pt x="7293" y="9773"/>
                </a:cubicBezTo>
                <a:cubicBezTo>
                  <a:pt x="7366" y="9758"/>
                  <a:pt x="7370" y="9767"/>
                  <a:pt x="7441" y="9773"/>
                </a:cubicBezTo>
                <a:cubicBezTo>
                  <a:pt x="7466" y="9773"/>
                  <a:pt x="7474" y="9773"/>
                  <a:pt x="7491" y="9773"/>
                </a:cubicBezTo>
              </a:path>
              <a:path w="11337" h="2977">
                <a:moveTo>
                  <a:pt x="7342" y="9971"/>
                </a:moveTo>
                <a:cubicBezTo>
                  <a:pt x="7416" y="9971"/>
                  <a:pt x="7491" y="9971"/>
                  <a:pt x="7565" y="9971"/>
                </a:cubicBezTo>
                <a:cubicBezTo>
                  <a:pt x="7565" y="10056"/>
                  <a:pt x="7566" y="10018"/>
                  <a:pt x="7516" y="10046"/>
                </a:cubicBezTo>
                <a:cubicBezTo>
                  <a:pt x="7503" y="10053"/>
                  <a:pt x="7418" y="10119"/>
                  <a:pt x="7417" y="10120"/>
                </a:cubicBezTo>
                <a:cubicBezTo>
                  <a:pt x="7417" y="10128"/>
                  <a:pt x="7417" y="10137"/>
                  <a:pt x="7417" y="10145"/>
                </a:cubicBezTo>
                <a:cubicBezTo>
                  <a:pt x="7480" y="10145"/>
                  <a:pt x="7481" y="10178"/>
                  <a:pt x="7541" y="10195"/>
                </a:cubicBezTo>
                <a:cubicBezTo>
                  <a:pt x="7541" y="10270"/>
                  <a:pt x="7537" y="10251"/>
                  <a:pt x="7491" y="10294"/>
                </a:cubicBezTo>
                <a:cubicBezTo>
                  <a:pt x="7431" y="10350"/>
                  <a:pt x="7417" y="10344"/>
                  <a:pt x="7342" y="10344"/>
                </a:cubicBezTo>
                <a:cubicBezTo>
                  <a:pt x="7317" y="10344"/>
                  <a:pt x="7309" y="10344"/>
                  <a:pt x="7293" y="10344"/>
                </a:cubicBezTo>
              </a:path>
              <a:path w="11337" h="2977">
                <a:moveTo>
                  <a:pt x="7045" y="10368"/>
                </a:moveTo>
                <a:cubicBezTo>
                  <a:pt x="7175" y="10368"/>
                  <a:pt x="7497" y="10313"/>
                  <a:pt x="7565" y="10418"/>
                </a:cubicBezTo>
              </a:path>
              <a:path w="11337" h="2977">
                <a:moveTo>
                  <a:pt x="7243" y="10567"/>
                </a:moveTo>
                <a:cubicBezTo>
                  <a:pt x="7326" y="10567"/>
                  <a:pt x="7408" y="10567"/>
                  <a:pt x="7491" y="10567"/>
                </a:cubicBezTo>
                <a:cubicBezTo>
                  <a:pt x="7480" y="10619"/>
                  <a:pt x="7446" y="10671"/>
                  <a:pt x="7417" y="10716"/>
                </a:cubicBezTo>
                <a:cubicBezTo>
                  <a:pt x="7383" y="10770"/>
                  <a:pt x="7314" y="10819"/>
                  <a:pt x="7268" y="10864"/>
                </a:cubicBezTo>
                <a:cubicBezTo>
                  <a:pt x="7321" y="10877"/>
                  <a:pt x="7353" y="10889"/>
                  <a:pt x="7417" y="10889"/>
                </a:cubicBezTo>
                <a:cubicBezTo>
                  <a:pt x="7500" y="10889"/>
                  <a:pt x="7563" y="10893"/>
                  <a:pt x="7640" y="10864"/>
                </a:cubicBezTo>
              </a:path>
              <a:path w="11337" h="2977">
                <a:moveTo>
                  <a:pt x="8086" y="10344"/>
                </a:moveTo>
                <a:cubicBezTo>
                  <a:pt x="8078" y="10344"/>
                  <a:pt x="8070" y="10344"/>
                  <a:pt x="8062" y="10344"/>
                </a:cubicBezTo>
              </a:path>
              <a:path w="11337" h="2977">
                <a:moveTo>
                  <a:pt x="8508" y="10046"/>
                </a:moveTo>
                <a:cubicBezTo>
                  <a:pt x="8484" y="10142"/>
                  <a:pt x="8464" y="10187"/>
                  <a:pt x="8458" y="10269"/>
                </a:cubicBezTo>
                <a:cubicBezTo>
                  <a:pt x="8458" y="10302"/>
                  <a:pt x="8458" y="10319"/>
                  <a:pt x="8458" y="10344"/>
                </a:cubicBezTo>
                <a:cubicBezTo>
                  <a:pt x="8458" y="10285"/>
                  <a:pt x="8479" y="10250"/>
                  <a:pt x="8483" y="10195"/>
                </a:cubicBezTo>
                <a:cubicBezTo>
                  <a:pt x="8490" y="10094"/>
                  <a:pt x="8463" y="9982"/>
                  <a:pt x="8508" y="9897"/>
                </a:cubicBezTo>
                <a:cubicBezTo>
                  <a:pt x="8575" y="9771"/>
                  <a:pt x="8560" y="9888"/>
                  <a:pt x="8657" y="9823"/>
                </a:cubicBezTo>
                <a:cubicBezTo>
                  <a:pt x="8720" y="9781"/>
                  <a:pt x="8711" y="9773"/>
                  <a:pt x="8806" y="9773"/>
                </a:cubicBezTo>
                <a:cubicBezTo>
                  <a:pt x="8831" y="9773"/>
                  <a:pt x="8855" y="9773"/>
                  <a:pt x="8880" y="9773"/>
                </a:cubicBezTo>
              </a:path>
              <a:path w="11337" h="2977">
                <a:moveTo>
                  <a:pt x="8706" y="10046"/>
                </a:moveTo>
                <a:cubicBezTo>
                  <a:pt x="8781" y="10046"/>
                  <a:pt x="8855" y="10046"/>
                  <a:pt x="8930" y="10046"/>
                </a:cubicBezTo>
                <a:cubicBezTo>
                  <a:pt x="8930" y="10096"/>
                  <a:pt x="8925" y="10160"/>
                  <a:pt x="8880" y="10195"/>
                </a:cubicBezTo>
                <a:cubicBezTo>
                  <a:pt x="8871" y="10202"/>
                  <a:pt x="8712" y="10195"/>
                  <a:pt x="8781" y="10195"/>
                </a:cubicBezTo>
                <a:cubicBezTo>
                  <a:pt x="8842" y="10195"/>
                  <a:pt x="8876" y="10205"/>
                  <a:pt x="8905" y="10220"/>
                </a:cubicBezTo>
                <a:cubicBezTo>
                  <a:pt x="8963" y="10249"/>
                  <a:pt x="8920" y="10273"/>
                  <a:pt x="8905" y="10294"/>
                </a:cubicBezTo>
                <a:cubicBezTo>
                  <a:pt x="8873" y="10338"/>
                  <a:pt x="8857" y="10351"/>
                  <a:pt x="8806" y="10368"/>
                </a:cubicBezTo>
                <a:cubicBezTo>
                  <a:pt x="8759" y="10383"/>
                  <a:pt x="8745" y="10351"/>
                  <a:pt x="8731" y="10344"/>
                </a:cubicBezTo>
                <a:cubicBezTo>
                  <a:pt x="8706" y="10344"/>
                  <a:pt x="8698" y="10344"/>
                  <a:pt x="8682" y="10344"/>
                </a:cubicBezTo>
              </a:path>
              <a:path w="11337" h="2977">
                <a:moveTo>
                  <a:pt x="8483" y="10294"/>
                </a:moveTo>
                <a:cubicBezTo>
                  <a:pt x="8483" y="10311"/>
                  <a:pt x="8483" y="10327"/>
                  <a:pt x="8483" y="10344"/>
                </a:cubicBezTo>
                <a:cubicBezTo>
                  <a:pt x="8632" y="10344"/>
                  <a:pt x="9029" y="10344"/>
                  <a:pt x="8880" y="10344"/>
                </a:cubicBezTo>
              </a:path>
              <a:path w="11337" h="2977">
                <a:moveTo>
                  <a:pt x="8657" y="10492"/>
                </a:moveTo>
                <a:cubicBezTo>
                  <a:pt x="8723" y="10492"/>
                  <a:pt x="8789" y="10492"/>
                  <a:pt x="8855" y="10492"/>
                </a:cubicBezTo>
                <a:cubicBezTo>
                  <a:pt x="8855" y="10527"/>
                  <a:pt x="8851" y="10617"/>
                  <a:pt x="8830" y="10641"/>
                </a:cubicBezTo>
                <a:cubicBezTo>
                  <a:pt x="8812" y="10662"/>
                  <a:pt x="8776" y="10710"/>
                  <a:pt x="8756" y="10740"/>
                </a:cubicBezTo>
                <a:cubicBezTo>
                  <a:pt x="8728" y="10782"/>
                  <a:pt x="8690" y="10785"/>
                  <a:pt x="8657" y="10815"/>
                </a:cubicBezTo>
                <a:cubicBezTo>
                  <a:pt x="8624" y="10844"/>
                  <a:pt x="8587" y="10871"/>
                  <a:pt x="8582" y="10914"/>
                </a:cubicBezTo>
                <a:cubicBezTo>
                  <a:pt x="8582" y="10922"/>
                  <a:pt x="8582" y="10931"/>
                  <a:pt x="8582" y="10939"/>
                </a:cubicBezTo>
                <a:cubicBezTo>
                  <a:pt x="8645" y="10939"/>
                  <a:pt x="8679" y="10947"/>
                  <a:pt x="8731" y="10964"/>
                </a:cubicBezTo>
                <a:cubicBezTo>
                  <a:pt x="8781" y="10981"/>
                  <a:pt x="8832" y="11011"/>
                  <a:pt x="8880" y="10988"/>
                </a:cubicBezTo>
                <a:cubicBezTo>
                  <a:pt x="8880" y="10980"/>
                  <a:pt x="8880" y="10972"/>
                  <a:pt x="8880" y="10964"/>
                </a:cubicBezTo>
              </a:path>
              <a:path w="11337" h="2977">
                <a:moveTo>
                  <a:pt x="7293" y="9971"/>
                </a:moveTo>
                <a:cubicBezTo>
                  <a:pt x="7376" y="9971"/>
                  <a:pt x="7458" y="9971"/>
                  <a:pt x="7541" y="9971"/>
                </a:cubicBezTo>
                <a:cubicBezTo>
                  <a:pt x="7532" y="10016"/>
                  <a:pt x="7481" y="10101"/>
                  <a:pt x="7441" y="10120"/>
                </a:cubicBezTo>
                <a:cubicBezTo>
                  <a:pt x="7375" y="10152"/>
                  <a:pt x="7327" y="10200"/>
                  <a:pt x="7268" y="10220"/>
                </a:cubicBezTo>
                <a:cubicBezTo>
                  <a:pt x="7235" y="10220"/>
                  <a:pt x="7227" y="10228"/>
                  <a:pt x="7243" y="10269"/>
                </a:cubicBezTo>
                <a:cubicBezTo>
                  <a:pt x="7341" y="10269"/>
                  <a:pt x="7550" y="10311"/>
                  <a:pt x="7565" y="10220"/>
                </a:cubicBezTo>
              </a:path>
              <a:path w="11337" h="2977">
                <a:moveTo>
                  <a:pt x="7268" y="9971"/>
                </a:moveTo>
                <a:cubicBezTo>
                  <a:pt x="7320" y="9945"/>
                  <a:pt x="7317" y="9922"/>
                  <a:pt x="7392" y="9922"/>
                </a:cubicBezTo>
                <a:cubicBezTo>
                  <a:pt x="7496" y="9922"/>
                  <a:pt x="7474" y="9926"/>
                  <a:pt x="7541" y="9971"/>
                </a:cubicBezTo>
                <a:cubicBezTo>
                  <a:pt x="7560" y="9984"/>
                  <a:pt x="7643" y="9971"/>
                  <a:pt x="7590" y="10046"/>
                </a:cubicBezTo>
                <a:cubicBezTo>
                  <a:pt x="7570" y="10075"/>
                  <a:pt x="7488" y="10103"/>
                  <a:pt x="7466" y="10120"/>
                </a:cubicBezTo>
                <a:cubicBezTo>
                  <a:pt x="7372" y="10193"/>
                  <a:pt x="7415" y="10195"/>
                  <a:pt x="7317" y="10195"/>
                </a:cubicBezTo>
                <a:cubicBezTo>
                  <a:pt x="7289" y="10268"/>
                  <a:pt x="7317" y="10269"/>
                  <a:pt x="7392" y="10269"/>
                </a:cubicBezTo>
                <a:cubicBezTo>
                  <a:pt x="7447" y="10269"/>
                  <a:pt x="7474" y="10285"/>
                  <a:pt x="7516" y="10294"/>
                </a:cubicBezTo>
                <a:cubicBezTo>
                  <a:pt x="7562" y="10304"/>
                  <a:pt x="7629" y="10303"/>
                  <a:pt x="7640" y="10269"/>
                </a:cubicBezTo>
              </a:path>
              <a:path w="11337" h="2977">
                <a:moveTo>
                  <a:pt x="7342" y="9922"/>
                </a:moveTo>
                <a:cubicBezTo>
                  <a:pt x="7457" y="9897"/>
                  <a:pt x="7467" y="9897"/>
                  <a:pt x="7565" y="9922"/>
                </a:cubicBezTo>
                <a:cubicBezTo>
                  <a:pt x="7585" y="9927"/>
                  <a:pt x="7615" y="10015"/>
                  <a:pt x="7590" y="10046"/>
                </a:cubicBezTo>
                <a:cubicBezTo>
                  <a:pt x="7544" y="10102"/>
                  <a:pt x="7489" y="10103"/>
                  <a:pt x="7441" y="10145"/>
                </a:cubicBezTo>
                <a:cubicBezTo>
                  <a:pt x="7431" y="10154"/>
                  <a:pt x="7333" y="10213"/>
                  <a:pt x="7342" y="10220"/>
                </a:cubicBezTo>
                <a:cubicBezTo>
                  <a:pt x="7375" y="10220"/>
                  <a:pt x="7383" y="10228"/>
                  <a:pt x="7367" y="10269"/>
                </a:cubicBezTo>
                <a:cubicBezTo>
                  <a:pt x="7466" y="10269"/>
                  <a:pt x="7566" y="10269"/>
                  <a:pt x="7665" y="10269"/>
                </a:cubicBezTo>
              </a:path>
              <a:path w="11337" h="2977">
                <a:moveTo>
                  <a:pt x="9798" y="10195"/>
                </a:moveTo>
                <a:cubicBezTo>
                  <a:pt x="9840" y="10209"/>
                  <a:pt x="9823" y="10243"/>
                  <a:pt x="9823" y="10294"/>
                </a:cubicBezTo>
                <a:cubicBezTo>
                  <a:pt x="9823" y="10393"/>
                  <a:pt x="9823" y="10493"/>
                  <a:pt x="9823" y="10592"/>
                </a:cubicBezTo>
              </a:path>
              <a:path w="11337" h="2977">
                <a:moveTo>
                  <a:pt x="9575" y="10418"/>
                </a:moveTo>
                <a:cubicBezTo>
                  <a:pt x="9638" y="10442"/>
                  <a:pt x="9680" y="10443"/>
                  <a:pt x="9748" y="10443"/>
                </a:cubicBezTo>
                <a:cubicBezTo>
                  <a:pt x="9801" y="10443"/>
                  <a:pt x="9956" y="10466"/>
                  <a:pt x="9971" y="10418"/>
                </a:cubicBezTo>
              </a:path>
              <a:path w="11337" h="2977">
                <a:moveTo>
                  <a:pt x="10443" y="10145"/>
                </a:moveTo>
                <a:cubicBezTo>
                  <a:pt x="10449" y="10212"/>
                  <a:pt x="10449" y="10304"/>
                  <a:pt x="10468" y="10368"/>
                </a:cubicBezTo>
                <a:cubicBezTo>
                  <a:pt x="10476" y="10385"/>
                  <a:pt x="10484" y="10401"/>
                  <a:pt x="10492" y="10418"/>
                </a:cubicBezTo>
                <a:cubicBezTo>
                  <a:pt x="10492" y="10312"/>
                  <a:pt x="10501" y="10222"/>
                  <a:pt x="10517" y="10120"/>
                </a:cubicBezTo>
                <a:cubicBezTo>
                  <a:pt x="10520" y="10101"/>
                  <a:pt x="10553" y="9975"/>
                  <a:pt x="10567" y="9971"/>
                </a:cubicBezTo>
                <a:cubicBezTo>
                  <a:pt x="10641" y="9948"/>
                  <a:pt x="10682" y="9911"/>
                  <a:pt x="10765" y="9897"/>
                </a:cubicBezTo>
                <a:cubicBezTo>
                  <a:pt x="10828" y="9886"/>
                  <a:pt x="10900" y="9897"/>
                  <a:pt x="10964" y="9897"/>
                </a:cubicBezTo>
              </a:path>
              <a:path w="11337" h="2977">
                <a:moveTo>
                  <a:pt x="10691" y="10071"/>
                </a:moveTo>
                <a:cubicBezTo>
                  <a:pt x="10691" y="10087"/>
                  <a:pt x="10691" y="10104"/>
                  <a:pt x="10691" y="10120"/>
                </a:cubicBezTo>
                <a:cubicBezTo>
                  <a:pt x="10790" y="10120"/>
                  <a:pt x="10889" y="10120"/>
                  <a:pt x="10988" y="10120"/>
                </a:cubicBezTo>
                <a:cubicBezTo>
                  <a:pt x="10951" y="10167"/>
                  <a:pt x="10934" y="10189"/>
                  <a:pt x="10889" y="10220"/>
                </a:cubicBezTo>
                <a:cubicBezTo>
                  <a:pt x="10875" y="10229"/>
                  <a:pt x="10723" y="10316"/>
                  <a:pt x="10765" y="10368"/>
                </a:cubicBezTo>
                <a:cubicBezTo>
                  <a:pt x="10786" y="10394"/>
                  <a:pt x="10858" y="10449"/>
                  <a:pt x="10914" y="10418"/>
                </a:cubicBezTo>
                <a:cubicBezTo>
                  <a:pt x="10989" y="10376"/>
                  <a:pt x="10958" y="10368"/>
                  <a:pt x="11038" y="10368"/>
                </a:cubicBezTo>
              </a:path>
              <a:path w="11337" h="2977">
                <a:moveTo>
                  <a:pt x="10517" y="10517"/>
                </a:moveTo>
                <a:cubicBezTo>
                  <a:pt x="10584" y="10517"/>
                  <a:pt x="10599" y="10560"/>
                  <a:pt x="10666" y="10567"/>
                </a:cubicBezTo>
                <a:cubicBezTo>
                  <a:pt x="10795" y="10581"/>
                  <a:pt x="10933" y="10567"/>
                  <a:pt x="11063" y="10567"/>
                </a:cubicBezTo>
              </a:path>
              <a:path w="11337" h="2977">
                <a:moveTo>
                  <a:pt x="10641" y="10740"/>
                </a:moveTo>
                <a:cubicBezTo>
                  <a:pt x="10740" y="10740"/>
                  <a:pt x="10821" y="10745"/>
                  <a:pt x="10914" y="10765"/>
                </a:cubicBezTo>
                <a:cubicBezTo>
                  <a:pt x="10939" y="10765"/>
                  <a:pt x="10947" y="10765"/>
                  <a:pt x="10964" y="10765"/>
                </a:cubicBezTo>
                <a:cubicBezTo>
                  <a:pt x="10964" y="10817"/>
                  <a:pt x="10969" y="10818"/>
                  <a:pt x="10939" y="10840"/>
                </a:cubicBezTo>
                <a:cubicBezTo>
                  <a:pt x="10892" y="10874"/>
                  <a:pt x="10835" y="10903"/>
                  <a:pt x="10790" y="10939"/>
                </a:cubicBezTo>
                <a:cubicBezTo>
                  <a:pt x="10765" y="10959"/>
                  <a:pt x="10707" y="11052"/>
                  <a:pt x="10691" y="11063"/>
                </a:cubicBezTo>
                <a:cubicBezTo>
                  <a:pt x="10666" y="11063"/>
                  <a:pt x="10658" y="11063"/>
                  <a:pt x="10666" y="11088"/>
                </a:cubicBezTo>
                <a:cubicBezTo>
                  <a:pt x="10704" y="11115"/>
                  <a:pt x="10718" y="11112"/>
                  <a:pt x="10765" y="11112"/>
                </a:cubicBezTo>
                <a:cubicBezTo>
                  <a:pt x="10834" y="11112"/>
                  <a:pt x="10882" y="11104"/>
                  <a:pt x="10939" y="11088"/>
                </a:cubicBezTo>
                <a:cubicBezTo>
                  <a:pt x="10996" y="11072"/>
                  <a:pt x="11035" y="11043"/>
                  <a:pt x="11088" y="11013"/>
                </a:cubicBezTo>
              </a:path>
              <a:path w="11337" h="2977">
                <a:moveTo>
                  <a:pt x="11435" y="10567"/>
                </a:moveTo>
                <a:cubicBezTo>
                  <a:pt x="11399" y="10594"/>
                  <a:pt x="11330" y="10609"/>
                  <a:pt x="11361" y="10641"/>
                </a:cubicBezTo>
                <a:cubicBezTo>
                  <a:pt x="11377" y="10657"/>
                  <a:pt x="11377" y="10643"/>
                  <a:pt x="11385" y="10592"/>
                </a:cubicBezTo>
              </a:path>
              <a:path w="11337" h="2977">
                <a:moveTo>
                  <a:pt x="12129" y="10120"/>
                </a:moveTo>
                <a:cubicBezTo>
                  <a:pt x="12146" y="10120"/>
                  <a:pt x="12162" y="10120"/>
                  <a:pt x="12179" y="10120"/>
                </a:cubicBezTo>
                <a:cubicBezTo>
                  <a:pt x="12179" y="10167"/>
                  <a:pt x="12174" y="10230"/>
                  <a:pt x="12154" y="10269"/>
                </a:cubicBezTo>
                <a:cubicBezTo>
                  <a:pt x="12125" y="10326"/>
                  <a:pt x="12129" y="10372"/>
                  <a:pt x="12129" y="10443"/>
                </a:cubicBezTo>
                <a:cubicBezTo>
                  <a:pt x="12129" y="10484"/>
                  <a:pt x="12121" y="10500"/>
                  <a:pt x="12154" y="10492"/>
                </a:cubicBezTo>
              </a:path>
              <a:path w="11337" h="2977">
                <a:moveTo>
                  <a:pt x="11881" y="10443"/>
                </a:moveTo>
                <a:cubicBezTo>
                  <a:pt x="11925" y="10507"/>
                  <a:pt x="11926" y="10492"/>
                  <a:pt x="12005" y="10492"/>
                </a:cubicBezTo>
                <a:cubicBezTo>
                  <a:pt x="12104" y="10492"/>
                  <a:pt x="12204" y="10492"/>
                  <a:pt x="12303" y="10492"/>
                </a:cubicBezTo>
              </a:path>
              <a:path w="11337" h="2977">
                <a:moveTo>
                  <a:pt x="12030" y="10691"/>
                </a:moveTo>
                <a:cubicBezTo>
                  <a:pt x="12080" y="10721"/>
                  <a:pt x="12117" y="10716"/>
                  <a:pt x="12179" y="10716"/>
                </a:cubicBezTo>
                <a:cubicBezTo>
                  <a:pt x="12250" y="10716"/>
                  <a:pt x="12289" y="10731"/>
                  <a:pt x="12353" y="10740"/>
                </a:cubicBezTo>
                <a:cubicBezTo>
                  <a:pt x="12353" y="10786"/>
                  <a:pt x="12360" y="10805"/>
                  <a:pt x="12328" y="10840"/>
                </a:cubicBezTo>
                <a:cubicBezTo>
                  <a:pt x="12291" y="10880"/>
                  <a:pt x="12225" y="10934"/>
                  <a:pt x="12179" y="10964"/>
                </a:cubicBezTo>
                <a:cubicBezTo>
                  <a:pt x="12159" y="10977"/>
                  <a:pt x="12064" y="11024"/>
                  <a:pt x="12055" y="11038"/>
                </a:cubicBezTo>
                <a:cubicBezTo>
                  <a:pt x="12044" y="11055"/>
                  <a:pt x="12036" y="11090"/>
                  <a:pt x="12030" y="11112"/>
                </a:cubicBezTo>
                <a:cubicBezTo>
                  <a:pt x="12069" y="11122"/>
                  <a:pt x="12085" y="11137"/>
                  <a:pt x="12129" y="11137"/>
                </a:cubicBezTo>
                <a:cubicBezTo>
                  <a:pt x="12209" y="11137"/>
                  <a:pt x="12263" y="11134"/>
                  <a:pt x="12328" y="11112"/>
                </a:cubicBezTo>
                <a:cubicBezTo>
                  <a:pt x="12336" y="11112"/>
                  <a:pt x="12345" y="11112"/>
                  <a:pt x="12353" y="11112"/>
                </a:cubicBezTo>
              </a:path>
              <a:path w="11337" h="2977">
                <a:moveTo>
                  <a:pt x="12849" y="10418"/>
                </a:moveTo>
                <a:cubicBezTo>
                  <a:pt x="12932" y="10418"/>
                  <a:pt x="13014" y="10418"/>
                  <a:pt x="13097" y="10418"/>
                </a:cubicBezTo>
              </a:path>
              <a:path w="11337" h="2977">
                <a:moveTo>
                  <a:pt x="12824" y="10592"/>
                </a:moveTo>
                <a:cubicBezTo>
                  <a:pt x="12896" y="10645"/>
                  <a:pt x="12910" y="10641"/>
                  <a:pt x="12998" y="10641"/>
                </a:cubicBezTo>
                <a:cubicBezTo>
                  <a:pt x="13023" y="10641"/>
                  <a:pt x="13047" y="10641"/>
                  <a:pt x="13072" y="10641"/>
                </a:cubicBezTo>
              </a:path>
              <a:path w="11337" h="2977">
                <a:moveTo>
                  <a:pt x="13692" y="10269"/>
                </a:moveTo>
                <a:cubicBezTo>
                  <a:pt x="13725" y="10269"/>
                  <a:pt x="13742" y="10269"/>
                  <a:pt x="13767" y="10269"/>
                </a:cubicBezTo>
              </a:path>
              <a:path w="11337" h="2977">
                <a:moveTo>
                  <a:pt x="14188" y="10071"/>
                </a:moveTo>
                <a:cubicBezTo>
                  <a:pt x="14188" y="10181"/>
                  <a:pt x="14169" y="10242"/>
                  <a:pt x="14163" y="10344"/>
                </a:cubicBezTo>
                <a:cubicBezTo>
                  <a:pt x="14157" y="10442"/>
                  <a:pt x="14163" y="10542"/>
                  <a:pt x="14163" y="10641"/>
                </a:cubicBezTo>
                <a:cubicBezTo>
                  <a:pt x="14163" y="10565"/>
                  <a:pt x="14178" y="10479"/>
                  <a:pt x="14188" y="10418"/>
                </a:cubicBezTo>
                <a:cubicBezTo>
                  <a:pt x="14204" y="10322"/>
                  <a:pt x="14130" y="10069"/>
                  <a:pt x="14213" y="9996"/>
                </a:cubicBezTo>
                <a:cubicBezTo>
                  <a:pt x="14247" y="9966"/>
                  <a:pt x="14314" y="9971"/>
                  <a:pt x="14362" y="9971"/>
                </a:cubicBezTo>
                <a:cubicBezTo>
                  <a:pt x="14478" y="9971"/>
                  <a:pt x="14593" y="9971"/>
                  <a:pt x="14709" y="9971"/>
                </a:cubicBezTo>
              </a:path>
              <a:path w="11337" h="2977">
                <a:moveTo>
                  <a:pt x="14511" y="10195"/>
                </a:moveTo>
                <a:cubicBezTo>
                  <a:pt x="14491" y="10272"/>
                  <a:pt x="14464" y="10345"/>
                  <a:pt x="14461" y="10418"/>
                </a:cubicBezTo>
                <a:cubicBezTo>
                  <a:pt x="14456" y="10521"/>
                  <a:pt x="14477" y="10558"/>
                  <a:pt x="14486" y="10641"/>
                </a:cubicBezTo>
                <a:cubicBezTo>
                  <a:pt x="14592" y="10641"/>
                  <a:pt x="14678" y="10660"/>
                  <a:pt x="14759" y="10592"/>
                </a:cubicBezTo>
                <a:cubicBezTo>
                  <a:pt x="14790" y="10566"/>
                  <a:pt x="14854" y="10510"/>
                  <a:pt x="14858" y="10492"/>
                </a:cubicBezTo>
                <a:cubicBezTo>
                  <a:pt x="14874" y="10422"/>
                  <a:pt x="14847" y="10392"/>
                  <a:pt x="14808" y="10344"/>
                </a:cubicBezTo>
                <a:cubicBezTo>
                  <a:pt x="14761" y="10356"/>
                  <a:pt x="14713" y="10399"/>
                  <a:pt x="14684" y="10443"/>
                </a:cubicBezTo>
                <a:cubicBezTo>
                  <a:pt x="14638" y="10512"/>
                  <a:pt x="14641" y="10524"/>
                  <a:pt x="14660" y="10567"/>
                </a:cubicBezTo>
                <a:cubicBezTo>
                  <a:pt x="14676" y="10605"/>
                  <a:pt x="14669" y="10597"/>
                  <a:pt x="14709" y="10567"/>
                </a:cubicBezTo>
              </a:path>
              <a:path w="11337" h="2977">
                <a:moveTo>
                  <a:pt x="15354" y="10145"/>
                </a:moveTo>
                <a:cubicBezTo>
                  <a:pt x="15354" y="10263"/>
                  <a:pt x="15349" y="10412"/>
                  <a:pt x="15379" y="10492"/>
                </a:cubicBezTo>
                <a:cubicBezTo>
                  <a:pt x="15379" y="10525"/>
                  <a:pt x="15379" y="10542"/>
                  <a:pt x="15379" y="10567"/>
                </a:cubicBezTo>
              </a:path>
              <a:path w="11337" h="2977">
                <a:moveTo>
                  <a:pt x="15329" y="10294"/>
                </a:moveTo>
                <a:cubicBezTo>
                  <a:pt x="15404" y="10294"/>
                  <a:pt x="15478" y="10294"/>
                  <a:pt x="15553" y="10294"/>
                </a:cubicBezTo>
              </a:path>
              <a:path w="11337" h="2977">
                <a:moveTo>
                  <a:pt x="13618" y="10269"/>
                </a:moveTo>
                <a:cubicBezTo>
                  <a:pt x="13742" y="10269"/>
                  <a:pt x="14064" y="10269"/>
                  <a:pt x="13940" y="10269"/>
                </a:cubicBezTo>
                <a:cubicBezTo>
                  <a:pt x="13816" y="10269"/>
                  <a:pt x="13494" y="10269"/>
                  <a:pt x="13618" y="10269"/>
                </a:cubicBezTo>
                <a:cubicBezTo>
                  <a:pt x="13626" y="10269"/>
                  <a:pt x="13635" y="10269"/>
                  <a:pt x="13643" y="10269"/>
                </a:cubicBezTo>
              </a:path>
              <a:path w="11337" h="2977">
                <a:moveTo>
                  <a:pt x="15900" y="10195"/>
                </a:moveTo>
                <a:cubicBezTo>
                  <a:pt x="15900" y="10278"/>
                  <a:pt x="15890" y="10337"/>
                  <a:pt x="15875" y="10418"/>
                </a:cubicBezTo>
                <a:cubicBezTo>
                  <a:pt x="15862" y="10487"/>
                  <a:pt x="15875" y="10571"/>
                  <a:pt x="15875" y="10641"/>
                </a:cubicBezTo>
                <a:cubicBezTo>
                  <a:pt x="15912" y="10617"/>
                  <a:pt x="15900" y="10574"/>
                  <a:pt x="15900" y="10517"/>
                </a:cubicBezTo>
                <a:cubicBezTo>
                  <a:pt x="15900" y="10426"/>
                  <a:pt x="15888" y="10356"/>
                  <a:pt x="15875" y="10269"/>
                </a:cubicBezTo>
                <a:cubicBezTo>
                  <a:pt x="15866" y="10212"/>
                  <a:pt x="15890" y="10168"/>
                  <a:pt x="15900" y="10145"/>
                </a:cubicBezTo>
                <a:cubicBezTo>
                  <a:pt x="15910" y="10122"/>
                  <a:pt x="15915" y="10067"/>
                  <a:pt x="15949" y="10046"/>
                </a:cubicBezTo>
                <a:cubicBezTo>
                  <a:pt x="15986" y="10023"/>
                  <a:pt x="16009" y="10013"/>
                  <a:pt x="16049" y="9996"/>
                </a:cubicBezTo>
                <a:cubicBezTo>
                  <a:pt x="16084" y="9981"/>
                  <a:pt x="16164" y="9981"/>
                  <a:pt x="16197" y="9971"/>
                </a:cubicBezTo>
                <a:cubicBezTo>
                  <a:pt x="16247" y="9956"/>
                  <a:pt x="16324" y="9954"/>
                  <a:pt x="16297" y="9996"/>
                </a:cubicBezTo>
              </a:path>
              <a:path w="11337" h="2977">
                <a:moveTo>
                  <a:pt x="16148" y="10220"/>
                </a:moveTo>
                <a:cubicBezTo>
                  <a:pt x="16200" y="10197"/>
                  <a:pt x="16218" y="10195"/>
                  <a:pt x="16272" y="10195"/>
                </a:cubicBezTo>
                <a:cubicBezTo>
                  <a:pt x="16322" y="10195"/>
                  <a:pt x="16371" y="10195"/>
                  <a:pt x="16421" y="10195"/>
                </a:cubicBezTo>
                <a:cubicBezTo>
                  <a:pt x="16421" y="10266"/>
                  <a:pt x="16403" y="10303"/>
                  <a:pt x="16371" y="10344"/>
                </a:cubicBezTo>
                <a:cubicBezTo>
                  <a:pt x="16327" y="10400"/>
                  <a:pt x="16295" y="10466"/>
                  <a:pt x="16247" y="10517"/>
                </a:cubicBezTo>
                <a:cubicBezTo>
                  <a:pt x="16179" y="10590"/>
                  <a:pt x="16187" y="10553"/>
                  <a:pt x="16148" y="10641"/>
                </a:cubicBezTo>
                <a:cubicBezTo>
                  <a:pt x="16237" y="10641"/>
                  <a:pt x="16177" y="10646"/>
                  <a:pt x="16222" y="10691"/>
                </a:cubicBezTo>
                <a:cubicBezTo>
                  <a:pt x="16243" y="10712"/>
                  <a:pt x="16410" y="10691"/>
                  <a:pt x="16446" y="10691"/>
                </a:cubicBezTo>
              </a:path>
              <a:path w="11337" h="2977">
                <a:moveTo>
                  <a:pt x="16694" y="10790"/>
                </a:moveTo>
                <a:cubicBezTo>
                  <a:pt x="16626" y="10796"/>
                  <a:pt x="16583" y="10807"/>
                  <a:pt x="16520" y="10815"/>
                </a:cubicBezTo>
                <a:cubicBezTo>
                  <a:pt x="16225" y="10854"/>
                  <a:pt x="15895" y="10813"/>
                  <a:pt x="15602" y="10790"/>
                </a:cubicBezTo>
                <a:cubicBezTo>
                  <a:pt x="15485" y="10781"/>
                  <a:pt x="15371" y="10768"/>
                  <a:pt x="15255" y="10765"/>
                </a:cubicBezTo>
                <a:cubicBezTo>
                  <a:pt x="15095" y="10760"/>
                  <a:pt x="14939" y="10754"/>
                  <a:pt x="14784" y="10740"/>
                </a:cubicBezTo>
                <a:cubicBezTo>
                  <a:pt x="14566" y="10720"/>
                  <a:pt x="14323" y="10732"/>
                  <a:pt x="14114" y="10765"/>
                </a:cubicBezTo>
                <a:cubicBezTo>
                  <a:pt x="14045" y="10776"/>
                  <a:pt x="13997" y="10747"/>
                  <a:pt x="13965" y="10790"/>
                </a:cubicBezTo>
                <a:cubicBezTo>
                  <a:pt x="13937" y="10790"/>
                  <a:pt x="13931" y="10792"/>
                  <a:pt x="13965" y="10815"/>
                </a:cubicBezTo>
              </a:path>
              <a:path w="11337" h="2977">
                <a:moveTo>
                  <a:pt x="15156" y="10939"/>
                </a:moveTo>
                <a:cubicBezTo>
                  <a:pt x="15143" y="10991"/>
                  <a:pt x="15119" y="10979"/>
                  <a:pt x="15081" y="11013"/>
                </a:cubicBezTo>
                <a:cubicBezTo>
                  <a:pt x="15059" y="11032"/>
                  <a:pt x="15018" y="11105"/>
                  <a:pt x="15007" y="11112"/>
                </a:cubicBezTo>
                <a:cubicBezTo>
                  <a:pt x="14999" y="11112"/>
                  <a:pt x="14990" y="11112"/>
                  <a:pt x="14982" y="11112"/>
                </a:cubicBezTo>
                <a:cubicBezTo>
                  <a:pt x="14995" y="11150"/>
                  <a:pt x="15004" y="11141"/>
                  <a:pt x="15032" y="11162"/>
                </a:cubicBezTo>
                <a:cubicBezTo>
                  <a:pt x="15070" y="11191"/>
                  <a:pt x="15083" y="11187"/>
                  <a:pt x="15131" y="11187"/>
                </a:cubicBezTo>
                <a:cubicBezTo>
                  <a:pt x="15209" y="11187"/>
                  <a:pt x="15312" y="11207"/>
                  <a:pt x="15379" y="11162"/>
                </a:cubicBezTo>
                <a:cubicBezTo>
                  <a:pt x="15404" y="11137"/>
                  <a:pt x="15412" y="11129"/>
                  <a:pt x="15429" y="11112"/>
                </a:cubicBezTo>
              </a:path>
              <a:path w="11337" h="2977">
                <a:moveTo>
                  <a:pt x="15478" y="10914"/>
                </a:moveTo>
                <a:cubicBezTo>
                  <a:pt x="15454" y="10994"/>
                  <a:pt x="15433" y="11054"/>
                  <a:pt x="15429" y="11137"/>
                </a:cubicBezTo>
                <a:cubicBezTo>
                  <a:pt x="15424" y="11251"/>
                  <a:pt x="15422" y="11353"/>
                  <a:pt x="15404" y="11460"/>
                </a:cubicBezTo>
                <a:cubicBezTo>
                  <a:pt x="15399" y="11491"/>
                  <a:pt x="15396" y="11608"/>
                  <a:pt x="15404" y="11633"/>
                </a:cubicBezTo>
                <a:cubicBezTo>
                  <a:pt x="15427" y="11656"/>
                  <a:pt x="15438" y="11664"/>
                  <a:pt x="15404" y="11658"/>
                </a:cubicBezTo>
              </a:path>
              <a:path w="11337" h="2977">
                <a:moveTo>
                  <a:pt x="13370" y="9897"/>
                </a:moveTo>
                <a:cubicBezTo>
                  <a:pt x="13341" y="9919"/>
                  <a:pt x="13305" y="9944"/>
                  <a:pt x="13271" y="9971"/>
                </a:cubicBezTo>
                <a:cubicBezTo>
                  <a:pt x="13238" y="9997"/>
                  <a:pt x="13170" y="10019"/>
                  <a:pt x="13146" y="10071"/>
                </a:cubicBezTo>
                <a:cubicBezTo>
                  <a:pt x="13112" y="10145"/>
                  <a:pt x="13116" y="10195"/>
                  <a:pt x="13146" y="10269"/>
                </a:cubicBezTo>
                <a:cubicBezTo>
                  <a:pt x="13179" y="10350"/>
                  <a:pt x="13244" y="10371"/>
                  <a:pt x="13295" y="10418"/>
                </a:cubicBezTo>
                <a:cubicBezTo>
                  <a:pt x="13356" y="10474"/>
                  <a:pt x="13374" y="10477"/>
                  <a:pt x="13370" y="10567"/>
                </a:cubicBezTo>
                <a:cubicBezTo>
                  <a:pt x="13367" y="10623"/>
                  <a:pt x="13324" y="10691"/>
                  <a:pt x="13295" y="10740"/>
                </a:cubicBezTo>
                <a:cubicBezTo>
                  <a:pt x="13258" y="10803"/>
                  <a:pt x="13213" y="10840"/>
                  <a:pt x="13196" y="10914"/>
                </a:cubicBezTo>
                <a:cubicBezTo>
                  <a:pt x="13178" y="10992"/>
                  <a:pt x="13215" y="11027"/>
                  <a:pt x="13246" y="11088"/>
                </a:cubicBezTo>
                <a:cubicBezTo>
                  <a:pt x="13281" y="11157"/>
                  <a:pt x="13352" y="11223"/>
                  <a:pt x="13419" y="11261"/>
                </a:cubicBezTo>
                <a:cubicBezTo>
                  <a:pt x="13497" y="11305"/>
                  <a:pt x="13596" y="11322"/>
                  <a:pt x="13667" y="11361"/>
                </a:cubicBezTo>
                <a:cubicBezTo>
                  <a:pt x="13675" y="11369"/>
                  <a:pt x="13684" y="11377"/>
                  <a:pt x="13692" y="11385"/>
                </a:cubicBezTo>
                <a:cubicBezTo>
                  <a:pt x="13690" y="11421"/>
                  <a:pt x="13661" y="11456"/>
                  <a:pt x="13667" y="11485"/>
                </a:cubicBezTo>
                <a:cubicBezTo>
                  <a:pt x="13681" y="11550"/>
                  <a:pt x="13692" y="11560"/>
                  <a:pt x="13742" y="11609"/>
                </a:cubicBezTo>
                <a:cubicBezTo>
                  <a:pt x="13798" y="11664"/>
                  <a:pt x="13892" y="11727"/>
                  <a:pt x="13965" y="11757"/>
                </a:cubicBezTo>
                <a:cubicBezTo>
                  <a:pt x="14110" y="11816"/>
                  <a:pt x="14281" y="11853"/>
                  <a:pt x="14436" y="11857"/>
                </a:cubicBezTo>
                <a:cubicBezTo>
                  <a:pt x="14535" y="11860"/>
                  <a:pt x="14663" y="11860"/>
                  <a:pt x="14759" y="11881"/>
                </a:cubicBezTo>
                <a:cubicBezTo>
                  <a:pt x="14815" y="11893"/>
                  <a:pt x="14859" y="11937"/>
                  <a:pt x="14908" y="11956"/>
                </a:cubicBezTo>
                <a:cubicBezTo>
                  <a:pt x="14990" y="11988"/>
                  <a:pt x="15089" y="12010"/>
                  <a:pt x="15180" y="12030"/>
                </a:cubicBezTo>
                <a:cubicBezTo>
                  <a:pt x="15288" y="12054"/>
                  <a:pt x="15390" y="12063"/>
                  <a:pt x="15503" y="12055"/>
                </a:cubicBezTo>
                <a:cubicBezTo>
                  <a:pt x="15626" y="12046"/>
                  <a:pt x="15680" y="11996"/>
                  <a:pt x="15776" y="11931"/>
                </a:cubicBezTo>
                <a:cubicBezTo>
                  <a:pt x="15861" y="11873"/>
                  <a:pt x="15865" y="11829"/>
                  <a:pt x="15925" y="11757"/>
                </a:cubicBezTo>
                <a:cubicBezTo>
                  <a:pt x="15948" y="11729"/>
                  <a:pt x="15954" y="11699"/>
                  <a:pt x="15999" y="11683"/>
                </a:cubicBezTo>
                <a:cubicBezTo>
                  <a:pt x="16063" y="11660"/>
                  <a:pt x="16155" y="11676"/>
                  <a:pt x="16222" y="11658"/>
                </a:cubicBezTo>
                <a:cubicBezTo>
                  <a:pt x="16339" y="11627"/>
                  <a:pt x="16495" y="11570"/>
                  <a:pt x="16594" y="11509"/>
                </a:cubicBezTo>
                <a:cubicBezTo>
                  <a:pt x="16713" y="11436"/>
                  <a:pt x="16840" y="11349"/>
                  <a:pt x="16867" y="11212"/>
                </a:cubicBezTo>
                <a:cubicBezTo>
                  <a:pt x="16879" y="11152"/>
                  <a:pt x="16867" y="11116"/>
                  <a:pt x="16892" y="11063"/>
                </a:cubicBezTo>
                <a:cubicBezTo>
                  <a:pt x="16920" y="11004"/>
                  <a:pt x="16981" y="10946"/>
                  <a:pt x="17016" y="10889"/>
                </a:cubicBezTo>
                <a:cubicBezTo>
                  <a:pt x="17065" y="10808"/>
                  <a:pt x="17070" y="10733"/>
                  <a:pt x="17090" y="10641"/>
                </a:cubicBezTo>
                <a:cubicBezTo>
                  <a:pt x="17104" y="10575"/>
                  <a:pt x="17139" y="10491"/>
                  <a:pt x="17115" y="10418"/>
                </a:cubicBezTo>
                <a:cubicBezTo>
                  <a:pt x="17080" y="10314"/>
                  <a:pt x="17014" y="10269"/>
                  <a:pt x="16917" y="10220"/>
                </a:cubicBezTo>
                <a:cubicBezTo>
                  <a:pt x="16830" y="10176"/>
                  <a:pt x="16783" y="10212"/>
                  <a:pt x="16718" y="10145"/>
                </a:cubicBezTo>
                <a:cubicBezTo>
                  <a:pt x="16684" y="10109"/>
                  <a:pt x="16652" y="10074"/>
                  <a:pt x="16644" y="10046"/>
                </a:cubicBezTo>
                <a:cubicBezTo>
                  <a:pt x="16618" y="9960"/>
                  <a:pt x="16636" y="9904"/>
                  <a:pt x="16545" y="9847"/>
                </a:cubicBezTo>
                <a:cubicBezTo>
                  <a:pt x="16470" y="9799"/>
                  <a:pt x="16357" y="9786"/>
                  <a:pt x="16272" y="9773"/>
                </a:cubicBezTo>
                <a:cubicBezTo>
                  <a:pt x="16029" y="9735"/>
                  <a:pt x="15744" y="9767"/>
                  <a:pt x="15503" y="9748"/>
                </a:cubicBezTo>
                <a:cubicBezTo>
                  <a:pt x="15343" y="9736"/>
                  <a:pt x="15156" y="9740"/>
                  <a:pt x="15007" y="9773"/>
                </a:cubicBezTo>
                <a:cubicBezTo>
                  <a:pt x="14916" y="9793"/>
                  <a:pt x="14860" y="9818"/>
                  <a:pt x="14759" y="9823"/>
                </a:cubicBezTo>
                <a:cubicBezTo>
                  <a:pt x="14624" y="9829"/>
                  <a:pt x="14546" y="9807"/>
                  <a:pt x="14436" y="9773"/>
                </a:cubicBezTo>
                <a:cubicBezTo>
                  <a:pt x="14372" y="9753"/>
                  <a:pt x="14307" y="9750"/>
                  <a:pt x="14238" y="9748"/>
                </a:cubicBezTo>
                <a:cubicBezTo>
                  <a:pt x="14142" y="9745"/>
                  <a:pt x="14054" y="9742"/>
                  <a:pt x="13965" y="9773"/>
                </a:cubicBezTo>
                <a:cubicBezTo>
                  <a:pt x="13886" y="9801"/>
                  <a:pt x="13881" y="9816"/>
                  <a:pt x="13791" y="9823"/>
                </a:cubicBezTo>
                <a:cubicBezTo>
                  <a:pt x="13734" y="9827"/>
                  <a:pt x="13647" y="9770"/>
                  <a:pt x="13618" y="9773"/>
                </a:cubicBezTo>
                <a:cubicBezTo>
                  <a:pt x="13554" y="9779"/>
                  <a:pt x="13495" y="9794"/>
                  <a:pt x="13444" y="9823"/>
                </a:cubicBezTo>
                <a:cubicBezTo>
                  <a:pt x="13406" y="9845"/>
                  <a:pt x="13320" y="9946"/>
                  <a:pt x="13295" y="9971"/>
                </a:cubicBezTo>
                <a:cubicBezTo>
                  <a:pt x="13271" y="9971"/>
                  <a:pt x="13263" y="9971"/>
                  <a:pt x="13271" y="99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4313160"/>
            <a:ext cx="7358040" cy="1411200"/>
          </a:xfrm>
          <a:custGeom>
            <a:avLst/>
            <a:gdLst/>
            <a:ahLst/>
            <a:rect l="l" t="t" r="r" b="b"/>
            <a:pathLst>
              <a:path w="20440" h="3920">
                <a:moveTo>
                  <a:pt x="1042" y="11981"/>
                </a:moveTo>
                <a:cubicBezTo>
                  <a:pt x="1048" y="12087"/>
                  <a:pt x="1067" y="12172"/>
                  <a:pt x="1067" y="12278"/>
                </a:cubicBezTo>
                <a:cubicBezTo>
                  <a:pt x="1067" y="12365"/>
                  <a:pt x="1042" y="12436"/>
                  <a:pt x="1042" y="12526"/>
                </a:cubicBezTo>
                <a:cubicBezTo>
                  <a:pt x="1042" y="12593"/>
                  <a:pt x="1033" y="12644"/>
                  <a:pt x="1017" y="12675"/>
                </a:cubicBezTo>
                <a:cubicBezTo>
                  <a:pt x="1007" y="12695"/>
                  <a:pt x="1005" y="12688"/>
                  <a:pt x="992" y="12650"/>
                </a:cubicBezTo>
              </a:path>
              <a:path w="20440" h="3920">
                <a:moveTo>
                  <a:pt x="695" y="12303"/>
                </a:moveTo>
                <a:cubicBezTo>
                  <a:pt x="760" y="12303"/>
                  <a:pt x="784" y="12313"/>
                  <a:pt x="843" y="12328"/>
                </a:cubicBezTo>
                <a:cubicBezTo>
                  <a:pt x="1011" y="12370"/>
                  <a:pt x="1239" y="12328"/>
                  <a:pt x="1414" y="12328"/>
                </a:cubicBezTo>
                <a:cubicBezTo>
                  <a:pt x="1374" y="12358"/>
                  <a:pt x="1322" y="12387"/>
                  <a:pt x="1290" y="12427"/>
                </a:cubicBezTo>
                <a:cubicBezTo>
                  <a:pt x="1252" y="12475"/>
                  <a:pt x="1220" y="12545"/>
                  <a:pt x="1215" y="12601"/>
                </a:cubicBezTo>
                <a:cubicBezTo>
                  <a:pt x="1210" y="12664"/>
                  <a:pt x="1239" y="12675"/>
                  <a:pt x="1290" y="12675"/>
                </a:cubicBezTo>
                <a:cubicBezTo>
                  <a:pt x="1336" y="12675"/>
                  <a:pt x="1353" y="12681"/>
                  <a:pt x="1389" y="12650"/>
                </a:cubicBezTo>
                <a:cubicBezTo>
                  <a:pt x="1440" y="12606"/>
                  <a:pt x="1439" y="12593"/>
                  <a:pt x="1439" y="12526"/>
                </a:cubicBezTo>
                <a:cubicBezTo>
                  <a:pt x="1439" y="12485"/>
                  <a:pt x="1439" y="12443"/>
                  <a:pt x="1439" y="12402"/>
                </a:cubicBezTo>
                <a:cubicBezTo>
                  <a:pt x="1472" y="12447"/>
                  <a:pt x="1483" y="12492"/>
                  <a:pt x="1488" y="12551"/>
                </a:cubicBezTo>
                <a:cubicBezTo>
                  <a:pt x="1492" y="12597"/>
                  <a:pt x="1509" y="12643"/>
                  <a:pt x="1538" y="12675"/>
                </a:cubicBezTo>
                <a:cubicBezTo>
                  <a:pt x="1546" y="12683"/>
                  <a:pt x="1555" y="12692"/>
                  <a:pt x="1563" y="12700"/>
                </a:cubicBezTo>
                <a:cubicBezTo>
                  <a:pt x="1598" y="12688"/>
                  <a:pt x="1597" y="12681"/>
                  <a:pt x="1612" y="12650"/>
                </a:cubicBezTo>
                <a:cubicBezTo>
                  <a:pt x="1620" y="12634"/>
                  <a:pt x="1629" y="12617"/>
                  <a:pt x="1637" y="12601"/>
                </a:cubicBezTo>
              </a:path>
              <a:path w="20440" h="3920">
                <a:moveTo>
                  <a:pt x="1687" y="12427"/>
                </a:moveTo>
                <a:cubicBezTo>
                  <a:pt x="1687" y="12539"/>
                  <a:pt x="1684" y="12568"/>
                  <a:pt x="1712" y="12650"/>
                </a:cubicBezTo>
                <a:cubicBezTo>
                  <a:pt x="1730" y="12703"/>
                  <a:pt x="1712" y="12623"/>
                  <a:pt x="1712" y="12601"/>
                </a:cubicBezTo>
                <a:cubicBezTo>
                  <a:pt x="1712" y="12535"/>
                  <a:pt x="1731" y="12514"/>
                  <a:pt x="1736" y="12452"/>
                </a:cubicBezTo>
                <a:cubicBezTo>
                  <a:pt x="1741" y="12389"/>
                  <a:pt x="1776" y="12348"/>
                  <a:pt x="1836" y="12328"/>
                </a:cubicBezTo>
                <a:cubicBezTo>
                  <a:pt x="1898" y="12307"/>
                  <a:pt x="1916" y="12335"/>
                  <a:pt x="1935" y="12378"/>
                </a:cubicBezTo>
                <a:cubicBezTo>
                  <a:pt x="1959" y="12433"/>
                  <a:pt x="1999" y="12500"/>
                  <a:pt x="2009" y="12551"/>
                </a:cubicBezTo>
                <a:cubicBezTo>
                  <a:pt x="2019" y="12602"/>
                  <a:pt x="1984" y="12752"/>
                  <a:pt x="1984" y="12700"/>
                </a:cubicBezTo>
                <a:cubicBezTo>
                  <a:pt x="1984" y="12692"/>
                  <a:pt x="1984" y="12683"/>
                  <a:pt x="1984" y="12675"/>
                </a:cubicBezTo>
              </a:path>
              <a:path w="20440" h="3920">
                <a:moveTo>
                  <a:pt x="2332" y="12080"/>
                </a:moveTo>
                <a:cubicBezTo>
                  <a:pt x="2272" y="12200"/>
                  <a:pt x="2239" y="12301"/>
                  <a:pt x="2208" y="12427"/>
                </a:cubicBezTo>
                <a:cubicBezTo>
                  <a:pt x="2183" y="12530"/>
                  <a:pt x="2192" y="12553"/>
                  <a:pt x="2208" y="12650"/>
                </a:cubicBezTo>
                <a:cubicBezTo>
                  <a:pt x="2219" y="12718"/>
                  <a:pt x="2221" y="12725"/>
                  <a:pt x="2282" y="12750"/>
                </a:cubicBezTo>
                <a:cubicBezTo>
                  <a:pt x="2351" y="12778"/>
                  <a:pt x="2324" y="12764"/>
                  <a:pt x="2381" y="12750"/>
                </a:cubicBezTo>
              </a:path>
              <a:path w="20440" h="3920">
                <a:moveTo>
                  <a:pt x="2654" y="12204"/>
                </a:moveTo>
                <a:cubicBezTo>
                  <a:pt x="2654" y="12283"/>
                  <a:pt x="2633" y="12350"/>
                  <a:pt x="2629" y="12427"/>
                </a:cubicBezTo>
                <a:cubicBezTo>
                  <a:pt x="2627" y="12470"/>
                  <a:pt x="2643" y="12739"/>
                  <a:pt x="2654" y="12725"/>
                </a:cubicBezTo>
                <a:cubicBezTo>
                  <a:pt x="2654" y="12717"/>
                  <a:pt x="2654" y="12708"/>
                  <a:pt x="2654" y="12700"/>
                </a:cubicBezTo>
              </a:path>
              <a:path w="20440" h="3920">
                <a:moveTo>
                  <a:pt x="2853" y="12254"/>
                </a:moveTo>
                <a:cubicBezTo>
                  <a:pt x="2957" y="12231"/>
                  <a:pt x="2979" y="12207"/>
                  <a:pt x="3051" y="12278"/>
                </a:cubicBezTo>
                <a:cubicBezTo>
                  <a:pt x="3099" y="12326"/>
                  <a:pt x="3067" y="12332"/>
                  <a:pt x="3051" y="12378"/>
                </a:cubicBezTo>
                <a:cubicBezTo>
                  <a:pt x="3027" y="12449"/>
                  <a:pt x="3009" y="12423"/>
                  <a:pt x="2952" y="12452"/>
                </a:cubicBezTo>
                <a:cubicBezTo>
                  <a:pt x="2882" y="12487"/>
                  <a:pt x="2974" y="12452"/>
                  <a:pt x="3001" y="12452"/>
                </a:cubicBezTo>
                <a:cubicBezTo>
                  <a:pt x="3068" y="12452"/>
                  <a:pt x="3079" y="12456"/>
                  <a:pt x="3125" y="12502"/>
                </a:cubicBezTo>
                <a:cubicBezTo>
                  <a:pt x="3160" y="12537"/>
                  <a:pt x="3171" y="12602"/>
                  <a:pt x="3175" y="12650"/>
                </a:cubicBezTo>
                <a:cubicBezTo>
                  <a:pt x="3179" y="12702"/>
                  <a:pt x="3161" y="12714"/>
                  <a:pt x="3125" y="12750"/>
                </a:cubicBezTo>
                <a:cubicBezTo>
                  <a:pt x="3091" y="12784"/>
                  <a:pt x="3024" y="12795"/>
                  <a:pt x="2977" y="12799"/>
                </a:cubicBezTo>
                <a:cubicBezTo>
                  <a:pt x="2958" y="12801"/>
                  <a:pt x="2874" y="12749"/>
                  <a:pt x="2877" y="12725"/>
                </a:cubicBezTo>
                <a:cubicBezTo>
                  <a:pt x="2885" y="12717"/>
                  <a:pt x="2894" y="12708"/>
                  <a:pt x="2902" y="12700"/>
                </a:cubicBezTo>
              </a:path>
              <a:path w="20440" h="3920">
                <a:moveTo>
                  <a:pt x="3423" y="12229"/>
                </a:moveTo>
                <a:cubicBezTo>
                  <a:pt x="3514" y="12229"/>
                  <a:pt x="3605" y="12229"/>
                  <a:pt x="3696" y="12229"/>
                </a:cubicBezTo>
              </a:path>
              <a:path w="20440" h="3920">
                <a:moveTo>
                  <a:pt x="3398" y="12204"/>
                </a:moveTo>
                <a:cubicBezTo>
                  <a:pt x="3386" y="12266"/>
                  <a:pt x="3355" y="12346"/>
                  <a:pt x="3349" y="12402"/>
                </a:cubicBezTo>
                <a:cubicBezTo>
                  <a:pt x="3349" y="12427"/>
                  <a:pt x="3349" y="12435"/>
                  <a:pt x="3373" y="12427"/>
                </a:cubicBezTo>
                <a:cubicBezTo>
                  <a:pt x="3410" y="12415"/>
                  <a:pt x="3402" y="12405"/>
                  <a:pt x="3423" y="12378"/>
                </a:cubicBezTo>
                <a:cubicBezTo>
                  <a:pt x="3464" y="12324"/>
                  <a:pt x="3505" y="12365"/>
                  <a:pt x="3547" y="12378"/>
                </a:cubicBezTo>
                <a:cubicBezTo>
                  <a:pt x="3584" y="12389"/>
                  <a:pt x="3587" y="12438"/>
                  <a:pt x="3621" y="12477"/>
                </a:cubicBezTo>
                <a:cubicBezTo>
                  <a:pt x="3662" y="12523"/>
                  <a:pt x="3646" y="12589"/>
                  <a:pt x="3646" y="12650"/>
                </a:cubicBezTo>
                <a:cubicBezTo>
                  <a:pt x="3646" y="12698"/>
                  <a:pt x="3651" y="12750"/>
                  <a:pt x="3597" y="12774"/>
                </a:cubicBezTo>
                <a:cubicBezTo>
                  <a:pt x="3563" y="12789"/>
                  <a:pt x="3538" y="12799"/>
                  <a:pt x="3497" y="12799"/>
                </a:cubicBezTo>
                <a:cubicBezTo>
                  <a:pt x="3445" y="12799"/>
                  <a:pt x="3405" y="12811"/>
                  <a:pt x="3398" y="12750"/>
                </a:cubicBezTo>
                <a:cubicBezTo>
                  <a:pt x="3398" y="12742"/>
                  <a:pt x="3398" y="12733"/>
                  <a:pt x="3398" y="12725"/>
                </a:cubicBezTo>
              </a:path>
              <a:path w="20440" h="3920">
                <a:moveTo>
                  <a:pt x="3870" y="12551"/>
                </a:moveTo>
                <a:cubicBezTo>
                  <a:pt x="3952" y="12551"/>
                  <a:pt x="4018" y="12558"/>
                  <a:pt x="4093" y="12526"/>
                </a:cubicBezTo>
              </a:path>
              <a:path w="20440" h="3920">
                <a:moveTo>
                  <a:pt x="4242" y="12303"/>
                </a:moveTo>
                <a:cubicBezTo>
                  <a:pt x="4294" y="12283"/>
                  <a:pt x="4382" y="12256"/>
                  <a:pt x="4440" y="12278"/>
                </a:cubicBezTo>
                <a:cubicBezTo>
                  <a:pt x="4484" y="12295"/>
                  <a:pt x="4522" y="12328"/>
                  <a:pt x="4539" y="12378"/>
                </a:cubicBezTo>
                <a:cubicBezTo>
                  <a:pt x="4551" y="12414"/>
                  <a:pt x="4468" y="12488"/>
                  <a:pt x="4440" y="12502"/>
                </a:cubicBezTo>
                <a:cubicBezTo>
                  <a:pt x="4409" y="12518"/>
                  <a:pt x="4380" y="12526"/>
                  <a:pt x="4341" y="12526"/>
                </a:cubicBezTo>
                <a:cubicBezTo>
                  <a:pt x="4289" y="12526"/>
                  <a:pt x="4372" y="12508"/>
                  <a:pt x="4390" y="12502"/>
                </a:cubicBezTo>
                <a:cubicBezTo>
                  <a:pt x="4426" y="12490"/>
                  <a:pt x="4461" y="12541"/>
                  <a:pt x="4490" y="12551"/>
                </a:cubicBezTo>
                <a:cubicBezTo>
                  <a:pt x="4549" y="12571"/>
                  <a:pt x="4535" y="12602"/>
                  <a:pt x="4564" y="12650"/>
                </a:cubicBezTo>
                <a:cubicBezTo>
                  <a:pt x="4592" y="12696"/>
                  <a:pt x="4589" y="12749"/>
                  <a:pt x="4564" y="12799"/>
                </a:cubicBezTo>
                <a:cubicBezTo>
                  <a:pt x="4537" y="12853"/>
                  <a:pt x="4491" y="12849"/>
                  <a:pt x="4440" y="12849"/>
                </a:cubicBezTo>
                <a:cubicBezTo>
                  <a:pt x="4384" y="12849"/>
                  <a:pt x="4334" y="12861"/>
                  <a:pt x="4291" y="12824"/>
                </a:cubicBezTo>
                <a:cubicBezTo>
                  <a:pt x="4233" y="12773"/>
                  <a:pt x="4227" y="12754"/>
                  <a:pt x="4266" y="12700"/>
                </a:cubicBezTo>
              </a:path>
              <a:path w="20440" h="3920">
                <a:moveTo>
                  <a:pt x="4787" y="12378"/>
                </a:moveTo>
                <a:cubicBezTo>
                  <a:pt x="4762" y="12421"/>
                  <a:pt x="4608" y="12627"/>
                  <a:pt x="4638" y="12725"/>
                </a:cubicBezTo>
                <a:cubicBezTo>
                  <a:pt x="4661" y="12800"/>
                  <a:pt x="4712" y="12799"/>
                  <a:pt x="4762" y="12824"/>
                </a:cubicBezTo>
                <a:cubicBezTo>
                  <a:pt x="4820" y="12853"/>
                  <a:pt x="4871" y="12864"/>
                  <a:pt x="4936" y="12824"/>
                </a:cubicBezTo>
                <a:cubicBezTo>
                  <a:pt x="4968" y="12804"/>
                  <a:pt x="5026" y="12712"/>
                  <a:pt x="5035" y="12675"/>
                </a:cubicBezTo>
                <a:cubicBezTo>
                  <a:pt x="5051" y="12607"/>
                  <a:pt x="5030" y="12551"/>
                  <a:pt x="4986" y="12502"/>
                </a:cubicBezTo>
                <a:cubicBezTo>
                  <a:pt x="4958" y="12471"/>
                  <a:pt x="4876" y="12423"/>
                  <a:pt x="4862" y="12402"/>
                </a:cubicBezTo>
                <a:cubicBezTo>
                  <a:pt x="4840" y="12369"/>
                  <a:pt x="4870" y="12397"/>
                  <a:pt x="4887" y="12402"/>
                </a:cubicBezTo>
              </a:path>
              <a:path w="20440" h="3920">
                <a:moveTo>
                  <a:pt x="5159" y="11981"/>
                </a:moveTo>
                <a:cubicBezTo>
                  <a:pt x="5237" y="12058"/>
                  <a:pt x="5273" y="12113"/>
                  <a:pt x="5333" y="12204"/>
                </a:cubicBezTo>
                <a:cubicBezTo>
                  <a:pt x="5400" y="12306"/>
                  <a:pt x="5441" y="12429"/>
                  <a:pt x="5457" y="12551"/>
                </a:cubicBezTo>
                <a:cubicBezTo>
                  <a:pt x="5467" y="12630"/>
                  <a:pt x="5456" y="12727"/>
                  <a:pt x="5432" y="12799"/>
                </a:cubicBezTo>
                <a:cubicBezTo>
                  <a:pt x="5409" y="12868"/>
                  <a:pt x="5346" y="12893"/>
                  <a:pt x="5283" y="12898"/>
                </a:cubicBezTo>
                <a:cubicBezTo>
                  <a:pt x="5242" y="12901"/>
                  <a:pt x="5200" y="12898"/>
                  <a:pt x="5159" y="12898"/>
                </a:cubicBezTo>
                <a:cubicBezTo>
                  <a:pt x="5171" y="12851"/>
                  <a:pt x="5194" y="12839"/>
                  <a:pt x="5234" y="12799"/>
                </a:cubicBezTo>
              </a:path>
              <a:path w="20440" h="3920">
                <a:moveTo>
                  <a:pt x="5829" y="12526"/>
                </a:moveTo>
                <a:cubicBezTo>
                  <a:pt x="5880" y="12545"/>
                  <a:pt x="5899" y="12551"/>
                  <a:pt x="5953" y="12551"/>
                </a:cubicBezTo>
              </a:path>
              <a:path w="20440" h="3920">
                <a:moveTo>
                  <a:pt x="5755" y="12725"/>
                </a:moveTo>
                <a:cubicBezTo>
                  <a:pt x="5840" y="12725"/>
                  <a:pt x="5901" y="12729"/>
                  <a:pt x="5978" y="12700"/>
                </a:cubicBezTo>
              </a:path>
              <a:path w="20440" h="3920">
                <a:moveTo>
                  <a:pt x="6623" y="12254"/>
                </a:moveTo>
                <a:cubicBezTo>
                  <a:pt x="6656" y="12308"/>
                  <a:pt x="6648" y="12359"/>
                  <a:pt x="6648" y="12427"/>
                </a:cubicBezTo>
                <a:cubicBezTo>
                  <a:pt x="6648" y="12527"/>
                  <a:pt x="6649" y="12614"/>
                  <a:pt x="6623" y="12700"/>
                </a:cubicBezTo>
                <a:cubicBezTo>
                  <a:pt x="6614" y="12729"/>
                  <a:pt x="6623" y="12769"/>
                  <a:pt x="6623" y="12799"/>
                </a:cubicBezTo>
              </a:path>
              <a:path w="20440" h="3920">
                <a:moveTo>
                  <a:pt x="6424" y="12502"/>
                </a:moveTo>
                <a:cubicBezTo>
                  <a:pt x="6449" y="12477"/>
                  <a:pt x="6522" y="12502"/>
                  <a:pt x="6573" y="12502"/>
                </a:cubicBezTo>
              </a:path>
              <a:path w="20440" h="3920">
                <a:moveTo>
                  <a:pt x="7094" y="12502"/>
                </a:moveTo>
                <a:cubicBezTo>
                  <a:pt x="7012" y="12534"/>
                  <a:pt x="6990" y="12551"/>
                  <a:pt x="6945" y="12626"/>
                </a:cubicBezTo>
                <a:cubicBezTo>
                  <a:pt x="6930" y="12652"/>
                  <a:pt x="6875" y="12714"/>
                  <a:pt x="6896" y="12750"/>
                </a:cubicBezTo>
                <a:cubicBezTo>
                  <a:pt x="6929" y="12808"/>
                  <a:pt x="6925" y="12774"/>
                  <a:pt x="6970" y="12799"/>
                </a:cubicBezTo>
                <a:cubicBezTo>
                  <a:pt x="7010" y="12821"/>
                  <a:pt x="7029" y="12809"/>
                  <a:pt x="7069" y="12774"/>
                </a:cubicBezTo>
                <a:cubicBezTo>
                  <a:pt x="7108" y="12740"/>
                  <a:pt x="7094" y="12699"/>
                  <a:pt x="7094" y="12650"/>
                </a:cubicBezTo>
                <a:cubicBezTo>
                  <a:pt x="7094" y="12625"/>
                  <a:pt x="7094" y="12601"/>
                  <a:pt x="7094" y="12576"/>
                </a:cubicBezTo>
                <a:cubicBezTo>
                  <a:pt x="7094" y="12643"/>
                  <a:pt x="7101" y="12672"/>
                  <a:pt x="7119" y="12725"/>
                </a:cubicBezTo>
                <a:cubicBezTo>
                  <a:pt x="7125" y="12744"/>
                  <a:pt x="7165" y="12805"/>
                  <a:pt x="7193" y="12799"/>
                </a:cubicBezTo>
                <a:cubicBezTo>
                  <a:pt x="7212" y="12795"/>
                  <a:pt x="7254" y="12739"/>
                  <a:pt x="7268" y="12725"/>
                </a:cubicBezTo>
              </a:path>
              <a:path w="20440" h="3920">
                <a:moveTo>
                  <a:pt x="7317" y="12576"/>
                </a:moveTo>
                <a:cubicBezTo>
                  <a:pt x="7317" y="12660"/>
                  <a:pt x="7319" y="12706"/>
                  <a:pt x="7342" y="12774"/>
                </a:cubicBezTo>
                <a:cubicBezTo>
                  <a:pt x="7342" y="12782"/>
                  <a:pt x="7342" y="12791"/>
                  <a:pt x="7342" y="12799"/>
                </a:cubicBezTo>
                <a:cubicBezTo>
                  <a:pt x="7381" y="12747"/>
                  <a:pt x="7343" y="12733"/>
                  <a:pt x="7367" y="12675"/>
                </a:cubicBezTo>
                <a:cubicBezTo>
                  <a:pt x="7382" y="12640"/>
                  <a:pt x="7416" y="12584"/>
                  <a:pt x="7441" y="12551"/>
                </a:cubicBezTo>
                <a:cubicBezTo>
                  <a:pt x="7454" y="12534"/>
                  <a:pt x="7548" y="12500"/>
                  <a:pt x="7565" y="12526"/>
                </a:cubicBezTo>
                <a:cubicBezTo>
                  <a:pt x="7601" y="12579"/>
                  <a:pt x="7622" y="12692"/>
                  <a:pt x="7640" y="12750"/>
                </a:cubicBezTo>
                <a:cubicBezTo>
                  <a:pt x="7652" y="12790"/>
                  <a:pt x="7615" y="12818"/>
                  <a:pt x="7665" y="12824"/>
                </a:cubicBezTo>
                <a:cubicBezTo>
                  <a:pt x="7689" y="12824"/>
                  <a:pt x="7697" y="12824"/>
                  <a:pt x="7689" y="12799"/>
                </a:cubicBezTo>
              </a:path>
              <a:path w="20440" h="3920">
                <a:moveTo>
                  <a:pt x="7938" y="12402"/>
                </a:moveTo>
                <a:cubicBezTo>
                  <a:pt x="7938" y="12513"/>
                  <a:pt x="7945" y="12585"/>
                  <a:pt x="7962" y="12675"/>
                </a:cubicBezTo>
                <a:cubicBezTo>
                  <a:pt x="7971" y="12720"/>
                  <a:pt x="7983" y="12760"/>
                  <a:pt x="7987" y="12799"/>
                </a:cubicBezTo>
                <a:cubicBezTo>
                  <a:pt x="7987" y="12827"/>
                  <a:pt x="7989" y="12833"/>
                  <a:pt x="8012" y="12799"/>
                </a:cubicBezTo>
              </a:path>
              <a:path w="20440" h="3920">
                <a:moveTo>
                  <a:pt x="8111" y="12427"/>
                </a:moveTo>
                <a:cubicBezTo>
                  <a:pt x="8190" y="12393"/>
                  <a:pt x="8239" y="12354"/>
                  <a:pt x="8310" y="12402"/>
                </a:cubicBezTo>
                <a:cubicBezTo>
                  <a:pt x="8357" y="12434"/>
                  <a:pt x="8341" y="12473"/>
                  <a:pt x="8334" y="12502"/>
                </a:cubicBezTo>
                <a:cubicBezTo>
                  <a:pt x="8330" y="12520"/>
                  <a:pt x="8289" y="12563"/>
                  <a:pt x="8260" y="12576"/>
                </a:cubicBezTo>
                <a:cubicBezTo>
                  <a:pt x="8223" y="12593"/>
                  <a:pt x="8191" y="12576"/>
                  <a:pt x="8260" y="12576"/>
                </a:cubicBezTo>
                <a:cubicBezTo>
                  <a:pt x="8305" y="12576"/>
                  <a:pt x="8362" y="12602"/>
                  <a:pt x="8384" y="12650"/>
                </a:cubicBezTo>
                <a:cubicBezTo>
                  <a:pt x="8403" y="12691"/>
                  <a:pt x="8385" y="12745"/>
                  <a:pt x="8359" y="12774"/>
                </a:cubicBezTo>
                <a:cubicBezTo>
                  <a:pt x="8328" y="12808"/>
                  <a:pt x="8303" y="12799"/>
                  <a:pt x="8260" y="12799"/>
                </a:cubicBezTo>
                <a:cubicBezTo>
                  <a:pt x="8207" y="12799"/>
                  <a:pt x="8210" y="12767"/>
                  <a:pt x="8210" y="12725"/>
                </a:cubicBezTo>
              </a:path>
              <a:path w="20440" h="3920">
                <a:moveTo>
                  <a:pt x="8682" y="12452"/>
                </a:moveTo>
                <a:cubicBezTo>
                  <a:pt x="8752" y="12473"/>
                  <a:pt x="8784" y="12477"/>
                  <a:pt x="8855" y="12477"/>
                </a:cubicBezTo>
                <a:cubicBezTo>
                  <a:pt x="8899" y="12477"/>
                  <a:pt x="8895" y="12478"/>
                  <a:pt x="8930" y="12452"/>
                </a:cubicBezTo>
              </a:path>
              <a:path w="20440" h="3920">
                <a:moveTo>
                  <a:pt x="8706" y="12427"/>
                </a:moveTo>
                <a:cubicBezTo>
                  <a:pt x="8676" y="12497"/>
                  <a:pt x="8657" y="12491"/>
                  <a:pt x="8657" y="12551"/>
                </a:cubicBezTo>
                <a:cubicBezTo>
                  <a:pt x="8657" y="12559"/>
                  <a:pt x="8657" y="12568"/>
                  <a:pt x="8657" y="12576"/>
                </a:cubicBezTo>
                <a:cubicBezTo>
                  <a:pt x="8736" y="12576"/>
                  <a:pt x="8831" y="12550"/>
                  <a:pt x="8880" y="12626"/>
                </a:cubicBezTo>
                <a:cubicBezTo>
                  <a:pt x="8898" y="12654"/>
                  <a:pt x="8905" y="12688"/>
                  <a:pt x="8905" y="12725"/>
                </a:cubicBezTo>
                <a:cubicBezTo>
                  <a:pt x="8905" y="12782"/>
                  <a:pt x="8892" y="12795"/>
                  <a:pt x="8855" y="12824"/>
                </a:cubicBezTo>
                <a:cubicBezTo>
                  <a:pt x="8811" y="12858"/>
                  <a:pt x="8813" y="12874"/>
                  <a:pt x="8756" y="12874"/>
                </a:cubicBezTo>
                <a:cubicBezTo>
                  <a:pt x="8724" y="12874"/>
                  <a:pt x="8711" y="12891"/>
                  <a:pt x="8682" y="12898"/>
                </a:cubicBezTo>
                <a:cubicBezTo>
                  <a:pt x="8695" y="12859"/>
                  <a:pt x="8693" y="12889"/>
                  <a:pt x="8706" y="12849"/>
                </a:cubicBezTo>
              </a:path>
              <a:path w="20440" h="3920">
                <a:moveTo>
                  <a:pt x="9004" y="12774"/>
                </a:moveTo>
                <a:cubicBezTo>
                  <a:pt x="9086" y="12774"/>
                  <a:pt x="9157" y="12775"/>
                  <a:pt x="9227" y="12799"/>
                </a:cubicBezTo>
                <a:cubicBezTo>
                  <a:pt x="9269" y="12813"/>
                  <a:pt x="9317" y="12803"/>
                  <a:pt x="9327" y="12774"/>
                </a:cubicBezTo>
                <a:cubicBezTo>
                  <a:pt x="9327" y="12782"/>
                  <a:pt x="9327" y="12791"/>
                  <a:pt x="9327" y="12799"/>
                </a:cubicBezTo>
              </a:path>
              <a:path w="20440" h="3920">
                <a:moveTo>
                  <a:pt x="9798" y="12378"/>
                </a:moveTo>
                <a:cubicBezTo>
                  <a:pt x="9816" y="12442"/>
                  <a:pt x="9843" y="12532"/>
                  <a:pt x="9823" y="12601"/>
                </a:cubicBezTo>
                <a:cubicBezTo>
                  <a:pt x="9808" y="12655"/>
                  <a:pt x="9815" y="12723"/>
                  <a:pt x="9798" y="12774"/>
                </a:cubicBezTo>
                <a:cubicBezTo>
                  <a:pt x="9780" y="12828"/>
                  <a:pt x="9773" y="12843"/>
                  <a:pt x="9773" y="12898"/>
                </a:cubicBezTo>
              </a:path>
              <a:path w="20440" h="3920">
                <a:moveTo>
                  <a:pt x="9575" y="12576"/>
                </a:moveTo>
                <a:cubicBezTo>
                  <a:pt x="9585" y="12607"/>
                  <a:pt x="9655" y="12619"/>
                  <a:pt x="9699" y="12626"/>
                </a:cubicBezTo>
                <a:cubicBezTo>
                  <a:pt x="9787" y="12641"/>
                  <a:pt x="9867" y="12615"/>
                  <a:pt x="9947" y="12601"/>
                </a:cubicBezTo>
                <a:cubicBezTo>
                  <a:pt x="9996" y="12593"/>
                  <a:pt x="10049" y="12581"/>
                  <a:pt x="10096" y="12576"/>
                </a:cubicBezTo>
                <a:cubicBezTo>
                  <a:pt x="10104" y="12576"/>
                  <a:pt x="10112" y="12576"/>
                  <a:pt x="10120" y="12576"/>
                </a:cubicBezTo>
                <a:cubicBezTo>
                  <a:pt x="10120" y="12655"/>
                  <a:pt x="10086" y="12618"/>
                  <a:pt x="10021" y="12700"/>
                </a:cubicBezTo>
                <a:cubicBezTo>
                  <a:pt x="9988" y="12741"/>
                  <a:pt x="9971" y="12774"/>
                  <a:pt x="9971" y="12824"/>
                </a:cubicBezTo>
                <a:cubicBezTo>
                  <a:pt x="9971" y="12849"/>
                  <a:pt x="9971" y="12857"/>
                  <a:pt x="9971" y="12874"/>
                </a:cubicBezTo>
                <a:cubicBezTo>
                  <a:pt x="10007" y="12874"/>
                  <a:pt x="10044" y="12867"/>
                  <a:pt x="10071" y="12849"/>
                </a:cubicBezTo>
                <a:cubicBezTo>
                  <a:pt x="10105" y="12826"/>
                  <a:pt x="10133" y="12734"/>
                  <a:pt x="10145" y="12700"/>
                </a:cubicBezTo>
                <a:cubicBezTo>
                  <a:pt x="10145" y="12692"/>
                  <a:pt x="10145" y="12683"/>
                  <a:pt x="10145" y="12675"/>
                </a:cubicBezTo>
                <a:cubicBezTo>
                  <a:pt x="10145" y="12722"/>
                  <a:pt x="10165" y="12754"/>
                  <a:pt x="10170" y="12799"/>
                </a:cubicBezTo>
                <a:cubicBezTo>
                  <a:pt x="10172" y="12817"/>
                  <a:pt x="10217" y="12862"/>
                  <a:pt x="10244" y="12874"/>
                </a:cubicBezTo>
                <a:cubicBezTo>
                  <a:pt x="10267" y="12884"/>
                  <a:pt x="10297" y="12855"/>
                  <a:pt x="10319" y="12849"/>
                </a:cubicBezTo>
              </a:path>
              <a:path w="20440" h="3920">
                <a:moveTo>
                  <a:pt x="10368" y="12675"/>
                </a:moveTo>
                <a:cubicBezTo>
                  <a:pt x="10368" y="12749"/>
                  <a:pt x="10386" y="12789"/>
                  <a:pt x="10393" y="12849"/>
                </a:cubicBezTo>
                <a:cubicBezTo>
                  <a:pt x="10398" y="12892"/>
                  <a:pt x="10404" y="12843"/>
                  <a:pt x="10418" y="12824"/>
                </a:cubicBezTo>
                <a:cubicBezTo>
                  <a:pt x="10444" y="12789"/>
                  <a:pt x="10456" y="12721"/>
                  <a:pt x="10468" y="12675"/>
                </a:cubicBezTo>
                <a:cubicBezTo>
                  <a:pt x="10477" y="12641"/>
                  <a:pt x="10483" y="12603"/>
                  <a:pt x="10517" y="12601"/>
                </a:cubicBezTo>
                <a:cubicBezTo>
                  <a:pt x="10627" y="12595"/>
                  <a:pt x="10601" y="12626"/>
                  <a:pt x="10641" y="12700"/>
                </a:cubicBezTo>
                <a:cubicBezTo>
                  <a:pt x="10665" y="12746"/>
                  <a:pt x="10676" y="12805"/>
                  <a:pt x="10691" y="12849"/>
                </a:cubicBezTo>
                <a:cubicBezTo>
                  <a:pt x="10693" y="12856"/>
                  <a:pt x="10697" y="12967"/>
                  <a:pt x="10740" y="12923"/>
                </a:cubicBezTo>
                <a:cubicBezTo>
                  <a:pt x="10740" y="12895"/>
                  <a:pt x="10742" y="12884"/>
                  <a:pt x="10765" y="12874"/>
                </a:cubicBezTo>
              </a:path>
              <a:path w="20440" h="3920">
                <a:moveTo>
                  <a:pt x="10864" y="12477"/>
                </a:moveTo>
                <a:cubicBezTo>
                  <a:pt x="10948" y="12466"/>
                  <a:pt x="10960" y="12463"/>
                  <a:pt x="11038" y="12477"/>
                </a:cubicBezTo>
                <a:cubicBezTo>
                  <a:pt x="11101" y="12488"/>
                  <a:pt x="11122" y="12489"/>
                  <a:pt x="11162" y="12502"/>
                </a:cubicBezTo>
                <a:cubicBezTo>
                  <a:pt x="11150" y="12535"/>
                  <a:pt x="11142" y="12537"/>
                  <a:pt x="11112" y="12551"/>
                </a:cubicBezTo>
                <a:cubicBezTo>
                  <a:pt x="11072" y="12571"/>
                  <a:pt x="11066" y="12580"/>
                  <a:pt x="11038" y="12576"/>
                </a:cubicBezTo>
                <a:cubicBezTo>
                  <a:pt x="11048" y="12616"/>
                  <a:pt x="11076" y="12638"/>
                  <a:pt x="11088" y="12675"/>
                </a:cubicBezTo>
                <a:cubicBezTo>
                  <a:pt x="11101" y="12715"/>
                  <a:pt x="11112" y="12755"/>
                  <a:pt x="11112" y="12799"/>
                </a:cubicBezTo>
                <a:cubicBezTo>
                  <a:pt x="11112" y="12868"/>
                  <a:pt x="11073" y="12829"/>
                  <a:pt x="11038" y="12849"/>
                </a:cubicBezTo>
                <a:cubicBezTo>
                  <a:pt x="11016" y="12861"/>
                  <a:pt x="10973" y="12868"/>
                  <a:pt x="10939" y="12849"/>
                </a:cubicBezTo>
                <a:cubicBezTo>
                  <a:pt x="10901" y="12828"/>
                  <a:pt x="10914" y="12786"/>
                  <a:pt x="10914" y="12750"/>
                </a:cubicBezTo>
              </a:path>
              <a:path w="20440" h="3920">
                <a:moveTo>
                  <a:pt x="11410" y="12526"/>
                </a:moveTo>
                <a:cubicBezTo>
                  <a:pt x="11382" y="12603"/>
                  <a:pt x="11356" y="12674"/>
                  <a:pt x="11336" y="12750"/>
                </a:cubicBezTo>
                <a:cubicBezTo>
                  <a:pt x="11317" y="12823"/>
                  <a:pt x="11291" y="12856"/>
                  <a:pt x="11336" y="12923"/>
                </a:cubicBezTo>
                <a:cubicBezTo>
                  <a:pt x="11374" y="12979"/>
                  <a:pt x="11422" y="12993"/>
                  <a:pt x="11485" y="12998"/>
                </a:cubicBezTo>
                <a:cubicBezTo>
                  <a:pt x="11530" y="13002"/>
                  <a:pt x="11606" y="12960"/>
                  <a:pt x="11633" y="12923"/>
                </a:cubicBezTo>
                <a:cubicBezTo>
                  <a:pt x="11665" y="12879"/>
                  <a:pt x="11700" y="12807"/>
                  <a:pt x="11683" y="12750"/>
                </a:cubicBezTo>
                <a:cubicBezTo>
                  <a:pt x="11662" y="12679"/>
                  <a:pt x="11618" y="12620"/>
                  <a:pt x="11584" y="12576"/>
                </a:cubicBezTo>
                <a:cubicBezTo>
                  <a:pt x="11552" y="12534"/>
                  <a:pt x="11517" y="12535"/>
                  <a:pt x="11485" y="12551"/>
                </a:cubicBezTo>
              </a:path>
              <a:path w="20440" h="3920">
                <a:moveTo>
                  <a:pt x="7169" y="13767"/>
                </a:moveTo>
                <a:cubicBezTo>
                  <a:pt x="7169" y="13896"/>
                  <a:pt x="7162" y="13993"/>
                  <a:pt x="7144" y="14114"/>
                </a:cubicBezTo>
                <a:cubicBezTo>
                  <a:pt x="7134" y="14185"/>
                  <a:pt x="7153" y="14225"/>
                  <a:pt x="7169" y="14288"/>
                </a:cubicBezTo>
                <a:cubicBezTo>
                  <a:pt x="7169" y="14312"/>
                  <a:pt x="7169" y="14320"/>
                  <a:pt x="7193" y="14312"/>
                </a:cubicBezTo>
              </a:path>
              <a:path w="20440" h="3920">
                <a:moveTo>
                  <a:pt x="7689" y="13742"/>
                </a:moveTo>
                <a:cubicBezTo>
                  <a:pt x="7769" y="13798"/>
                  <a:pt x="7785" y="13839"/>
                  <a:pt x="7789" y="13940"/>
                </a:cubicBezTo>
                <a:cubicBezTo>
                  <a:pt x="7792" y="14026"/>
                  <a:pt x="7813" y="14101"/>
                  <a:pt x="7813" y="14188"/>
                </a:cubicBezTo>
                <a:cubicBezTo>
                  <a:pt x="7813" y="14221"/>
                  <a:pt x="7813" y="14255"/>
                  <a:pt x="7813" y="14288"/>
                </a:cubicBezTo>
              </a:path>
              <a:path w="20440" h="3920">
                <a:moveTo>
                  <a:pt x="7615" y="13965"/>
                </a:moveTo>
                <a:cubicBezTo>
                  <a:pt x="7666" y="14016"/>
                  <a:pt x="7714" y="14029"/>
                  <a:pt x="7789" y="14039"/>
                </a:cubicBezTo>
                <a:cubicBezTo>
                  <a:pt x="7898" y="14054"/>
                  <a:pt x="7964" y="14031"/>
                  <a:pt x="8062" y="13990"/>
                </a:cubicBezTo>
              </a:path>
              <a:path w="20440" h="3920">
                <a:moveTo>
                  <a:pt x="8434" y="13742"/>
                </a:moveTo>
                <a:cubicBezTo>
                  <a:pt x="8453" y="13856"/>
                  <a:pt x="8458" y="13949"/>
                  <a:pt x="8458" y="14064"/>
                </a:cubicBezTo>
                <a:cubicBezTo>
                  <a:pt x="8458" y="14128"/>
                  <a:pt x="8483" y="14172"/>
                  <a:pt x="8483" y="14238"/>
                </a:cubicBezTo>
                <a:cubicBezTo>
                  <a:pt x="8483" y="14246"/>
                  <a:pt x="8483" y="14255"/>
                  <a:pt x="8483" y="14263"/>
                </a:cubicBezTo>
              </a:path>
              <a:path w="20440" h="3920">
                <a:moveTo>
                  <a:pt x="8285" y="13965"/>
                </a:moveTo>
                <a:cubicBezTo>
                  <a:pt x="8360" y="13994"/>
                  <a:pt x="8426" y="14011"/>
                  <a:pt x="8508" y="14015"/>
                </a:cubicBezTo>
                <a:cubicBezTo>
                  <a:pt x="8592" y="14019"/>
                  <a:pt x="8654" y="14008"/>
                  <a:pt x="8731" y="13990"/>
                </a:cubicBezTo>
                <a:cubicBezTo>
                  <a:pt x="8764" y="13982"/>
                  <a:pt x="8796" y="13972"/>
                  <a:pt x="8830" y="13965"/>
                </a:cubicBezTo>
                <a:cubicBezTo>
                  <a:pt x="8806" y="14007"/>
                  <a:pt x="8775" y="14067"/>
                  <a:pt x="8756" y="14114"/>
                </a:cubicBezTo>
                <a:cubicBezTo>
                  <a:pt x="8738" y="14159"/>
                  <a:pt x="8763" y="14239"/>
                  <a:pt x="8806" y="14263"/>
                </a:cubicBezTo>
                <a:cubicBezTo>
                  <a:pt x="8850" y="14288"/>
                  <a:pt x="8860" y="14236"/>
                  <a:pt x="8880" y="14213"/>
                </a:cubicBezTo>
                <a:cubicBezTo>
                  <a:pt x="8912" y="14177"/>
                  <a:pt x="8907" y="14128"/>
                  <a:pt x="8930" y="14089"/>
                </a:cubicBezTo>
                <a:cubicBezTo>
                  <a:pt x="8959" y="14039"/>
                  <a:pt x="8954" y="14031"/>
                  <a:pt x="8954" y="14089"/>
                </a:cubicBezTo>
                <a:cubicBezTo>
                  <a:pt x="8954" y="14148"/>
                  <a:pt x="8964" y="14167"/>
                  <a:pt x="8979" y="14213"/>
                </a:cubicBezTo>
                <a:cubicBezTo>
                  <a:pt x="8993" y="14255"/>
                  <a:pt x="9010" y="14254"/>
                  <a:pt x="9054" y="14263"/>
                </a:cubicBezTo>
              </a:path>
              <a:path w="20440" h="3920">
                <a:moveTo>
                  <a:pt x="9178" y="14015"/>
                </a:moveTo>
                <a:cubicBezTo>
                  <a:pt x="9178" y="14088"/>
                  <a:pt x="9158" y="14205"/>
                  <a:pt x="9203" y="14263"/>
                </a:cubicBezTo>
                <a:cubicBezTo>
                  <a:pt x="9211" y="14271"/>
                  <a:pt x="9219" y="14280"/>
                  <a:pt x="9227" y="14288"/>
                </a:cubicBezTo>
                <a:cubicBezTo>
                  <a:pt x="9236" y="14234"/>
                  <a:pt x="9255" y="14137"/>
                  <a:pt x="9277" y="14089"/>
                </a:cubicBezTo>
                <a:cubicBezTo>
                  <a:pt x="9298" y="14044"/>
                  <a:pt x="9317" y="14038"/>
                  <a:pt x="9351" y="14015"/>
                </a:cubicBezTo>
                <a:cubicBezTo>
                  <a:pt x="9398" y="13984"/>
                  <a:pt x="9423" y="14013"/>
                  <a:pt x="9451" y="14064"/>
                </a:cubicBezTo>
                <a:cubicBezTo>
                  <a:pt x="9483" y="14121"/>
                  <a:pt x="9494" y="14225"/>
                  <a:pt x="9500" y="14288"/>
                </a:cubicBezTo>
                <a:cubicBezTo>
                  <a:pt x="9508" y="14362"/>
                  <a:pt x="9540" y="14322"/>
                  <a:pt x="9575" y="14288"/>
                </a:cubicBezTo>
              </a:path>
              <a:path w="20440" h="3920">
                <a:moveTo>
                  <a:pt x="9723" y="13841"/>
                </a:moveTo>
                <a:cubicBezTo>
                  <a:pt x="9731" y="13824"/>
                  <a:pt x="9740" y="13808"/>
                  <a:pt x="9748" y="13791"/>
                </a:cubicBezTo>
                <a:cubicBezTo>
                  <a:pt x="9748" y="13940"/>
                  <a:pt x="9733" y="14105"/>
                  <a:pt x="9773" y="14238"/>
                </a:cubicBezTo>
                <a:cubicBezTo>
                  <a:pt x="9785" y="14278"/>
                  <a:pt x="9781" y="14278"/>
                  <a:pt x="9823" y="14288"/>
                </a:cubicBezTo>
              </a:path>
              <a:path w="20440" h="3920">
                <a:moveTo>
                  <a:pt x="9971" y="13816"/>
                </a:moveTo>
                <a:cubicBezTo>
                  <a:pt x="10062" y="13791"/>
                  <a:pt x="10097" y="13775"/>
                  <a:pt x="10170" y="13841"/>
                </a:cubicBezTo>
                <a:cubicBezTo>
                  <a:pt x="10219" y="13886"/>
                  <a:pt x="10182" y="13903"/>
                  <a:pt x="10145" y="13940"/>
                </a:cubicBezTo>
                <a:cubicBezTo>
                  <a:pt x="10113" y="13971"/>
                  <a:pt x="10088" y="13982"/>
                  <a:pt x="10046" y="13990"/>
                </a:cubicBezTo>
                <a:cubicBezTo>
                  <a:pt x="10054" y="14013"/>
                  <a:pt x="10088" y="14043"/>
                  <a:pt x="10120" y="14064"/>
                </a:cubicBezTo>
                <a:cubicBezTo>
                  <a:pt x="10199" y="14115"/>
                  <a:pt x="10195" y="14117"/>
                  <a:pt x="10195" y="14213"/>
                </a:cubicBezTo>
                <a:cubicBezTo>
                  <a:pt x="10195" y="14265"/>
                  <a:pt x="10178" y="14300"/>
                  <a:pt x="10145" y="14337"/>
                </a:cubicBezTo>
                <a:cubicBezTo>
                  <a:pt x="10110" y="14376"/>
                  <a:pt x="10081" y="14369"/>
                  <a:pt x="10046" y="14337"/>
                </a:cubicBezTo>
                <a:cubicBezTo>
                  <a:pt x="10011" y="14306"/>
                  <a:pt x="10047" y="14252"/>
                  <a:pt x="10071" y="14213"/>
                </a:cubicBezTo>
              </a:path>
              <a:path w="20440" h="3920">
                <a:moveTo>
                  <a:pt x="10443" y="13866"/>
                </a:moveTo>
                <a:cubicBezTo>
                  <a:pt x="10566" y="13866"/>
                  <a:pt x="10642" y="13883"/>
                  <a:pt x="10740" y="13816"/>
                </a:cubicBezTo>
              </a:path>
              <a:path w="20440" h="3920">
                <a:moveTo>
                  <a:pt x="10443" y="13841"/>
                </a:moveTo>
                <a:cubicBezTo>
                  <a:pt x="10379" y="13915"/>
                  <a:pt x="10377" y="13936"/>
                  <a:pt x="10468" y="13990"/>
                </a:cubicBezTo>
                <a:cubicBezTo>
                  <a:pt x="10528" y="14026"/>
                  <a:pt x="10557" y="14043"/>
                  <a:pt x="10616" y="14064"/>
                </a:cubicBezTo>
                <a:cubicBezTo>
                  <a:pt x="10663" y="14081"/>
                  <a:pt x="10722" y="14143"/>
                  <a:pt x="10716" y="14188"/>
                </a:cubicBezTo>
                <a:cubicBezTo>
                  <a:pt x="10711" y="14223"/>
                  <a:pt x="10678" y="14296"/>
                  <a:pt x="10641" y="14312"/>
                </a:cubicBezTo>
                <a:cubicBezTo>
                  <a:pt x="10587" y="14335"/>
                  <a:pt x="10533" y="14301"/>
                  <a:pt x="10492" y="14288"/>
                </a:cubicBezTo>
                <a:cubicBezTo>
                  <a:pt x="10455" y="14276"/>
                  <a:pt x="10410" y="14238"/>
                  <a:pt x="10443" y="14188"/>
                </a:cubicBezTo>
                <a:cubicBezTo>
                  <a:pt x="10459" y="14172"/>
                  <a:pt x="10476" y="14155"/>
                  <a:pt x="10492" y="14139"/>
                </a:cubicBezTo>
              </a:path>
              <a:path w="20440" h="3920">
                <a:moveTo>
                  <a:pt x="11013" y="13891"/>
                </a:moveTo>
                <a:cubicBezTo>
                  <a:pt x="11032" y="14002"/>
                  <a:pt x="11034" y="14132"/>
                  <a:pt x="11063" y="14238"/>
                </a:cubicBezTo>
                <a:cubicBezTo>
                  <a:pt x="11077" y="14290"/>
                  <a:pt x="11082" y="14346"/>
                  <a:pt x="11112" y="14387"/>
                </a:cubicBezTo>
              </a:path>
              <a:path w="20440" h="3920">
                <a:moveTo>
                  <a:pt x="10914" y="14039"/>
                </a:moveTo>
                <a:cubicBezTo>
                  <a:pt x="10962" y="14068"/>
                  <a:pt x="11051" y="14080"/>
                  <a:pt x="11112" y="14089"/>
                </a:cubicBezTo>
                <a:cubicBezTo>
                  <a:pt x="11192" y="14101"/>
                  <a:pt x="11263" y="14084"/>
                  <a:pt x="11336" y="14064"/>
                </a:cubicBezTo>
              </a:path>
              <a:path w="20440" h="3920">
                <a:moveTo>
                  <a:pt x="11385" y="14064"/>
                </a:moveTo>
                <a:cubicBezTo>
                  <a:pt x="11374" y="14110"/>
                  <a:pt x="11335" y="14142"/>
                  <a:pt x="11311" y="14188"/>
                </a:cubicBezTo>
                <a:cubicBezTo>
                  <a:pt x="11296" y="14215"/>
                  <a:pt x="11240" y="14275"/>
                  <a:pt x="11261" y="14312"/>
                </a:cubicBezTo>
                <a:cubicBezTo>
                  <a:pt x="11293" y="14369"/>
                  <a:pt x="11328" y="14323"/>
                  <a:pt x="11361" y="14312"/>
                </a:cubicBezTo>
                <a:cubicBezTo>
                  <a:pt x="11389" y="14302"/>
                  <a:pt x="11421" y="14256"/>
                  <a:pt x="11435" y="14213"/>
                </a:cubicBezTo>
                <a:cubicBezTo>
                  <a:pt x="11435" y="14205"/>
                  <a:pt x="11435" y="14196"/>
                  <a:pt x="11435" y="14188"/>
                </a:cubicBezTo>
                <a:cubicBezTo>
                  <a:pt x="11484" y="14221"/>
                  <a:pt x="11433" y="14258"/>
                  <a:pt x="11460" y="14312"/>
                </a:cubicBezTo>
                <a:cubicBezTo>
                  <a:pt x="11476" y="14344"/>
                  <a:pt x="11505" y="14355"/>
                  <a:pt x="11534" y="14362"/>
                </a:cubicBezTo>
              </a:path>
              <a:path w="20440" h="3920">
                <a:moveTo>
                  <a:pt x="11633" y="14089"/>
                </a:moveTo>
                <a:cubicBezTo>
                  <a:pt x="11633" y="14232"/>
                  <a:pt x="11627" y="14260"/>
                  <a:pt x="11658" y="14362"/>
                </a:cubicBezTo>
                <a:cubicBezTo>
                  <a:pt x="11658" y="14387"/>
                  <a:pt x="11658" y="14395"/>
                  <a:pt x="11683" y="14387"/>
                </a:cubicBezTo>
                <a:cubicBezTo>
                  <a:pt x="11683" y="14334"/>
                  <a:pt x="11699" y="14313"/>
                  <a:pt x="11708" y="14263"/>
                </a:cubicBezTo>
                <a:cubicBezTo>
                  <a:pt x="11720" y="14196"/>
                  <a:pt x="11693" y="14150"/>
                  <a:pt x="11733" y="14089"/>
                </a:cubicBezTo>
                <a:cubicBezTo>
                  <a:pt x="11744" y="14072"/>
                  <a:pt x="11812" y="14030"/>
                  <a:pt x="11832" y="14039"/>
                </a:cubicBezTo>
                <a:cubicBezTo>
                  <a:pt x="11886" y="14063"/>
                  <a:pt x="11945" y="14126"/>
                  <a:pt x="11956" y="14188"/>
                </a:cubicBezTo>
                <a:cubicBezTo>
                  <a:pt x="11968" y="14258"/>
                  <a:pt x="11986" y="14302"/>
                  <a:pt x="12005" y="14362"/>
                </a:cubicBezTo>
                <a:cubicBezTo>
                  <a:pt x="12005" y="14370"/>
                  <a:pt x="12005" y="14379"/>
                  <a:pt x="12005" y="14387"/>
                </a:cubicBezTo>
              </a:path>
              <a:path w="20440" h="3920">
                <a:moveTo>
                  <a:pt x="12055" y="13816"/>
                </a:moveTo>
                <a:cubicBezTo>
                  <a:pt x="12147" y="13791"/>
                  <a:pt x="12218" y="13778"/>
                  <a:pt x="12303" y="13841"/>
                </a:cubicBezTo>
                <a:cubicBezTo>
                  <a:pt x="12363" y="13885"/>
                  <a:pt x="12374" y="13939"/>
                  <a:pt x="12328" y="13990"/>
                </a:cubicBezTo>
                <a:cubicBezTo>
                  <a:pt x="12300" y="14021"/>
                  <a:pt x="12223" y="14016"/>
                  <a:pt x="12204" y="14039"/>
                </a:cubicBezTo>
                <a:cubicBezTo>
                  <a:pt x="12204" y="14047"/>
                  <a:pt x="12204" y="14056"/>
                  <a:pt x="12204" y="14064"/>
                </a:cubicBezTo>
                <a:cubicBezTo>
                  <a:pt x="12259" y="14078"/>
                  <a:pt x="12282" y="14097"/>
                  <a:pt x="12328" y="14139"/>
                </a:cubicBezTo>
                <a:cubicBezTo>
                  <a:pt x="12392" y="14197"/>
                  <a:pt x="12372" y="14226"/>
                  <a:pt x="12353" y="14288"/>
                </a:cubicBezTo>
                <a:cubicBezTo>
                  <a:pt x="12338" y="14336"/>
                  <a:pt x="12312" y="14358"/>
                  <a:pt x="12254" y="14362"/>
                </a:cubicBezTo>
                <a:cubicBezTo>
                  <a:pt x="12215" y="14365"/>
                  <a:pt x="12142" y="14334"/>
                  <a:pt x="12129" y="14288"/>
                </a:cubicBezTo>
                <a:cubicBezTo>
                  <a:pt x="12108" y="14214"/>
                  <a:pt x="12146" y="14174"/>
                  <a:pt x="12179" y="14114"/>
                </a:cubicBezTo>
              </a:path>
              <a:path w="20440" h="3920">
                <a:moveTo>
                  <a:pt x="12526" y="13915"/>
                </a:moveTo>
                <a:cubicBezTo>
                  <a:pt x="12504" y="13992"/>
                  <a:pt x="12409" y="14183"/>
                  <a:pt x="12452" y="14263"/>
                </a:cubicBezTo>
                <a:cubicBezTo>
                  <a:pt x="12475" y="14305"/>
                  <a:pt x="12532" y="14334"/>
                  <a:pt x="12576" y="14337"/>
                </a:cubicBezTo>
                <a:cubicBezTo>
                  <a:pt x="12628" y="14341"/>
                  <a:pt x="12700" y="14316"/>
                  <a:pt x="12725" y="14263"/>
                </a:cubicBezTo>
                <a:cubicBezTo>
                  <a:pt x="12764" y="14181"/>
                  <a:pt x="12801" y="14052"/>
                  <a:pt x="12750" y="13965"/>
                </a:cubicBezTo>
                <a:cubicBezTo>
                  <a:pt x="12714" y="13903"/>
                  <a:pt x="12630" y="13881"/>
                  <a:pt x="12576" y="13841"/>
                </a:cubicBezTo>
                <a:cubicBezTo>
                  <a:pt x="12553" y="13818"/>
                  <a:pt x="12545" y="13814"/>
                  <a:pt x="12551" y="13791"/>
                </a:cubicBezTo>
              </a:path>
              <a:path w="20440" h="3920">
                <a:moveTo>
                  <a:pt x="12824" y="13295"/>
                </a:moveTo>
                <a:cubicBezTo>
                  <a:pt x="12913" y="13308"/>
                  <a:pt x="12965" y="13320"/>
                  <a:pt x="13047" y="13320"/>
                </a:cubicBezTo>
              </a:path>
              <a:path w="20440" h="3920">
                <a:moveTo>
                  <a:pt x="12874" y="13593"/>
                </a:moveTo>
                <a:cubicBezTo>
                  <a:pt x="13024" y="13612"/>
                  <a:pt x="13048" y="13642"/>
                  <a:pt x="13122" y="13593"/>
                </a:cubicBezTo>
              </a:path>
              <a:path w="20440" h="3920">
                <a:moveTo>
                  <a:pt x="13543" y="12774"/>
                </a:moveTo>
                <a:cubicBezTo>
                  <a:pt x="13648" y="12774"/>
                  <a:pt x="13739" y="12784"/>
                  <a:pt x="13841" y="12799"/>
                </a:cubicBezTo>
                <a:cubicBezTo>
                  <a:pt x="13858" y="12799"/>
                  <a:pt x="13874" y="12799"/>
                  <a:pt x="13891" y="12799"/>
                </a:cubicBezTo>
              </a:path>
              <a:path w="20440" h="3920">
                <a:moveTo>
                  <a:pt x="14288" y="12477"/>
                </a:moveTo>
                <a:cubicBezTo>
                  <a:pt x="14288" y="12615"/>
                  <a:pt x="14299" y="12739"/>
                  <a:pt x="14312" y="12874"/>
                </a:cubicBezTo>
                <a:cubicBezTo>
                  <a:pt x="14317" y="12922"/>
                  <a:pt x="14315" y="13028"/>
                  <a:pt x="14337" y="13072"/>
                </a:cubicBezTo>
                <a:cubicBezTo>
                  <a:pt x="14357" y="13111"/>
                  <a:pt x="14362" y="13100"/>
                  <a:pt x="14362" y="13146"/>
                </a:cubicBezTo>
              </a:path>
              <a:path w="20440" h="3920">
                <a:moveTo>
                  <a:pt x="14759" y="12874"/>
                </a:moveTo>
                <a:cubicBezTo>
                  <a:pt x="14895" y="12874"/>
                  <a:pt x="15024" y="12884"/>
                  <a:pt x="15156" y="12898"/>
                </a:cubicBezTo>
                <a:cubicBezTo>
                  <a:pt x="15227" y="12906"/>
                  <a:pt x="15266" y="12897"/>
                  <a:pt x="15329" y="12874"/>
                </a:cubicBezTo>
              </a:path>
              <a:path w="20440" h="3920">
                <a:moveTo>
                  <a:pt x="16024" y="12427"/>
                </a:moveTo>
                <a:cubicBezTo>
                  <a:pt x="16024" y="12485"/>
                  <a:pt x="16036" y="12521"/>
                  <a:pt x="16049" y="12576"/>
                </a:cubicBezTo>
                <a:cubicBezTo>
                  <a:pt x="16056" y="12605"/>
                  <a:pt x="16049" y="12645"/>
                  <a:pt x="16049" y="12675"/>
                </a:cubicBezTo>
                <a:cubicBezTo>
                  <a:pt x="16049" y="12603"/>
                  <a:pt x="16036" y="12537"/>
                  <a:pt x="16024" y="12477"/>
                </a:cubicBezTo>
                <a:cubicBezTo>
                  <a:pt x="16012" y="12417"/>
                  <a:pt x="16014" y="12298"/>
                  <a:pt x="16049" y="12254"/>
                </a:cubicBezTo>
                <a:cubicBezTo>
                  <a:pt x="16079" y="12216"/>
                  <a:pt x="16125" y="12188"/>
                  <a:pt x="16173" y="12179"/>
                </a:cubicBezTo>
                <a:cubicBezTo>
                  <a:pt x="16258" y="12164"/>
                  <a:pt x="16360" y="12179"/>
                  <a:pt x="16446" y="12179"/>
                </a:cubicBezTo>
              </a:path>
              <a:path w="20440" h="3920">
                <a:moveTo>
                  <a:pt x="16247" y="12402"/>
                </a:moveTo>
                <a:cubicBezTo>
                  <a:pt x="16296" y="12382"/>
                  <a:pt x="16332" y="12382"/>
                  <a:pt x="16371" y="12353"/>
                </a:cubicBezTo>
                <a:cubicBezTo>
                  <a:pt x="16406" y="12380"/>
                  <a:pt x="16441" y="12378"/>
                  <a:pt x="16446" y="12427"/>
                </a:cubicBezTo>
                <a:cubicBezTo>
                  <a:pt x="16450" y="12462"/>
                  <a:pt x="16438" y="12501"/>
                  <a:pt x="16421" y="12526"/>
                </a:cubicBezTo>
                <a:cubicBezTo>
                  <a:pt x="16398" y="12559"/>
                  <a:pt x="16380" y="12551"/>
                  <a:pt x="16346" y="12551"/>
                </a:cubicBezTo>
                <a:cubicBezTo>
                  <a:pt x="16358" y="12586"/>
                  <a:pt x="16395" y="12582"/>
                  <a:pt x="16421" y="12601"/>
                </a:cubicBezTo>
                <a:cubicBezTo>
                  <a:pt x="16481" y="12646"/>
                  <a:pt x="16462" y="12648"/>
                  <a:pt x="16446" y="12700"/>
                </a:cubicBezTo>
                <a:cubicBezTo>
                  <a:pt x="16436" y="12731"/>
                  <a:pt x="16384" y="12739"/>
                  <a:pt x="16346" y="12750"/>
                </a:cubicBezTo>
                <a:cubicBezTo>
                  <a:pt x="16321" y="12758"/>
                  <a:pt x="16266" y="12711"/>
                  <a:pt x="16247" y="12700"/>
                </a:cubicBezTo>
              </a:path>
              <a:path w="20440" h="3920">
                <a:moveTo>
                  <a:pt x="15999" y="12725"/>
                </a:moveTo>
                <a:cubicBezTo>
                  <a:pt x="16121" y="12725"/>
                  <a:pt x="16225" y="12739"/>
                  <a:pt x="16346" y="12750"/>
                </a:cubicBezTo>
                <a:cubicBezTo>
                  <a:pt x="16435" y="12758"/>
                  <a:pt x="16509" y="12756"/>
                  <a:pt x="16594" y="12774"/>
                </a:cubicBezTo>
                <a:cubicBezTo>
                  <a:pt x="16619" y="12774"/>
                  <a:pt x="16627" y="12774"/>
                  <a:pt x="16644" y="12774"/>
                </a:cubicBezTo>
              </a:path>
              <a:path w="20440" h="3920">
                <a:moveTo>
                  <a:pt x="16197" y="13022"/>
                </a:moveTo>
                <a:cubicBezTo>
                  <a:pt x="16229" y="12999"/>
                  <a:pt x="16268" y="12992"/>
                  <a:pt x="16297" y="12973"/>
                </a:cubicBezTo>
                <a:cubicBezTo>
                  <a:pt x="16352" y="12936"/>
                  <a:pt x="16406" y="12936"/>
                  <a:pt x="16470" y="12973"/>
                </a:cubicBezTo>
                <a:cubicBezTo>
                  <a:pt x="16505" y="12993"/>
                  <a:pt x="16505" y="13012"/>
                  <a:pt x="16545" y="13022"/>
                </a:cubicBezTo>
                <a:cubicBezTo>
                  <a:pt x="16532" y="13075"/>
                  <a:pt x="16507" y="13072"/>
                  <a:pt x="16470" y="13097"/>
                </a:cubicBezTo>
                <a:cubicBezTo>
                  <a:pt x="16448" y="13120"/>
                  <a:pt x="16443" y="13128"/>
                  <a:pt x="16421" y="13122"/>
                </a:cubicBezTo>
                <a:cubicBezTo>
                  <a:pt x="16430" y="13158"/>
                  <a:pt x="16444" y="13191"/>
                  <a:pt x="16470" y="13221"/>
                </a:cubicBezTo>
                <a:cubicBezTo>
                  <a:pt x="16499" y="13254"/>
                  <a:pt x="16511" y="13277"/>
                  <a:pt x="16520" y="13320"/>
                </a:cubicBezTo>
                <a:cubicBezTo>
                  <a:pt x="16452" y="13361"/>
                  <a:pt x="16443" y="13338"/>
                  <a:pt x="16371" y="13320"/>
                </a:cubicBezTo>
                <a:cubicBezTo>
                  <a:pt x="16319" y="13307"/>
                  <a:pt x="16270" y="13282"/>
                  <a:pt x="16222" y="13271"/>
                </a:cubicBezTo>
              </a:path>
              <a:path w="20440" h="3920">
                <a:moveTo>
                  <a:pt x="17239" y="13543"/>
                </a:moveTo>
                <a:cubicBezTo>
                  <a:pt x="17174" y="13630"/>
                  <a:pt x="17131" y="13651"/>
                  <a:pt x="17016" y="13667"/>
                </a:cubicBezTo>
                <a:cubicBezTo>
                  <a:pt x="16913" y="13681"/>
                  <a:pt x="16797" y="13689"/>
                  <a:pt x="16694" y="13692"/>
                </a:cubicBezTo>
                <a:cubicBezTo>
                  <a:pt x="16338" y="13703"/>
                  <a:pt x="15983" y="13700"/>
                  <a:pt x="15627" y="13717"/>
                </a:cubicBezTo>
                <a:cubicBezTo>
                  <a:pt x="15085" y="13743"/>
                  <a:pt x="14522" y="13675"/>
                  <a:pt x="13990" y="13742"/>
                </a:cubicBezTo>
                <a:cubicBezTo>
                  <a:pt x="13939" y="13748"/>
                  <a:pt x="13934" y="13741"/>
                  <a:pt x="13891" y="13767"/>
                </a:cubicBezTo>
                <a:cubicBezTo>
                  <a:pt x="13866" y="13767"/>
                  <a:pt x="13858" y="13767"/>
                  <a:pt x="13866" y="13791"/>
                </a:cubicBezTo>
              </a:path>
              <a:path w="20440" h="3920">
                <a:moveTo>
                  <a:pt x="14536" y="13767"/>
                </a:moveTo>
                <a:cubicBezTo>
                  <a:pt x="14536" y="13820"/>
                  <a:pt x="14558" y="13837"/>
                  <a:pt x="14560" y="13891"/>
                </a:cubicBezTo>
                <a:cubicBezTo>
                  <a:pt x="14566" y="14022"/>
                  <a:pt x="14572" y="14162"/>
                  <a:pt x="14536" y="14288"/>
                </a:cubicBezTo>
                <a:cubicBezTo>
                  <a:pt x="14513" y="14368"/>
                  <a:pt x="14486" y="14428"/>
                  <a:pt x="14486" y="14511"/>
                </a:cubicBezTo>
                <a:cubicBezTo>
                  <a:pt x="14486" y="14564"/>
                  <a:pt x="14467" y="14620"/>
                  <a:pt x="14511" y="14635"/>
                </a:cubicBezTo>
              </a:path>
              <a:path w="20440" h="3920">
                <a:moveTo>
                  <a:pt x="15081" y="13990"/>
                </a:moveTo>
                <a:cubicBezTo>
                  <a:pt x="15087" y="14124"/>
                  <a:pt x="15102" y="14237"/>
                  <a:pt x="15131" y="14362"/>
                </a:cubicBezTo>
                <a:cubicBezTo>
                  <a:pt x="15136" y="14384"/>
                  <a:pt x="15131" y="14414"/>
                  <a:pt x="15131" y="14436"/>
                </a:cubicBezTo>
              </a:path>
              <a:path w="20440" h="3920">
                <a:moveTo>
                  <a:pt x="14932" y="14163"/>
                </a:moveTo>
                <a:cubicBezTo>
                  <a:pt x="15032" y="14134"/>
                  <a:pt x="15037" y="14148"/>
                  <a:pt x="15131" y="14163"/>
                </a:cubicBezTo>
                <a:cubicBezTo>
                  <a:pt x="15183" y="14171"/>
                  <a:pt x="15227" y="14188"/>
                  <a:pt x="15280" y="14188"/>
                </a:cubicBezTo>
                <a:cubicBezTo>
                  <a:pt x="15304" y="14188"/>
                  <a:pt x="15313" y="14188"/>
                  <a:pt x="15329" y="14188"/>
                </a:cubicBezTo>
                <a:cubicBezTo>
                  <a:pt x="15345" y="14235"/>
                  <a:pt x="15363" y="14191"/>
                  <a:pt x="15379" y="14238"/>
                </a:cubicBezTo>
              </a:path>
              <a:path w="20440" h="3920">
                <a:moveTo>
                  <a:pt x="15726" y="14039"/>
                </a:moveTo>
                <a:cubicBezTo>
                  <a:pt x="15777" y="14061"/>
                  <a:pt x="15845" y="14081"/>
                  <a:pt x="15900" y="14089"/>
                </a:cubicBezTo>
                <a:cubicBezTo>
                  <a:pt x="15916" y="14089"/>
                  <a:pt x="15933" y="14089"/>
                  <a:pt x="15949" y="14089"/>
                </a:cubicBezTo>
              </a:path>
              <a:path w="20440" h="3920">
                <a:moveTo>
                  <a:pt x="16173" y="13891"/>
                </a:moveTo>
                <a:cubicBezTo>
                  <a:pt x="16173" y="13972"/>
                  <a:pt x="16158" y="14040"/>
                  <a:pt x="16148" y="14114"/>
                </a:cubicBezTo>
                <a:cubicBezTo>
                  <a:pt x="16140" y="14177"/>
                  <a:pt x="16122" y="14469"/>
                  <a:pt x="16173" y="14486"/>
                </a:cubicBezTo>
              </a:path>
              <a:path w="20440" h="3920">
                <a:moveTo>
                  <a:pt x="16495" y="13915"/>
                </a:moveTo>
                <a:cubicBezTo>
                  <a:pt x="16447" y="14042"/>
                  <a:pt x="16396" y="14152"/>
                  <a:pt x="16396" y="14288"/>
                </a:cubicBezTo>
                <a:cubicBezTo>
                  <a:pt x="16396" y="14343"/>
                  <a:pt x="16415" y="14414"/>
                  <a:pt x="16446" y="14461"/>
                </a:cubicBezTo>
                <a:cubicBezTo>
                  <a:pt x="16470" y="14486"/>
                  <a:pt x="16478" y="14495"/>
                  <a:pt x="16495" y="14511"/>
                </a:cubicBezTo>
              </a:path>
              <a:path w="20440" h="3920">
                <a:moveTo>
                  <a:pt x="16694" y="13965"/>
                </a:moveTo>
                <a:cubicBezTo>
                  <a:pt x="16694" y="14039"/>
                  <a:pt x="16694" y="14114"/>
                  <a:pt x="16694" y="14188"/>
                </a:cubicBezTo>
                <a:cubicBezTo>
                  <a:pt x="16711" y="14165"/>
                  <a:pt x="16736" y="14122"/>
                  <a:pt x="16718" y="14089"/>
                </a:cubicBezTo>
                <a:cubicBezTo>
                  <a:pt x="16700" y="14056"/>
                  <a:pt x="16672" y="14010"/>
                  <a:pt x="16694" y="13965"/>
                </a:cubicBezTo>
                <a:cubicBezTo>
                  <a:pt x="16708" y="13937"/>
                  <a:pt x="16704" y="13890"/>
                  <a:pt x="16718" y="13866"/>
                </a:cubicBezTo>
                <a:cubicBezTo>
                  <a:pt x="16742" y="13822"/>
                  <a:pt x="16774" y="13816"/>
                  <a:pt x="16818" y="13816"/>
                </a:cubicBezTo>
                <a:cubicBezTo>
                  <a:pt x="16876" y="13816"/>
                  <a:pt x="16912" y="13837"/>
                  <a:pt x="16966" y="13841"/>
                </a:cubicBezTo>
                <a:cubicBezTo>
                  <a:pt x="17008" y="13841"/>
                  <a:pt x="17024" y="13833"/>
                  <a:pt x="17016" y="13866"/>
                </a:cubicBezTo>
              </a:path>
              <a:path w="20440" h="3920">
                <a:moveTo>
                  <a:pt x="16867" y="13940"/>
                </a:moveTo>
                <a:cubicBezTo>
                  <a:pt x="16914" y="13940"/>
                  <a:pt x="16930" y="13957"/>
                  <a:pt x="16966" y="13965"/>
                </a:cubicBezTo>
                <a:cubicBezTo>
                  <a:pt x="16986" y="13969"/>
                  <a:pt x="17094" y="14022"/>
                  <a:pt x="17041" y="14064"/>
                </a:cubicBezTo>
                <a:cubicBezTo>
                  <a:pt x="17016" y="14084"/>
                  <a:pt x="16968" y="14075"/>
                  <a:pt x="16942" y="14089"/>
                </a:cubicBezTo>
                <a:cubicBezTo>
                  <a:pt x="16892" y="14117"/>
                  <a:pt x="16927" y="14171"/>
                  <a:pt x="16966" y="14188"/>
                </a:cubicBezTo>
                <a:cubicBezTo>
                  <a:pt x="16991" y="14188"/>
                  <a:pt x="16999" y="14188"/>
                  <a:pt x="16991" y="14213"/>
                </a:cubicBezTo>
                <a:cubicBezTo>
                  <a:pt x="16980" y="14246"/>
                  <a:pt x="16937" y="14253"/>
                  <a:pt x="16892" y="14238"/>
                </a:cubicBezTo>
                <a:cubicBezTo>
                  <a:pt x="16827" y="14216"/>
                  <a:pt x="16828" y="14186"/>
                  <a:pt x="16793" y="14163"/>
                </a:cubicBezTo>
                <a:cubicBezTo>
                  <a:pt x="16765" y="14163"/>
                  <a:pt x="16759" y="14161"/>
                  <a:pt x="16793" y="14139"/>
                </a:cubicBezTo>
              </a:path>
              <a:path w="20440" h="3920">
                <a:moveTo>
                  <a:pt x="17388" y="13841"/>
                </a:moveTo>
                <a:cubicBezTo>
                  <a:pt x="17286" y="13994"/>
                  <a:pt x="17183" y="14151"/>
                  <a:pt x="17090" y="14312"/>
                </a:cubicBezTo>
                <a:cubicBezTo>
                  <a:pt x="17035" y="14407"/>
                  <a:pt x="16989" y="14486"/>
                  <a:pt x="16942" y="14585"/>
                </a:cubicBezTo>
                <a:cubicBezTo>
                  <a:pt x="16921" y="14631"/>
                  <a:pt x="16818" y="14722"/>
                  <a:pt x="16867" y="14709"/>
                </a:cubicBezTo>
                <a:cubicBezTo>
                  <a:pt x="16892" y="14684"/>
                  <a:pt x="16900" y="14676"/>
                  <a:pt x="16917" y="14660"/>
                </a:cubicBezTo>
              </a:path>
              <a:path w="20440" h="3920">
                <a:moveTo>
                  <a:pt x="17214" y="14362"/>
                </a:moveTo>
                <a:cubicBezTo>
                  <a:pt x="17295" y="14362"/>
                  <a:pt x="17304" y="14374"/>
                  <a:pt x="17363" y="14387"/>
                </a:cubicBezTo>
                <a:cubicBezTo>
                  <a:pt x="17434" y="14402"/>
                  <a:pt x="17397" y="14383"/>
                  <a:pt x="17438" y="14436"/>
                </a:cubicBezTo>
                <a:cubicBezTo>
                  <a:pt x="17430" y="14438"/>
                  <a:pt x="17340" y="14458"/>
                  <a:pt x="17338" y="14461"/>
                </a:cubicBezTo>
                <a:cubicBezTo>
                  <a:pt x="17325" y="14477"/>
                  <a:pt x="17359" y="14576"/>
                  <a:pt x="17363" y="14585"/>
                </a:cubicBezTo>
                <a:cubicBezTo>
                  <a:pt x="17396" y="14651"/>
                  <a:pt x="17383" y="14650"/>
                  <a:pt x="17363" y="14709"/>
                </a:cubicBezTo>
                <a:cubicBezTo>
                  <a:pt x="17350" y="14747"/>
                  <a:pt x="17334" y="14734"/>
                  <a:pt x="17289" y="14734"/>
                </a:cubicBezTo>
                <a:cubicBezTo>
                  <a:pt x="17255" y="14734"/>
                  <a:pt x="17221" y="14690"/>
                  <a:pt x="17214" y="14660"/>
                </a:cubicBezTo>
                <a:cubicBezTo>
                  <a:pt x="17214" y="14643"/>
                  <a:pt x="17214" y="14627"/>
                  <a:pt x="17214" y="14610"/>
                </a:cubicBezTo>
              </a:path>
              <a:path w="20440" h="3920">
                <a:moveTo>
                  <a:pt x="17611" y="13816"/>
                </a:moveTo>
                <a:cubicBezTo>
                  <a:pt x="17732" y="14066"/>
                  <a:pt x="17788" y="14186"/>
                  <a:pt x="17735" y="14461"/>
                </a:cubicBezTo>
                <a:cubicBezTo>
                  <a:pt x="17717" y="14555"/>
                  <a:pt x="17703" y="14662"/>
                  <a:pt x="17636" y="14734"/>
                </a:cubicBezTo>
                <a:cubicBezTo>
                  <a:pt x="17570" y="14806"/>
                  <a:pt x="17557" y="14808"/>
                  <a:pt x="17462" y="14808"/>
                </a:cubicBezTo>
              </a:path>
              <a:path w="20440" h="3920">
                <a:moveTo>
                  <a:pt x="18033" y="13271"/>
                </a:moveTo>
                <a:cubicBezTo>
                  <a:pt x="18124" y="13271"/>
                  <a:pt x="18215" y="13271"/>
                  <a:pt x="18306" y="13271"/>
                </a:cubicBezTo>
              </a:path>
              <a:path w="20440" h="3920">
                <a:moveTo>
                  <a:pt x="18033" y="13494"/>
                </a:moveTo>
                <a:cubicBezTo>
                  <a:pt x="18125" y="13494"/>
                  <a:pt x="18159" y="13497"/>
                  <a:pt x="18231" y="13519"/>
                </a:cubicBezTo>
                <a:cubicBezTo>
                  <a:pt x="18265" y="13529"/>
                  <a:pt x="18319" y="13519"/>
                  <a:pt x="18355" y="13519"/>
                </a:cubicBezTo>
              </a:path>
              <a:path w="20440" h="3920">
                <a:moveTo>
                  <a:pt x="18653" y="12551"/>
                </a:moveTo>
                <a:cubicBezTo>
                  <a:pt x="18736" y="12551"/>
                  <a:pt x="18818" y="12551"/>
                  <a:pt x="18901" y="12551"/>
                </a:cubicBezTo>
              </a:path>
              <a:path w="20440" h="3920">
                <a:moveTo>
                  <a:pt x="19075" y="12204"/>
                </a:moveTo>
                <a:cubicBezTo>
                  <a:pt x="19115" y="12204"/>
                  <a:pt x="19273" y="12179"/>
                  <a:pt x="19298" y="12229"/>
                </a:cubicBezTo>
                <a:cubicBezTo>
                  <a:pt x="19316" y="12265"/>
                  <a:pt x="19295" y="12329"/>
                  <a:pt x="19273" y="12353"/>
                </a:cubicBezTo>
                <a:cubicBezTo>
                  <a:pt x="19253" y="12376"/>
                  <a:pt x="19185" y="12386"/>
                  <a:pt x="19174" y="12402"/>
                </a:cubicBezTo>
                <a:cubicBezTo>
                  <a:pt x="19174" y="12410"/>
                  <a:pt x="19174" y="12419"/>
                  <a:pt x="19174" y="12427"/>
                </a:cubicBezTo>
                <a:cubicBezTo>
                  <a:pt x="19220" y="12427"/>
                  <a:pt x="19238" y="12421"/>
                  <a:pt x="19273" y="12452"/>
                </a:cubicBezTo>
                <a:cubicBezTo>
                  <a:pt x="19312" y="12487"/>
                  <a:pt x="19355" y="12525"/>
                  <a:pt x="19372" y="12576"/>
                </a:cubicBezTo>
                <a:cubicBezTo>
                  <a:pt x="19397" y="12652"/>
                  <a:pt x="19342" y="12669"/>
                  <a:pt x="19298" y="12700"/>
                </a:cubicBezTo>
                <a:cubicBezTo>
                  <a:pt x="19258" y="12728"/>
                  <a:pt x="19240" y="12727"/>
                  <a:pt x="19199" y="12700"/>
                </a:cubicBezTo>
                <a:cubicBezTo>
                  <a:pt x="19156" y="12671"/>
                  <a:pt x="19149" y="12679"/>
                  <a:pt x="19149" y="12626"/>
                </a:cubicBezTo>
              </a:path>
              <a:path w="20440" h="3920">
                <a:moveTo>
                  <a:pt x="19571" y="12452"/>
                </a:moveTo>
                <a:cubicBezTo>
                  <a:pt x="19635" y="12428"/>
                  <a:pt x="19676" y="12427"/>
                  <a:pt x="19745" y="12427"/>
                </a:cubicBezTo>
                <a:cubicBezTo>
                  <a:pt x="19753" y="12427"/>
                  <a:pt x="19761" y="12427"/>
                  <a:pt x="19769" y="12427"/>
                </a:cubicBezTo>
              </a:path>
              <a:path w="20440" h="3920">
                <a:moveTo>
                  <a:pt x="19968" y="12229"/>
                </a:moveTo>
                <a:cubicBezTo>
                  <a:pt x="19983" y="12311"/>
                  <a:pt x="20013" y="12397"/>
                  <a:pt x="20017" y="12477"/>
                </a:cubicBezTo>
                <a:cubicBezTo>
                  <a:pt x="20021" y="12542"/>
                  <a:pt x="20024" y="12574"/>
                  <a:pt x="20042" y="12626"/>
                </a:cubicBezTo>
                <a:cubicBezTo>
                  <a:pt x="20059" y="12675"/>
                  <a:pt x="20059" y="12673"/>
                  <a:pt x="20042" y="12626"/>
                </a:cubicBezTo>
                <a:cubicBezTo>
                  <a:pt x="20015" y="12552"/>
                  <a:pt x="20017" y="12510"/>
                  <a:pt x="20017" y="12427"/>
                </a:cubicBezTo>
                <a:cubicBezTo>
                  <a:pt x="20017" y="12368"/>
                  <a:pt x="19978" y="12281"/>
                  <a:pt x="19993" y="12229"/>
                </a:cubicBezTo>
                <a:cubicBezTo>
                  <a:pt x="20001" y="12204"/>
                  <a:pt x="20011" y="12120"/>
                  <a:pt x="20042" y="12105"/>
                </a:cubicBezTo>
                <a:cubicBezTo>
                  <a:pt x="20092" y="12081"/>
                  <a:pt x="20159" y="12058"/>
                  <a:pt x="20216" y="12055"/>
                </a:cubicBezTo>
                <a:cubicBezTo>
                  <a:pt x="20273" y="12052"/>
                  <a:pt x="20332" y="12055"/>
                  <a:pt x="20389" y="12055"/>
                </a:cubicBezTo>
              </a:path>
              <a:path w="20440" h="3920">
                <a:moveTo>
                  <a:pt x="20216" y="12254"/>
                </a:moveTo>
                <a:cubicBezTo>
                  <a:pt x="20286" y="12254"/>
                  <a:pt x="20381" y="12240"/>
                  <a:pt x="20414" y="12278"/>
                </a:cubicBezTo>
                <a:cubicBezTo>
                  <a:pt x="20432" y="12299"/>
                  <a:pt x="20457" y="12346"/>
                  <a:pt x="20439" y="12378"/>
                </a:cubicBezTo>
                <a:cubicBezTo>
                  <a:pt x="20411" y="12426"/>
                  <a:pt x="20367" y="12399"/>
                  <a:pt x="20340" y="12427"/>
                </a:cubicBezTo>
                <a:cubicBezTo>
                  <a:pt x="20312" y="12455"/>
                  <a:pt x="20321" y="12452"/>
                  <a:pt x="20365" y="12477"/>
                </a:cubicBezTo>
                <a:cubicBezTo>
                  <a:pt x="20409" y="12502"/>
                  <a:pt x="20460" y="12521"/>
                  <a:pt x="20464" y="12576"/>
                </a:cubicBezTo>
                <a:cubicBezTo>
                  <a:pt x="20471" y="12677"/>
                  <a:pt x="20435" y="12662"/>
                  <a:pt x="20365" y="12700"/>
                </a:cubicBezTo>
                <a:cubicBezTo>
                  <a:pt x="20350" y="12708"/>
                  <a:pt x="20262" y="12752"/>
                  <a:pt x="20241" y="12725"/>
                </a:cubicBezTo>
                <a:cubicBezTo>
                  <a:pt x="20241" y="12700"/>
                  <a:pt x="20241" y="12692"/>
                  <a:pt x="20216" y="12700"/>
                </a:cubicBezTo>
              </a:path>
              <a:path w="20440" h="3920">
                <a:moveTo>
                  <a:pt x="20662" y="12849"/>
                </a:moveTo>
                <a:cubicBezTo>
                  <a:pt x="20501" y="12849"/>
                  <a:pt x="20349" y="12860"/>
                  <a:pt x="20191" y="12874"/>
                </a:cubicBezTo>
                <a:cubicBezTo>
                  <a:pt x="19902" y="12899"/>
                  <a:pt x="19609" y="12859"/>
                  <a:pt x="19323" y="12898"/>
                </a:cubicBezTo>
                <a:cubicBezTo>
                  <a:pt x="19271" y="12905"/>
                  <a:pt x="19238" y="12906"/>
                  <a:pt x="19224" y="12948"/>
                </a:cubicBezTo>
              </a:path>
              <a:path w="20440" h="3920">
                <a:moveTo>
                  <a:pt x="19670" y="13122"/>
                </a:moveTo>
                <a:cubicBezTo>
                  <a:pt x="19684" y="13080"/>
                  <a:pt x="19718" y="13097"/>
                  <a:pt x="19769" y="13097"/>
                </a:cubicBezTo>
                <a:cubicBezTo>
                  <a:pt x="19830" y="13097"/>
                  <a:pt x="19875" y="13114"/>
                  <a:pt x="19893" y="13171"/>
                </a:cubicBezTo>
                <a:cubicBezTo>
                  <a:pt x="19906" y="13212"/>
                  <a:pt x="19849" y="13243"/>
                  <a:pt x="19819" y="13246"/>
                </a:cubicBezTo>
                <a:cubicBezTo>
                  <a:pt x="19764" y="13252"/>
                  <a:pt x="19722" y="13255"/>
                  <a:pt x="19745" y="13271"/>
                </a:cubicBezTo>
                <a:cubicBezTo>
                  <a:pt x="19808" y="13315"/>
                  <a:pt x="19885" y="13374"/>
                  <a:pt x="19918" y="13444"/>
                </a:cubicBezTo>
                <a:cubicBezTo>
                  <a:pt x="19931" y="13471"/>
                  <a:pt x="19923" y="13553"/>
                  <a:pt x="19893" y="13568"/>
                </a:cubicBezTo>
                <a:cubicBezTo>
                  <a:pt x="19865" y="13582"/>
                  <a:pt x="19806" y="13612"/>
                  <a:pt x="19769" y="13593"/>
                </a:cubicBezTo>
                <a:cubicBezTo>
                  <a:pt x="19729" y="13573"/>
                  <a:pt x="19681" y="13552"/>
                  <a:pt x="19645" y="13519"/>
                </a:cubicBezTo>
                <a:cubicBezTo>
                  <a:pt x="19637" y="13511"/>
                  <a:pt x="19629" y="13502"/>
                  <a:pt x="19621" y="13494"/>
                </a:cubicBezTo>
              </a:path>
              <a:path w="20440" h="3920">
                <a:moveTo>
                  <a:pt x="18827" y="13891"/>
                </a:moveTo>
                <a:cubicBezTo>
                  <a:pt x="18868" y="13904"/>
                  <a:pt x="18928" y="13932"/>
                  <a:pt x="18976" y="13940"/>
                </a:cubicBezTo>
                <a:cubicBezTo>
                  <a:pt x="19070" y="13955"/>
                  <a:pt x="19177" y="13962"/>
                  <a:pt x="19273" y="13965"/>
                </a:cubicBezTo>
                <a:cubicBezTo>
                  <a:pt x="19441" y="13969"/>
                  <a:pt x="19603" y="13979"/>
                  <a:pt x="19769" y="13990"/>
                </a:cubicBezTo>
                <a:cubicBezTo>
                  <a:pt x="19946" y="14002"/>
                  <a:pt x="20116" y="13977"/>
                  <a:pt x="20290" y="13965"/>
                </a:cubicBezTo>
                <a:cubicBezTo>
                  <a:pt x="20472" y="13953"/>
                  <a:pt x="20654" y="13944"/>
                  <a:pt x="20836" y="13940"/>
                </a:cubicBezTo>
                <a:cubicBezTo>
                  <a:pt x="20918" y="13938"/>
                  <a:pt x="20983" y="13925"/>
                  <a:pt x="21059" y="13915"/>
                </a:cubicBezTo>
                <a:cubicBezTo>
                  <a:pt x="21100" y="13909"/>
                  <a:pt x="21134" y="13923"/>
                  <a:pt x="21134" y="13866"/>
                </a:cubicBezTo>
                <a:cubicBezTo>
                  <a:pt x="21126" y="13866"/>
                  <a:pt x="21117" y="13866"/>
                  <a:pt x="21109" y="13866"/>
                </a:cubicBezTo>
              </a:path>
              <a:path w="20440" h="3920">
                <a:moveTo>
                  <a:pt x="19224" y="14337"/>
                </a:moveTo>
                <a:cubicBezTo>
                  <a:pt x="19321" y="14337"/>
                  <a:pt x="19413" y="14344"/>
                  <a:pt x="19496" y="14362"/>
                </a:cubicBezTo>
                <a:cubicBezTo>
                  <a:pt x="19513" y="14362"/>
                  <a:pt x="19529" y="14362"/>
                  <a:pt x="19546" y="14362"/>
                </a:cubicBezTo>
                <a:cubicBezTo>
                  <a:pt x="19538" y="14393"/>
                  <a:pt x="19508" y="14445"/>
                  <a:pt x="19472" y="14461"/>
                </a:cubicBezTo>
                <a:cubicBezTo>
                  <a:pt x="19428" y="14480"/>
                  <a:pt x="19386" y="14482"/>
                  <a:pt x="19348" y="14511"/>
                </a:cubicBezTo>
                <a:cubicBezTo>
                  <a:pt x="19392" y="14511"/>
                  <a:pt x="19397" y="14518"/>
                  <a:pt x="19422" y="14536"/>
                </a:cubicBezTo>
                <a:cubicBezTo>
                  <a:pt x="19455" y="14560"/>
                  <a:pt x="19498" y="14624"/>
                  <a:pt x="19521" y="14660"/>
                </a:cubicBezTo>
                <a:cubicBezTo>
                  <a:pt x="19564" y="14726"/>
                  <a:pt x="19539" y="14749"/>
                  <a:pt x="19521" y="14808"/>
                </a:cubicBezTo>
                <a:cubicBezTo>
                  <a:pt x="19512" y="14837"/>
                  <a:pt x="19487" y="14854"/>
                  <a:pt x="19447" y="14858"/>
                </a:cubicBezTo>
                <a:cubicBezTo>
                  <a:pt x="19389" y="14864"/>
                  <a:pt x="19345" y="14842"/>
                  <a:pt x="19323" y="14833"/>
                </a:cubicBezTo>
                <a:cubicBezTo>
                  <a:pt x="19290" y="14819"/>
                  <a:pt x="19298" y="14828"/>
                  <a:pt x="19298" y="14784"/>
                </a:cubicBezTo>
              </a:path>
              <a:path w="20440" h="3920">
                <a:moveTo>
                  <a:pt x="19745" y="14610"/>
                </a:moveTo>
                <a:cubicBezTo>
                  <a:pt x="19819" y="14610"/>
                  <a:pt x="19894" y="14610"/>
                  <a:pt x="19968" y="14610"/>
                </a:cubicBezTo>
              </a:path>
              <a:path w="20440" h="3920">
                <a:moveTo>
                  <a:pt x="20166" y="14461"/>
                </a:moveTo>
                <a:cubicBezTo>
                  <a:pt x="20172" y="14570"/>
                  <a:pt x="20191" y="14654"/>
                  <a:pt x="20191" y="14759"/>
                </a:cubicBezTo>
                <a:cubicBezTo>
                  <a:pt x="20191" y="14792"/>
                  <a:pt x="20191" y="14825"/>
                  <a:pt x="20191" y="14858"/>
                </a:cubicBezTo>
                <a:cubicBezTo>
                  <a:pt x="20222" y="14848"/>
                  <a:pt x="20229" y="14804"/>
                  <a:pt x="20216" y="14759"/>
                </a:cubicBezTo>
                <a:cubicBezTo>
                  <a:pt x="20195" y="14688"/>
                  <a:pt x="20191" y="14637"/>
                  <a:pt x="20191" y="14560"/>
                </a:cubicBezTo>
                <a:cubicBezTo>
                  <a:pt x="20191" y="14495"/>
                  <a:pt x="20211" y="14451"/>
                  <a:pt x="20216" y="14387"/>
                </a:cubicBezTo>
                <a:cubicBezTo>
                  <a:pt x="20220" y="14330"/>
                  <a:pt x="20261" y="14290"/>
                  <a:pt x="20315" y="14263"/>
                </a:cubicBezTo>
                <a:cubicBezTo>
                  <a:pt x="20347" y="14247"/>
                  <a:pt x="20428" y="14241"/>
                  <a:pt x="20464" y="14238"/>
                </a:cubicBezTo>
                <a:cubicBezTo>
                  <a:pt x="20496" y="14235"/>
                  <a:pt x="20530" y="14238"/>
                  <a:pt x="20563" y="14238"/>
                </a:cubicBezTo>
              </a:path>
              <a:path w="20440" h="3920">
                <a:moveTo>
                  <a:pt x="20414" y="14412"/>
                </a:moveTo>
                <a:cubicBezTo>
                  <a:pt x="20414" y="14436"/>
                  <a:pt x="20414" y="14445"/>
                  <a:pt x="20414" y="14461"/>
                </a:cubicBezTo>
                <a:cubicBezTo>
                  <a:pt x="20469" y="14461"/>
                  <a:pt x="20472" y="14452"/>
                  <a:pt x="20513" y="14461"/>
                </a:cubicBezTo>
                <a:cubicBezTo>
                  <a:pt x="20544" y="14468"/>
                  <a:pt x="20598" y="14491"/>
                  <a:pt x="20588" y="14536"/>
                </a:cubicBezTo>
                <a:cubicBezTo>
                  <a:pt x="20566" y="14639"/>
                  <a:pt x="20549" y="14595"/>
                  <a:pt x="20489" y="14635"/>
                </a:cubicBezTo>
                <a:cubicBezTo>
                  <a:pt x="20442" y="14667"/>
                  <a:pt x="20420" y="14647"/>
                  <a:pt x="20439" y="14660"/>
                </a:cubicBezTo>
                <a:cubicBezTo>
                  <a:pt x="20491" y="14696"/>
                  <a:pt x="20541" y="14720"/>
                  <a:pt x="20563" y="14784"/>
                </a:cubicBezTo>
                <a:cubicBezTo>
                  <a:pt x="20592" y="14870"/>
                  <a:pt x="20579" y="14862"/>
                  <a:pt x="20513" y="14908"/>
                </a:cubicBezTo>
                <a:cubicBezTo>
                  <a:pt x="20490" y="14924"/>
                  <a:pt x="20448" y="14950"/>
                  <a:pt x="20414" y="14932"/>
                </a:cubicBezTo>
                <a:cubicBezTo>
                  <a:pt x="20382" y="14915"/>
                  <a:pt x="20347" y="14879"/>
                  <a:pt x="20340" y="14858"/>
                </a:cubicBezTo>
              </a:path>
              <a:path w="20440" h="3920">
                <a:moveTo>
                  <a:pt x="20886" y="14957"/>
                </a:moveTo>
                <a:cubicBezTo>
                  <a:pt x="20774" y="14957"/>
                  <a:pt x="20670" y="14972"/>
                  <a:pt x="20563" y="14982"/>
                </a:cubicBezTo>
                <a:cubicBezTo>
                  <a:pt x="20390" y="14998"/>
                  <a:pt x="20214" y="15019"/>
                  <a:pt x="20042" y="15032"/>
                </a:cubicBezTo>
                <a:cubicBezTo>
                  <a:pt x="19917" y="15042"/>
                  <a:pt x="19792" y="15043"/>
                  <a:pt x="19670" y="15056"/>
                </a:cubicBezTo>
                <a:cubicBezTo>
                  <a:pt x="19591" y="15064"/>
                  <a:pt x="19498" y="15063"/>
                  <a:pt x="19422" y="15081"/>
                </a:cubicBezTo>
                <a:cubicBezTo>
                  <a:pt x="19371" y="15093"/>
                  <a:pt x="19344" y="15117"/>
                  <a:pt x="19323" y="15131"/>
                </a:cubicBezTo>
              </a:path>
              <a:path w="20440" h="3920">
                <a:moveTo>
                  <a:pt x="20117" y="15255"/>
                </a:moveTo>
                <a:cubicBezTo>
                  <a:pt x="20186" y="15271"/>
                  <a:pt x="20252" y="15275"/>
                  <a:pt x="20315" y="15304"/>
                </a:cubicBezTo>
                <a:cubicBezTo>
                  <a:pt x="20366" y="15328"/>
                  <a:pt x="20432" y="15344"/>
                  <a:pt x="20439" y="15404"/>
                </a:cubicBezTo>
                <a:cubicBezTo>
                  <a:pt x="20444" y="15449"/>
                  <a:pt x="20428" y="15478"/>
                  <a:pt x="20389" y="15503"/>
                </a:cubicBezTo>
                <a:cubicBezTo>
                  <a:pt x="20344" y="15532"/>
                  <a:pt x="20188" y="15553"/>
                  <a:pt x="20241" y="15553"/>
                </a:cubicBezTo>
                <a:cubicBezTo>
                  <a:pt x="20282" y="15553"/>
                  <a:pt x="20330" y="15583"/>
                  <a:pt x="20365" y="15602"/>
                </a:cubicBezTo>
                <a:cubicBezTo>
                  <a:pt x="20430" y="15637"/>
                  <a:pt x="20458" y="15681"/>
                  <a:pt x="20464" y="15751"/>
                </a:cubicBezTo>
                <a:cubicBezTo>
                  <a:pt x="20467" y="15788"/>
                  <a:pt x="20480" y="15855"/>
                  <a:pt x="20439" y="15875"/>
                </a:cubicBezTo>
                <a:cubicBezTo>
                  <a:pt x="20397" y="15896"/>
                  <a:pt x="20368" y="15900"/>
                  <a:pt x="20315" y="15900"/>
                </a:cubicBezTo>
                <a:cubicBezTo>
                  <a:pt x="20275" y="15900"/>
                  <a:pt x="20223" y="15894"/>
                  <a:pt x="20191" y="15875"/>
                </a:cubicBezTo>
                <a:cubicBezTo>
                  <a:pt x="20152" y="15851"/>
                  <a:pt x="20104" y="15803"/>
                  <a:pt x="20067" y="15776"/>
                </a:cubicBezTo>
                <a:cubicBezTo>
                  <a:pt x="20059" y="15768"/>
                  <a:pt x="20050" y="15759"/>
                  <a:pt x="20042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1680" y="5276880"/>
            <a:ext cx="6099120" cy="1090440"/>
          </a:xfrm>
          <a:custGeom>
            <a:avLst/>
            <a:gdLst/>
            <a:ahLst/>
            <a:rect l="l" t="t" r="r" b="b"/>
            <a:pathLst>
              <a:path w="16942" h="3027">
                <a:moveTo>
                  <a:pt x="1588" y="15032"/>
                </a:moveTo>
                <a:cubicBezTo>
                  <a:pt x="1671" y="15032"/>
                  <a:pt x="1753" y="15032"/>
                  <a:pt x="1836" y="15032"/>
                </a:cubicBezTo>
              </a:path>
              <a:path w="16942" h="3027">
                <a:moveTo>
                  <a:pt x="2108" y="14709"/>
                </a:moveTo>
                <a:cubicBezTo>
                  <a:pt x="2181" y="14692"/>
                  <a:pt x="2215" y="14684"/>
                  <a:pt x="2282" y="14684"/>
                </a:cubicBezTo>
                <a:cubicBezTo>
                  <a:pt x="2351" y="14684"/>
                  <a:pt x="2356" y="14697"/>
                  <a:pt x="2356" y="14759"/>
                </a:cubicBezTo>
                <a:cubicBezTo>
                  <a:pt x="2356" y="14813"/>
                  <a:pt x="2313" y="14812"/>
                  <a:pt x="2282" y="14833"/>
                </a:cubicBezTo>
                <a:cubicBezTo>
                  <a:pt x="2236" y="14863"/>
                  <a:pt x="2241" y="14883"/>
                  <a:pt x="2183" y="14883"/>
                </a:cubicBezTo>
                <a:cubicBezTo>
                  <a:pt x="2193" y="14913"/>
                  <a:pt x="2225" y="14925"/>
                  <a:pt x="2257" y="14957"/>
                </a:cubicBezTo>
                <a:cubicBezTo>
                  <a:pt x="2304" y="15004"/>
                  <a:pt x="2319" y="15052"/>
                  <a:pt x="2356" y="15106"/>
                </a:cubicBezTo>
                <a:cubicBezTo>
                  <a:pt x="2396" y="15165"/>
                  <a:pt x="2406" y="15183"/>
                  <a:pt x="2406" y="15255"/>
                </a:cubicBezTo>
                <a:cubicBezTo>
                  <a:pt x="2406" y="15322"/>
                  <a:pt x="2384" y="15331"/>
                  <a:pt x="2332" y="15354"/>
                </a:cubicBezTo>
                <a:cubicBezTo>
                  <a:pt x="2249" y="15390"/>
                  <a:pt x="2264" y="15375"/>
                  <a:pt x="2183" y="15354"/>
                </a:cubicBezTo>
                <a:cubicBezTo>
                  <a:pt x="2142" y="15344"/>
                  <a:pt x="2113" y="15326"/>
                  <a:pt x="2108" y="15280"/>
                </a:cubicBezTo>
                <a:cubicBezTo>
                  <a:pt x="2108" y="15272"/>
                  <a:pt x="2108" y="15263"/>
                  <a:pt x="2108" y="15255"/>
                </a:cubicBezTo>
              </a:path>
              <a:path w="16942" h="3027">
                <a:moveTo>
                  <a:pt x="2654" y="15106"/>
                </a:moveTo>
                <a:cubicBezTo>
                  <a:pt x="2738" y="15125"/>
                  <a:pt x="2767" y="15152"/>
                  <a:pt x="2828" y="15106"/>
                </a:cubicBezTo>
              </a:path>
              <a:path w="16942" h="3027">
                <a:moveTo>
                  <a:pt x="3076" y="14908"/>
                </a:moveTo>
                <a:cubicBezTo>
                  <a:pt x="3092" y="15015"/>
                  <a:pt x="3101" y="15099"/>
                  <a:pt x="3101" y="15205"/>
                </a:cubicBezTo>
                <a:cubicBezTo>
                  <a:pt x="3101" y="15239"/>
                  <a:pt x="3101" y="15439"/>
                  <a:pt x="3101" y="15379"/>
                </a:cubicBezTo>
                <a:cubicBezTo>
                  <a:pt x="3101" y="15242"/>
                  <a:pt x="3104" y="15112"/>
                  <a:pt x="3125" y="14982"/>
                </a:cubicBezTo>
                <a:cubicBezTo>
                  <a:pt x="3135" y="14919"/>
                  <a:pt x="3123" y="14842"/>
                  <a:pt x="3150" y="14784"/>
                </a:cubicBezTo>
                <a:cubicBezTo>
                  <a:pt x="3180" y="14720"/>
                  <a:pt x="3248" y="14701"/>
                  <a:pt x="3299" y="14684"/>
                </a:cubicBezTo>
                <a:cubicBezTo>
                  <a:pt x="3377" y="14657"/>
                  <a:pt x="3460" y="14641"/>
                  <a:pt x="3547" y="14660"/>
                </a:cubicBezTo>
                <a:cubicBezTo>
                  <a:pt x="3555" y="14668"/>
                  <a:pt x="3564" y="14676"/>
                  <a:pt x="3572" y="14684"/>
                </a:cubicBezTo>
              </a:path>
              <a:path w="16942" h="3027">
                <a:moveTo>
                  <a:pt x="3423" y="14932"/>
                </a:moveTo>
                <a:cubicBezTo>
                  <a:pt x="3469" y="14978"/>
                  <a:pt x="3481" y="14982"/>
                  <a:pt x="3547" y="14982"/>
                </a:cubicBezTo>
                <a:cubicBezTo>
                  <a:pt x="3577" y="14982"/>
                  <a:pt x="3655" y="15009"/>
                  <a:pt x="3671" y="15032"/>
                </a:cubicBezTo>
                <a:cubicBezTo>
                  <a:pt x="3691" y="15061"/>
                  <a:pt x="3662" y="15113"/>
                  <a:pt x="3646" y="15131"/>
                </a:cubicBezTo>
                <a:cubicBezTo>
                  <a:pt x="3621" y="15159"/>
                  <a:pt x="3570" y="15177"/>
                  <a:pt x="3547" y="15180"/>
                </a:cubicBezTo>
                <a:cubicBezTo>
                  <a:pt x="3539" y="15180"/>
                  <a:pt x="3530" y="15180"/>
                  <a:pt x="3522" y="15180"/>
                </a:cubicBezTo>
                <a:cubicBezTo>
                  <a:pt x="3533" y="15225"/>
                  <a:pt x="3558" y="15232"/>
                  <a:pt x="3597" y="15255"/>
                </a:cubicBezTo>
                <a:cubicBezTo>
                  <a:pt x="3651" y="15286"/>
                  <a:pt x="3710" y="15325"/>
                  <a:pt x="3746" y="15379"/>
                </a:cubicBezTo>
                <a:cubicBezTo>
                  <a:pt x="3772" y="15418"/>
                  <a:pt x="3784" y="15485"/>
                  <a:pt x="3721" y="15503"/>
                </a:cubicBezTo>
                <a:cubicBezTo>
                  <a:pt x="3648" y="15524"/>
                  <a:pt x="3563" y="15494"/>
                  <a:pt x="3497" y="15478"/>
                </a:cubicBezTo>
                <a:cubicBezTo>
                  <a:pt x="3494" y="15477"/>
                  <a:pt x="3383" y="15483"/>
                  <a:pt x="3423" y="15453"/>
                </a:cubicBezTo>
                <a:cubicBezTo>
                  <a:pt x="3431" y="15453"/>
                  <a:pt x="3440" y="15453"/>
                  <a:pt x="3448" y="15453"/>
                </a:cubicBezTo>
              </a:path>
              <a:path w="16942" h="3027">
                <a:moveTo>
                  <a:pt x="4068" y="15577"/>
                </a:moveTo>
                <a:cubicBezTo>
                  <a:pt x="4008" y="15613"/>
                  <a:pt x="3945" y="15602"/>
                  <a:pt x="3870" y="15602"/>
                </a:cubicBezTo>
                <a:cubicBezTo>
                  <a:pt x="3431" y="15602"/>
                  <a:pt x="2962" y="15553"/>
                  <a:pt x="2530" y="15577"/>
                </a:cubicBezTo>
                <a:cubicBezTo>
                  <a:pt x="2415" y="15583"/>
                  <a:pt x="2302" y="15602"/>
                  <a:pt x="2183" y="15602"/>
                </a:cubicBezTo>
                <a:cubicBezTo>
                  <a:pt x="2095" y="15602"/>
                  <a:pt x="2033" y="15599"/>
                  <a:pt x="1960" y="15577"/>
                </a:cubicBezTo>
                <a:cubicBezTo>
                  <a:pt x="1952" y="15577"/>
                  <a:pt x="1943" y="15577"/>
                  <a:pt x="1935" y="15577"/>
                </a:cubicBezTo>
              </a:path>
              <a:path w="16942" h="3027">
                <a:moveTo>
                  <a:pt x="2356" y="15825"/>
                </a:moveTo>
                <a:cubicBezTo>
                  <a:pt x="2423" y="15825"/>
                  <a:pt x="2469" y="15821"/>
                  <a:pt x="2530" y="15850"/>
                </a:cubicBezTo>
                <a:cubicBezTo>
                  <a:pt x="2590" y="15878"/>
                  <a:pt x="2622" y="15906"/>
                  <a:pt x="2629" y="15974"/>
                </a:cubicBezTo>
                <a:cubicBezTo>
                  <a:pt x="2630" y="15988"/>
                  <a:pt x="2578" y="16042"/>
                  <a:pt x="2555" y="16049"/>
                </a:cubicBezTo>
                <a:cubicBezTo>
                  <a:pt x="2495" y="16066"/>
                  <a:pt x="2463" y="16027"/>
                  <a:pt x="2431" y="16073"/>
                </a:cubicBezTo>
                <a:cubicBezTo>
                  <a:pt x="2489" y="16073"/>
                  <a:pt x="2484" y="16093"/>
                  <a:pt x="2530" y="16123"/>
                </a:cubicBezTo>
                <a:cubicBezTo>
                  <a:pt x="2603" y="16170"/>
                  <a:pt x="2619" y="16212"/>
                  <a:pt x="2654" y="16272"/>
                </a:cubicBezTo>
                <a:cubicBezTo>
                  <a:pt x="2682" y="16321"/>
                  <a:pt x="2695" y="16350"/>
                  <a:pt x="2654" y="16396"/>
                </a:cubicBezTo>
                <a:cubicBezTo>
                  <a:pt x="2613" y="16442"/>
                  <a:pt x="2562" y="16467"/>
                  <a:pt x="2505" y="16470"/>
                </a:cubicBezTo>
                <a:cubicBezTo>
                  <a:pt x="2435" y="16474"/>
                  <a:pt x="2378" y="16485"/>
                  <a:pt x="2332" y="16421"/>
                </a:cubicBezTo>
                <a:cubicBezTo>
                  <a:pt x="2325" y="16411"/>
                  <a:pt x="2332" y="16359"/>
                  <a:pt x="2332" y="16346"/>
                </a:cubicBezTo>
              </a:path>
              <a:path w="16942" h="3027">
                <a:moveTo>
                  <a:pt x="2853" y="16222"/>
                </a:moveTo>
                <a:cubicBezTo>
                  <a:pt x="2958" y="16231"/>
                  <a:pt x="3024" y="16244"/>
                  <a:pt x="3125" y="16222"/>
                </a:cubicBezTo>
                <a:cubicBezTo>
                  <a:pt x="3133" y="16222"/>
                  <a:pt x="3142" y="16222"/>
                  <a:pt x="3150" y="16222"/>
                </a:cubicBezTo>
              </a:path>
              <a:path w="16942" h="3027">
                <a:moveTo>
                  <a:pt x="3324" y="16197"/>
                </a:moveTo>
                <a:cubicBezTo>
                  <a:pt x="3324" y="16312"/>
                  <a:pt x="3319" y="16421"/>
                  <a:pt x="3349" y="16520"/>
                </a:cubicBezTo>
                <a:cubicBezTo>
                  <a:pt x="3366" y="16577"/>
                  <a:pt x="3349" y="16462"/>
                  <a:pt x="3349" y="16446"/>
                </a:cubicBezTo>
                <a:cubicBezTo>
                  <a:pt x="3349" y="16325"/>
                  <a:pt x="3352" y="16205"/>
                  <a:pt x="3373" y="16098"/>
                </a:cubicBezTo>
                <a:cubicBezTo>
                  <a:pt x="3383" y="16046"/>
                  <a:pt x="3409" y="15971"/>
                  <a:pt x="3473" y="15949"/>
                </a:cubicBezTo>
                <a:cubicBezTo>
                  <a:pt x="3571" y="15916"/>
                  <a:pt x="3740" y="15949"/>
                  <a:pt x="3845" y="15949"/>
                </a:cubicBezTo>
              </a:path>
              <a:path w="16942" h="3027">
                <a:moveTo>
                  <a:pt x="3646" y="16098"/>
                </a:moveTo>
                <a:cubicBezTo>
                  <a:pt x="3678" y="16141"/>
                  <a:pt x="3665" y="16148"/>
                  <a:pt x="3721" y="16148"/>
                </a:cubicBezTo>
                <a:cubicBezTo>
                  <a:pt x="3744" y="16148"/>
                  <a:pt x="3824" y="16163"/>
                  <a:pt x="3845" y="16173"/>
                </a:cubicBezTo>
                <a:cubicBezTo>
                  <a:pt x="3889" y="16194"/>
                  <a:pt x="3894" y="16230"/>
                  <a:pt x="3894" y="16272"/>
                </a:cubicBezTo>
                <a:cubicBezTo>
                  <a:pt x="3894" y="16339"/>
                  <a:pt x="3858" y="16337"/>
                  <a:pt x="3820" y="16371"/>
                </a:cubicBezTo>
                <a:cubicBezTo>
                  <a:pt x="3788" y="16400"/>
                  <a:pt x="3787" y="16396"/>
                  <a:pt x="3746" y="16396"/>
                </a:cubicBezTo>
                <a:cubicBezTo>
                  <a:pt x="3754" y="16420"/>
                  <a:pt x="3794" y="16461"/>
                  <a:pt x="3820" y="16495"/>
                </a:cubicBezTo>
                <a:cubicBezTo>
                  <a:pt x="3849" y="16533"/>
                  <a:pt x="3889" y="16573"/>
                  <a:pt x="3894" y="16619"/>
                </a:cubicBezTo>
                <a:cubicBezTo>
                  <a:pt x="3898" y="16655"/>
                  <a:pt x="3885" y="16688"/>
                  <a:pt x="3845" y="16694"/>
                </a:cubicBezTo>
                <a:cubicBezTo>
                  <a:pt x="3741" y="16710"/>
                  <a:pt x="3730" y="16672"/>
                  <a:pt x="3646" y="16644"/>
                </a:cubicBezTo>
                <a:cubicBezTo>
                  <a:pt x="3607" y="16631"/>
                  <a:pt x="3577" y="16617"/>
                  <a:pt x="3572" y="16570"/>
                </a:cubicBezTo>
                <a:cubicBezTo>
                  <a:pt x="3572" y="16562"/>
                  <a:pt x="3572" y="16553"/>
                  <a:pt x="3572" y="16545"/>
                </a:cubicBezTo>
              </a:path>
              <a:path w="16942" h="3027">
                <a:moveTo>
                  <a:pt x="4341" y="16520"/>
                </a:moveTo>
                <a:cubicBezTo>
                  <a:pt x="4341" y="16512"/>
                  <a:pt x="4341" y="16503"/>
                  <a:pt x="4341" y="16495"/>
                </a:cubicBezTo>
              </a:path>
              <a:path w="16942" h="3027">
                <a:moveTo>
                  <a:pt x="3994" y="14833"/>
                </a:moveTo>
                <a:cubicBezTo>
                  <a:pt x="4002" y="14833"/>
                  <a:pt x="4010" y="14833"/>
                  <a:pt x="4018" y="14833"/>
                </a:cubicBezTo>
              </a:path>
              <a:path w="16942" h="3027">
                <a:moveTo>
                  <a:pt x="4589" y="15974"/>
                </a:moveTo>
                <a:cubicBezTo>
                  <a:pt x="4636" y="15974"/>
                  <a:pt x="4700" y="15978"/>
                  <a:pt x="4738" y="15999"/>
                </a:cubicBezTo>
                <a:cubicBezTo>
                  <a:pt x="4770" y="16017"/>
                  <a:pt x="4845" y="16060"/>
                  <a:pt x="4862" y="16098"/>
                </a:cubicBezTo>
                <a:cubicBezTo>
                  <a:pt x="4881" y="16141"/>
                  <a:pt x="4854" y="16161"/>
                  <a:pt x="4837" y="16173"/>
                </a:cubicBezTo>
                <a:cubicBezTo>
                  <a:pt x="4798" y="16201"/>
                  <a:pt x="4773" y="16178"/>
                  <a:pt x="4738" y="16197"/>
                </a:cubicBezTo>
                <a:cubicBezTo>
                  <a:pt x="4690" y="16224"/>
                  <a:pt x="4689" y="16215"/>
                  <a:pt x="4713" y="16247"/>
                </a:cubicBezTo>
                <a:cubicBezTo>
                  <a:pt x="4756" y="16304"/>
                  <a:pt x="4822" y="16330"/>
                  <a:pt x="4862" y="16396"/>
                </a:cubicBezTo>
                <a:cubicBezTo>
                  <a:pt x="4891" y="16444"/>
                  <a:pt x="4938" y="16553"/>
                  <a:pt x="4911" y="16619"/>
                </a:cubicBezTo>
                <a:cubicBezTo>
                  <a:pt x="4889" y="16675"/>
                  <a:pt x="4858" y="16668"/>
                  <a:pt x="4812" y="16694"/>
                </a:cubicBezTo>
                <a:cubicBezTo>
                  <a:pt x="4764" y="16722"/>
                  <a:pt x="4733" y="16733"/>
                  <a:pt x="4688" y="16694"/>
                </a:cubicBezTo>
                <a:cubicBezTo>
                  <a:pt x="4659" y="16669"/>
                  <a:pt x="4654" y="16630"/>
                  <a:pt x="4638" y="16594"/>
                </a:cubicBezTo>
              </a:path>
              <a:path w="16942" h="3027">
                <a:moveTo>
                  <a:pt x="5234" y="16148"/>
                </a:moveTo>
                <a:cubicBezTo>
                  <a:pt x="5216" y="16247"/>
                  <a:pt x="5209" y="16323"/>
                  <a:pt x="5209" y="16421"/>
                </a:cubicBezTo>
                <a:cubicBezTo>
                  <a:pt x="5209" y="16499"/>
                  <a:pt x="5229" y="16550"/>
                  <a:pt x="5259" y="16619"/>
                </a:cubicBezTo>
              </a:path>
              <a:path w="16942" h="3027">
                <a:moveTo>
                  <a:pt x="5060" y="16297"/>
                </a:moveTo>
                <a:cubicBezTo>
                  <a:pt x="5125" y="16297"/>
                  <a:pt x="5174" y="16313"/>
                  <a:pt x="5234" y="16321"/>
                </a:cubicBezTo>
                <a:cubicBezTo>
                  <a:pt x="5312" y="16331"/>
                  <a:pt x="5339" y="16338"/>
                  <a:pt x="5407" y="16321"/>
                </a:cubicBezTo>
              </a:path>
              <a:path w="16942" h="3027">
                <a:moveTo>
                  <a:pt x="5581" y="16297"/>
                </a:moveTo>
                <a:cubicBezTo>
                  <a:pt x="5581" y="16418"/>
                  <a:pt x="5574" y="16539"/>
                  <a:pt x="5606" y="16644"/>
                </a:cubicBezTo>
                <a:cubicBezTo>
                  <a:pt x="5622" y="16698"/>
                  <a:pt x="5606" y="16598"/>
                  <a:pt x="5606" y="16570"/>
                </a:cubicBezTo>
                <a:cubicBezTo>
                  <a:pt x="5606" y="16481"/>
                  <a:pt x="5621" y="16403"/>
                  <a:pt x="5631" y="16321"/>
                </a:cubicBezTo>
                <a:cubicBezTo>
                  <a:pt x="5643" y="16223"/>
                  <a:pt x="5621" y="16146"/>
                  <a:pt x="5655" y="16049"/>
                </a:cubicBezTo>
                <a:cubicBezTo>
                  <a:pt x="5688" y="15954"/>
                  <a:pt x="5759" y="15963"/>
                  <a:pt x="5854" y="15949"/>
                </a:cubicBezTo>
                <a:cubicBezTo>
                  <a:pt x="5884" y="15945"/>
                  <a:pt x="5900" y="15967"/>
                  <a:pt x="5928" y="15974"/>
                </a:cubicBezTo>
              </a:path>
              <a:path w="16942" h="3027">
                <a:moveTo>
                  <a:pt x="5854" y="16197"/>
                </a:moveTo>
                <a:cubicBezTo>
                  <a:pt x="5863" y="16225"/>
                  <a:pt x="5888" y="16242"/>
                  <a:pt x="5928" y="16247"/>
                </a:cubicBezTo>
                <a:cubicBezTo>
                  <a:pt x="5981" y="16253"/>
                  <a:pt x="6005" y="16262"/>
                  <a:pt x="6052" y="16297"/>
                </a:cubicBezTo>
                <a:cubicBezTo>
                  <a:pt x="6101" y="16333"/>
                  <a:pt x="6127" y="16334"/>
                  <a:pt x="6127" y="16396"/>
                </a:cubicBezTo>
                <a:cubicBezTo>
                  <a:pt x="6127" y="16451"/>
                  <a:pt x="6083" y="16449"/>
                  <a:pt x="6052" y="16470"/>
                </a:cubicBezTo>
                <a:cubicBezTo>
                  <a:pt x="6021" y="16491"/>
                  <a:pt x="6008" y="16497"/>
                  <a:pt x="5978" y="16520"/>
                </a:cubicBezTo>
                <a:cubicBezTo>
                  <a:pt x="6039" y="16535"/>
                  <a:pt x="6071" y="16587"/>
                  <a:pt x="6102" y="16644"/>
                </a:cubicBezTo>
                <a:cubicBezTo>
                  <a:pt x="6127" y="16690"/>
                  <a:pt x="6147" y="16789"/>
                  <a:pt x="6127" y="16842"/>
                </a:cubicBezTo>
                <a:cubicBezTo>
                  <a:pt x="6122" y="16856"/>
                  <a:pt x="6021" y="16937"/>
                  <a:pt x="6003" y="16942"/>
                </a:cubicBezTo>
                <a:cubicBezTo>
                  <a:pt x="5922" y="16965"/>
                  <a:pt x="5897" y="16916"/>
                  <a:pt x="5854" y="16867"/>
                </a:cubicBezTo>
                <a:cubicBezTo>
                  <a:pt x="5802" y="16816"/>
                  <a:pt x="5784" y="16797"/>
                  <a:pt x="5779" y="16743"/>
                </a:cubicBezTo>
              </a:path>
              <a:path w="16942" h="3027">
                <a:moveTo>
                  <a:pt x="4291" y="14883"/>
                </a:moveTo>
                <a:cubicBezTo>
                  <a:pt x="4340" y="14810"/>
                  <a:pt x="4370" y="14833"/>
                  <a:pt x="4465" y="14833"/>
                </a:cubicBezTo>
                <a:cubicBezTo>
                  <a:pt x="4516" y="14833"/>
                  <a:pt x="4604" y="14865"/>
                  <a:pt x="4638" y="14908"/>
                </a:cubicBezTo>
                <a:cubicBezTo>
                  <a:pt x="4661" y="14938"/>
                  <a:pt x="4613" y="14996"/>
                  <a:pt x="4589" y="15007"/>
                </a:cubicBezTo>
                <a:cubicBezTo>
                  <a:pt x="4559" y="15021"/>
                  <a:pt x="4507" y="15041"/>
                  <a:pt x="4490" y="15081"/>
                </a:cubicBezTo>
                <a:cubicBezTo>
                  <a:pt x="4474" y="15118"/>
                  <a:pt x="4550" y="15184"/>
                  <a:pt x="4564" y="15205"/>
                </a:cubicBezTo>
                <a:cubicBezTo>
                  <a:pt x="4600" y="15260"/>
                  <a:pt x="4633" y="15318"/>
                  <a:pt x="4638" y="15379"/>
                </a:cubicBezTo>
                <a:cubicBezTo>
                  <a:pt x="4646" y="15478"/>
                  <a:pt x="4628" y="15446"/>
                  <a:pt x="4564" y="15478"/>
                </a:cubicBezTo>
                <a:cubicBezTo>
                  <a:pt x="4500" y="15510"/>
                  <a:pt x="4462" y="15510"/>
                  <a:pt x="4390" y="15478"/>
                </a:cubicBezTo>
                <a:cubicBezTo>
                  <a:pt x="4336" y="15454"/>
                  <a:pt x="4326" y="15422"/>
                  <a:pt x="4291" y="15379"/>
                </a:cubicBezTo>
              </a:path>
              <a:path w="16942" h="3027">
                <a:moveTo>
                  <a:pt x="4986" y="15106"/>
                </a:moveTo>
                <a:cubicBezTo>
                  <a:pt x="4986" y="15223"/>
                  <a:pt x="4994" y="15321"/>
                  <a:pt x="5011" y="15429"/>
                </a:cubicBezTo>
                <a:cubicBezTo>
                  <a:pt x="5021" y="15492"/>
                  <a:pt x="5000" y="15480"/>
                  <a:pt x="5035" y="15528"/>
                </a:cubicBezTo>
              </a:path>
              <a:path w="16942" h="3027">
                <a:moveTo>
                  <a:pt x="4787" y="15230"/>
                </a:moveTo>
                <a:cubicBezTo>
                  <a:pt x="4905" y="15209"/>
                  <a:pt x="5020" y="15211"/>
                  <a:pt x="5135" y="15180"/>
                </a:cubicBezTo>
              </a:path>
              <a:path w="16942" h="3027">
                <a:moveTo>
                  <a:pt x="5308" y="15205"/>
                </a:moveTo>
                <a:cubicBezTo>
                  <a:pt x="5296" y="15262"/>
                  <a:pt x="5262" y="15365"/>
                  <a:pt x="5283" y="15429"/>
                </a:cubicBezTo>
                <a:cubicBezTo>
                  <a:pt x="5300" y="15480"/>
                  <a:pt x="5314" y="15492"/>
                  <a:pt x="5358" y="15503"/>
                </a:cubicBezTo>
                <a:cubicBezTo>
                  <a:pt x="5358" y="15436"/>
                  <a:pt x="5343" y="15390"/>
                  <a:pt x="5333" y="15329"/>
                </a:cubicBezTo>
                <a:cubicBezTo>
                  <a:pt x="5320" y="15251"/>
                  <a:pt x="5311" y="15159"/>
                  <a:pt x="5308" y="15081"/>
                </a:cubicBezTo>
                <a:cubicBezTo>
                  <a:pt x="5305" y="15009"/>
                  <a:pt x="5294" y="14921"/>
                  <a:pt x="5333" y="14858"/>
                </a:cubicBezTo>
                <a:cubicBezTo>
                  <a:pt x="5372" y="14795"/>
                  <a:pt x="5424" y="14803"/>
                  <a:pt x="5482" y="14784"/>
                </a:cubicBezTo>
                <a:cubicBezTo>
                  <a:pt x="5563" y="14757"/>
                  <a:pt x="5549" y="14772"/>
                  <a:pt x="5631" y="14784"/>
                </a:cubicBezTo>
              </a:path>
              <a:path w="16942" h="3027">
                <a:moveTo>
                  <a:pt x="5581" y="15032"/>
                </a:moveTo>
                <a:cubicBezTo>
                  <a:pt x="5657" y="15073"/>
                  <a:pt x="5763" y="15095"/>
                  <a:pt x="5829" y="15156"/>
                </a:cubicBezTo>
                <a:cubicBezTo>
                  <a:pt x="5829" y="15164"/>
                  <a:pt x="5829" y="15172"/>
                  <a:pt x="5829" y="15180"/>
                </a:cubicBezTo>
                <a:cubicBezTo>
                  <a:pt x="5802" y="15207"/>
                  <a:pt x="5718" y="15261"/>
                  <a:pt x="5705" y="15280"/>
                </a:cubicBezTo>
                <a:cubicBezTo>
                  <a:pt x="5705" y="15288"/>
                  <a:pt x="5705" y="15296"/>
                  <a:pt x="5705" y="15304"/>
                </a:cubicBezTo>
                <a:cubicBezTo>
                  <a:pt x="5749" y="15348"/>
                  <a:pt x="5767" y="15359"/>
                  <a:pt x="5804" y="15404"/>
                </a:cubicBezTo>
                <a:cubicBezTo>
                  <a:pt x="5834" y="15441"/>
                  <a:pt x="5897" y="15500"/>
                  <a:pt x="5879" y="15553"/>
                </a:cubicBezTo>
                <a:cubicBezTo>
                  <a:pt x="5863" y="15601"/>
                  <a:pt x="5817" y="15617"/>
                  <a:pt x="5779" y="15652"/>
                </a:cubicBezTo>
                <a:cubicBezTo>
                  <a:pt x="5764" y="15666"/>
                  <a:pt x="5675" y="15702"/>
                  <a:pt x="5655" y="15677"/>
                </a:cubicBezTo>
                <a:cubicBezTo>
                  <a:pt x="5655" y="15637"/>
                  <a:pt x="5666" y="15618"/>
                  <a:pt x="5705" y="15602"/>
                </a:cubicBezTo>
              </a:path>
              <a:path w="16942" h="3027">
                <a:moveTo>
                  <a:pt x="6598" y="15652"/>
                </a:moveTo>
                <a:cubicBezTo>
                  <a:pt x="6738" y="15687"/>
                  <a:pt x="6744" y="15703"/>
                  <a:pt x="6821" y="15701"/>
                </a:cubicBezTo>
              </a:path>
              <a:path w="16942" h="3027">
                <a:moveTo>
                  <a:pt x="6598" y="15949"/>
                </a:moveTo>
                <a:lnTo>
                  <a:pt x="6598" y="15949"/>
                </a:lnTo>
              </a:path>
              <a:path w="16942" h="3027">
                <a:moveTo>
                  <a:pt x="6573" y="15850"/>
                </a:moveTo>
                <a:cubicBezTo>
                  <a:pt x="6617" y="15850"/>
                  <a:pt x="6640" y="15870"/>
                  <a:pt x="6672" y="15875"/>
                </a:cubicBezTo>
                <a:cubicBezTo>
                  <a:pt x="6753" y="15888"/>
                  <a:pt x="6818" y="15907"/>
                  <a:pt x="6896" y="15925"/>
                </a:cubicBezTo>
                <a:cubicBezTo>
                  <a:pt x="6926" y="15932"/>
                  <a:pt x="6964" y="15925"/>
                  <a:pt x="6995" y="15925"/>
                </a:cubicBezTo>
              </a:path>
              <a:path w="16942" h="3027">
                <a:moveTo>
                  <a:pt x="7466" y="15900"/>
                </a:moveTo>
                <a:cubicBezTo>
                  <a:pt x="7510" y="15904"/>
                  <a:pt x="7557" y="15921"/>
                  <a:pt x="7590" y="15925"/>
                </a:cubicBezTo>
                <a:cubicBezTo>
                  <a:pt x="7657" y="15933"/>
                  <a:pt x="7722" y="15943"/>
                  <a:pt x="7789" y="15949"/>
                </a:cubicBezTo>
                <a:cubicBezTo>
                  <a:pt x="7889" y="15958"/>
                  <a:pt x="7989" y="15964"/>
                  <a:pt x="8086" y="15974"/>
                </a:cubicBezTo>
                <a:cubicBezTo>
                  <a:pt x="8207" y="15987"/>
                  <a:pt x="8337" y="15990"/>
                  <a:pt x="8458" y="15999"/>
                </a:cubicBezTo>
                <a:cubicBezTo>
                  <a:pt x="8642" y="16013"/>
                  <a:pt x="8820" y="16059"/>
                  <a:pt x="9004" y="16073"/>
                </a:cubicBezTo>
                <a:cubicBezTo>
                  <a:pt x="9178" y="16086"/>
                  <a:pt x="9350" y="16113"/>
                  <a:pt x="9525" y="16123"/>
                </a:cubicBezTo>
                <a:cubicBezTo>
                  <a:pt x="9660" y="16131"/>
                  <a:pt x="9786" y="16148"/>
                  <a:pt x="9922" y="16148"/>
                </a:cubicBezTo>
                <a:cubicBezTo>
                  <a:pt x="10193" y="16148"/>
                  <a:pt x="10486" y="16140"/>
                  <a:pt x="10740" y="16173"/>
                </a:cubicBezTo>
                <a:cubicBezTo>
                  <a:pt x="10765" y="16173"/>
                  <a:pt x="10773" y="16173"/>
                  <a:pt x="10790" y="16173"/>
                </a:cubicBezTo>
                <a:cubicBezTo>
                  <a:pt x="10810" y="16094"/>
                  <a:pt x="10816" y="16177"/>
                  <a:pt x="10790" y="16073"/>
                </a:cubicBezTo>
              </a:path>
              <a:path w="16942" h="3027">
                <a:moveTo>
                  <a:pt x="7094" y="15156"/>
                </a:moveTo>
                <a:cubicBezTo>
                  <a:pt x="7152" y="15113"/>
                  <a:pt x="7162" y="15149"/>
                  <a:pt x="7218" y="15156"/>
                </a:cubicBezTo>
                <a:cubicBezTo>
                  <a:pt x="7291" y="15165"/>
                  <a:pt x="7347" y="15172"/>
                  <a:pt x="7417" y="15180"/>
                </a:cubicBezTo>
              </a:path>
              <a:path w="16942" h="3027">
                <a:moveTo>
                  <a:pt x="7962" y="15081"/>
                </a:moveTo>
                <a:cubicBezTo>
                  <a:pt x="7962" y="15015"/>
                  <a:pt x="7974" y="14971"/>
                  <a:pt x="7913" y="14932"/>
                </a:cubicBezTo>
                <a:cubicBezTo>
                  <a:pt x="7868" y="14904"/>
                  <a:pt x="7838" y="14908"/>
                  <a:pt x="7789" y="14908"/>
                </a:cubicBezTo>
                <a:cubicBezTo>
                  <a:pt x="7731" y="14908"/>
                  <a:pt x="7702" y="14944"/>
                  <a:pt x="7665" y="14982"/>
                </a:cubicBezTo>
                <a:cubicBezTo>
                  <a:pt x="7639" y="15008"/>
                  <a:pt x="7621" y="15068"/>
                  <a:pt x="7640" y="15106"/>
                </a:cubicBezTo>
                <a:cubicBezTo>
                  <a:pt x="7650" y="15125"/>
                  <a:pt x="7719" y="15199"/>
                  <a:pt x="7739" y="15205"/>
                </a:cubicBezTo>
                <a:cubicBezTo>
                  <a:pt x="7770" y="15214"/>
                  <a:pt x="7846" y="15214"/>
                  <a:pt x="7863" y="15180"/>
                </a:cubicBezTo>
                <a:cubicBezTo>
                  <a:pt x="7880" y="15147"/>
                  <a:pt x="7897" y="15128"/>
                  <a:pt x="7913" y="15106"/>
                </a:cubicBezTo>
                <a:cubicBezTo>
                  <a:pt x="7936" y="15075"/>
                  <a:pt x="7939" y="15063"/>
                  <a:pt x="7962" y="15032"/>
                </a:cubicBezTo>
                <a:cubicBezTo>
                  <a:pt x="7937" y="15084"/>
                  <a:pt x="7917" y="15145"/>
                  <a:pt x="7913" y="15205"/>
                </a:cubicBezTo>
                <a:cubicBezTo>
                  <a:pt x="7908" y="15290"/>
                  <a:pt x="7925" y="15351"/>
                  <a:pt x="7938" y="15429"/>
                </a:cubicBezTo>
                <a:cubicBezTo>
                  <a:pt x="7947" y="15485"/>
                  <a:pt x="7946" y="15506"/>
                  <a:pt x="7962" y="15553"/>
                </a:cubicBezTo>
                <a:cubicBezTo>
                  <a:pt x="7968" y="15572"/>
                  <a:pt x="7962" y="15607"/>
                  <a:pt x="7962" y="15627"/>
                </a:cubicBezTo>
                <a:cubicBezTo>
                  <a:pt x="7995" y="15627"/>
                  <a:pt x="8045" y="15627"/>
                  <a:pt x="8012" y="15627"/>
                </a:cubicBezTo>
                <a:cubicBezTo>
                  <a:pt x="7979" y="15627"/>
                  <a:pt x="8045" y="15627"/>
                  <a:pt x="8012" y="15627"/>
                </a:cubicBezTo>
                <a:cubicBezTo>
                  <a:pt x="7969" y="15627"/>
                  <a:pt x="8004" y="15609"/>
                  <a:pt x="8012" y="15577"/>
                </a:cubicBezTo>
              </a:path>
              <a:path w="16942" h="3027">
                <a:moveTo>
                  <a:pt x="8161" y="15329"/>
                </a:moveTo>
                <a:cubicBezTo>
                  <a:pt x="8183" y="15312"/>
                  <a:pt x="8226" y="15285"/>
                  <a:pt x="8260" y="15304"/>
                </a:cubicBezTo>
                <a:cubicBezTo>
                  <a:pt x="8297" y="15325"/>
                  <a:pt x="8333" y="15346"/>
                  <a:pt x="8384" y="15329"/>
                </a:cubicBezTo>
                <a:cubicBezTo>
                  <a:pt x="8401" y="15321"/>
                  <a:pt x="8417" y="15312"/>
                  <a:pt x="8434" y="15304"/>
                </a:cubicBezTo>
              </a:path>
              <a:path w="16942" h="3027">
                <a:moveTo>
                  <a:pt x="8632" y="15106"/>
                </a:moveTo>
                <a:cubicBezTo>
                  <a:pt x="8670" y="15077"/>
                  <a:pt x="8683" y="15081"/>
                  <a:pt x="8731" y="15081"/>
                </a:cubicBezTo>
                <a:cubicBezTo>
                  <a:pt x="8788" y="15081"/>
                  <a:pt x="8818" y="15119"/>
                  <a:pt x="8855" y="15156"/>
                </a:cubicBezTo>
                <a:cubicBezTo>
                  <a:pt x="8826" y="15184"/>
                  <a:pt x="8791" y="15218"/>
                  <a:pt x="8756" y="15230"/>
                </a:cubicBezTo>
                <a:cubicBezTo>
                  <a:pt x="8715" y="15244"/>
                  <a:pt x="8589" y="15255"/>
                  <a:pt x="8632" y="15255"/>
                </a:cubicBezTo>
                <a:cubicBezTo>
                  <a:pt x="8683" y="15255"/>
                  <a:pt x="8689" y="15257"/>
                  <a:pt x="8731" y="15280"/>
                </a:cubicBezTo>
                <a:cubicBezTo>
                  <a:pt x="8790" y="15313"/>
                  <a:pt x="8818" y="15333"/>
                  <a:pt x="8830" y="15404"/>
                </a:cubicBezTo>
                <a:cubicBezTo>
                  <a:pt x="8836" y="15440"/>
                  <a:pt x="8849" y="15580"/>
                  <a:pt x="8806" y="15602"/>
                </a:cubicBezTo>
                <a:cubicBezTo>
                  <a:pt x="8787" y="15612"/>
                  <a:pt x="8733" y="15643"/>
                  <a:pt x="8706" y="15627"/>
                </a:cubicBezTo>
                <a:cubicBezTo>
                  <a:pt x="8678" y="15611"/>
                  <a:pt x="8641" y="15555"/>
                  <a:pt x="8632" y="15528"/>
                </a:cubicBezTo>
                <a:cubicBezTo>
                  <a:pt x="8632" y="15520"/>
                  <a:pt x="8632" y="15511"/>
                  <a:pt x="8632" y="15503"/>
                </a:cubicBezTo>
              </a:path>
              <a:path w="16942" h="3027">
                <a:moveTo>
                  <a:pt x="8930" y="15304"/>
                </a:moveTo>
                <a:cubicBezTo>
                  <a:pt x="8930" y="15420"/>
                  <a:pt x="8930" y="15536"/>
                  <a:pt x="8930" y="15652"/>
                </a:cubicBezTo>
                <a:cubicBezTo>
                  <a:pt x="8966" y="15639"/>
                  <a:pt x="8954" y="15621"/>
                  <a:pt x="8954" y="15577"/>
                </a:cubicBezTo>
                <a:cubicBezTo>
                  <a:pt x="8954" y="15424"/>
                  <a:pt x="8955" y="15276"/>
                  <a:pt x="8979" y="15131"/>
                </a:cubicBezTo>
                <a:cubicBezTo>
                  <a:pt x="8989" y="15072"/>
                  <a:pt x="8960" y="14994"/>
                  <a:pt x="9029" y="14957"/>
                </a:cubicBezTo>
                <a:cubicBezTo>
                  <a:pt x="9088" y="14926"/>
                  <a:pt x="9140" y="14932"/>
                  <a:pt x="9203" y="14932"/>
                </a:cubicBezTo>
                <a:cubicBezTo>
                  <a:pt x="9247" y="14932"/>
                  <a:pt x="9261" y="14929"/>
                  <a:pt x="9277" y="14957"/>
                </a:cubicBezTo>
              </a:path>
              <a:path w="16942" h="3027">
                <a:moveTo>
                  <a:pt x="9227" y="15131"/>
                </a:moveTo>
                <a:cubicBezTo>
                  <a:pt x="9227" y="15156"/>
                  <a:pt x="9227" y="15164"/>
                  <a:pt x="9227" y="15180"/>
                </a:cubicBezTo>
                <a:cubicBezTo>
                  <a:pt x="9284" y="15180"/>
                  <a:pt x="9305" y="15190"/>
                  <a:pt x="9351" y="15205"/>
                </a:cubicBezTo>
                <a:cubicBezTo>
                  <a:pt x="9407" y="15224"/>
                  <a:pt x="9414" y="15261"/>
                  <a:pt x="9376" y="15304"/>
                </a:cubicBezTo>
                <a:cubicBezTo>
                  <a:pt x="9344" y="15340"/>
                  <a:pt x="9310" y="15357"/>
                  <a:pt x="9277" y="15379"/>
                </a:cubicBezTo>
                <a:cubicBezTo>
                  <a:pt x="9251" y="15396"/>
                  <a:pt x="9184" y="15404"/>
                  <a:pt x="9227" y="15404"/>
                </a:cubicBezTo>
                <a:cubicBezTo>
                  <a:pt x="9285" y="15404"/>
                  <a:pt x="9281" y="15423"/>
                  <a:pt x="9327" y="15453"/>
                </a:cubicBezTo>
                <a:cubicBezTo>
                  <a:pt x="9396" y="15497"/>
                  <a:pt x="9435" y="15567"/>
                  <a:pt x="9451" y="15652"/>
                </a:cubicBezTo>
                <a:cubicBezTo>
                  <a:pt x="9462" y="15707"/>
                  <a:pt x="9462" y="15785"/>
                  <a:pt x="9426" y="15825"/>
                </a:cubicBezTo>
                <a:cubicBezTo>
                  <a:pt x="9391" y="15864"/>
                  <a:pt x="9378" y="15875"/>
                  <a:pt x="9327" y="15875"/>
                </a:cubicBezTo>
                <a:cubicBezTo>
                  <a:pt x="9290" y="15875"/>
                  <a:pt x="9231" y="15849"/>
                  <a:pt x="9203" y="15825"/>
                </a:cubicBezTo>
                <a:cubicBezTo>
                  <a:pt x="9186" y="15809"/>
                  <a:pt x="9170" y="15792"/>
                  <a:pt x="9153" y="15776"/>
                </a:cubicBezTo>
              </a:path>
              <a:path w="16942" h="3027">
                <a:moveTo>
                  <a:pt x="9723" y="15503"/>
                </a:moveTo>
                <a:cubicBezTo>
                  <a:pt x="9793" y="15524"/>
                  <a:pt x="9826" y="15528"/>
                  <a:pt x="9897" y="15528"/>
                </a:cubicBezTo>
                <a:cubicBezTo>
                  <a:pt x="9925" y="15528"/>
                  <a:pt x="9936" y="15526"/>
                  <a:pt x="9947" y="15503"/>
                </a:cubicBezTo>
              </a:path>
              <a:path w="16942" h="3027">
                <a:moveTo>
                  <a:pt x="10071" y="15255"/>
                </a:moveTo>
                <a:cubicBezTo>
                  <a:pt x="10155" y="15229"/>
                  <a:pt x="10156" y="15218"/>
                  <a:pt x="10220" y="15255"/>
                </a:cubicBezTo>
                <a:cubicBezTo>
                  <a:pt x="10265" y="15281"/>
                  <a:pt x="10313" y="15299"/>
                  <a:pt x="10319" y="15354"/>
                </a:cubicBezTo>
                <a:cubicBezTo>
                  <a:pt x="10323" y="15389"/>
                  <a:pt x="10250" y="15406"/>
                  <a:pt x="10220" y="15429"/>
                </a:cubicBezTo>
                <a:cubicBezTo>
                  <a:pt x="10176" y="15462"/>
                  <a:pt x="10177" y="15478"/>
                  <a:pt x="10120" y="15478"/>
                </a:cubicBezTo>
                <a:cubicBezTo>
                  <a:pt x="10133" y="15517"/>
                  <a:pt x="10160" y="15504"/>
                  <a:pt x="10195" y="15528"/>
                </a:cubicBezTo>
                <a:cubicBezTo>
                  <a:pt x="10251" y="15565"/>
                  <a:pt x="10296" y="15603"/>
                  <a:pt x="10344" y="15652"/>
                </a:cubicBezTo>
                <a:cubicBezTo>
                  <a:pt x="10390" y="15699"/>
                  <a:pt x="10369" y="15753"/>
                  <a:pt x="10344" y="15801"/>
                </a:cubicBezTo>
                <a:cubicBezTo>
                  <a:pt x="10323" y="15841"/>
                  <a:pt x="10317" y="15904"/>
                  <a:pt x="10269" y="15925"/>
                </a:cubicBezTo>
                <a:cubicBezTo>
                  <a:pt x="10219" y="15947"/>
                  <a:pt x="10169" y="15885"/>
                  <a:pt x="10145" y="15850"/>
                </a:cubicBezTo>
                <a:cubicBezTo>
                  <a:pt x="10113" y="15803"/>
                  <a:pt x="10120" y="15780"/>
                  <a:pt x="10120" y="15726"/>
                </a:cubicBezTo>
              </a:path>
              <a:path w="16942" h="3027">
                <a:moveTo>
                  <a:pt x="10468" y="15404"/>
                </a:moveTo>
                <a:cubicBezTo>
                  <a:pt x="10468" y="15513"/>
                  <a:pt x="10484" y="15599"/>
                  <a:pt x="10492" y="15701"/>
                </a:cubicBezTo>
                <a:cubicBezTo>
                  <a:pt x="10495" y="15744"/>
                  <a:pt x="10522" y="15670"/>
                  <a:pt x="10517" y="15627"/>
                </a:cubicBezTo>
                <a:cubicBezTo>
                  <a:pt x="10508" y="15553"/>
                  <a:pt x="10517" y="15490"/>
                  <a:pt x="10517" y="15404"/>
                </a:cubicBezTo>
                <a:cubicBezTo>
                  <a:pt x="10517" y="15322"/>
                  <a:pt x="10554" y="15240"/>
                  <a:pt x="10567" y="15156"/>
                </a:cubicBezTo>
                <a:cubicBezTo>
                  <a:pt x="10577" y="15096"/>
                  <a:pt x="10610" y="15086"/>
                  <a:pt x="10666" y="15081"/>
                </a:cubicBezTo>
                <a:cubicBezTo>
                  <a:pt x="10717" y="15077"/>
                  <a:pt x="10752" y="15098"/>
                  <a:pt x="10790" y="15106"/>
                </a:cubicBezTo>
                <a:cubicBezTo>
                  <a:pt x="10835" y="15106"/>
                  <a:pt x="10848" y="15102"/>
                  <a:pt x="10864" y="15131"/>
                </a:cubicBezTo>
              </a:path>
              <a:path w="16942" h="3027">
                <a:moveTo>
                  <a:pt x="10790" y="15404"/>
                </a:moveTo>
                <a:cubicBezTo>
                  <a:pt x="10829" y="15394"/>
                  <a:pt x="10845" y="15379"/>
                  <a:pt x="10889" y="15379"/>
                </a:cubicBezTo>
                <a:cubicBezTo>
                  <a:pt x="10949" y="15379"/>
                  <a:pt x="10975" y="15378"/>
                  <a:pt x="11013" y="15429"/>
                </a:cubicBezTo>
                <a:cubicBezTo>
                  <a:pt x="11049" y="15478"/>
                  <a:pt x="11101" y="15569"/>
                  <a:pt x="11038" y="15627"/>
                </a:cubicBezTo>
                <a:cubicBezTo>
                  <a:pt x="11013" y="15650"/>
                  <a:pt x="10946" y="15698"/>
                  <a:pt x="10914" y="15701"/>
                </a:cubicBezTo>
                <a:cubicBezTo>
                  <a:pt x="10861" y="15707"/>
                  <a:pt x="10858" y="15701"/>
                  <a:pt x="10914" y="15701"/>
                </a:cubicBezTo>
                <a:cubicBezTo>
                  <a:pt x="10968" y="15701"/>
                  <a:pt x="10997" y="15714"/>
                  <a:pt x="11038" y="15751"/>
                </a:cubicBezTo>
                <a:cubicBezTo>
                  <a:pt x="11088" y="15796"/>
                  <a:pt x="11088" y="15838"/>
                  <a:pt x="11088" y="15900"/>
                </a:cubicBezTo>
                <a:cubicBezTo>
                  <a:pt x="11088" y="15954"/>
                  <a:pt x="11044" y="15953"/>
                  <a:pt x="11013" y="15974"/>
                </a:cubicBezTo>
                <a:cubicBezTo>
                  <a:pt x="10966" y="16005"/>
                  <a:pt x="10946" y="15997"/>
                  <a:pt x="10889" y="15974"/>
                </a:cubicBezTo>
                <a:cubicBezTo>
                  <a:pt x="10838" y="15953"/>
                  <a:pt x="10810" y="15920"/>
                  <a:pt x="10765" y="15900"/>
                </a:cubicBezTo>
                <a:cubicBezTo>
                  <a:pt x="10740" y="15900"/>
                  <a:pt x="10732" y="15900"/>
                  <a:pt x="10740" y="15875"/>
                </a:cubicBezTo>
              </a:path>
              <a:path w="16942" h="3027">
                <a:moveTo>
                  <a:pt x="11162" y="15602"/>
                </a:moveTo>
                <a:cubicBezTo>
                  <a:pt x="11286" y="15602"/>
                  <a:pt x="11389" y="15624"/>
                  <a:pt x="11485" y="15553"/>
                </a:cubicBezTo>
              </a:path>
              <a:path w="16942" h="3027">
                <a:moveTo>
                  <a:pt x="11757" y="15230"/>
                </a:moveTo>
                <a:cubicBezTo>
                  <a:pt x="11865" y="15214"/>
                  <a:pt x="11897" y="15205"/>
                  <a:pt x="11981" y="15280"/>
                </a:cubicBezTo>
                <a:cubicBezTo>
                  <a:pt x="12039" y="15332"/>
                  <a:pt x="12024" y="15323"/>
                  <a:pt x="12005" y="15379"/>
                </a:cubicBezTo>
                <a:cubicBezTo>
                  <a:pt x="11989" y="15426"/>
                  <a:pt x="11935" y="15448"/>
                  <a:pt x="11881" y="15453"/>
                </a:cubicBezTo>
                <a:cubicBezTo>
                  <a:pt x="11848" y="15456"/>
                  <a:pt x="11845" y="15447"/>
                  <a:pt x="11857" y="15478"/>
                </a:cubicBezTo>
                <a:cubicBezTo>
                  <a:pt x="11871" y="15513"/>
                  <a:pt x="11917" y="15518"/>
                  <a:pt x="11956" y="15553"/>
                </a:cubicBezTo>
                <a:cubicBezTo>
                  <a:pt x="11993" y="15586"/>
                  <a:pt x="12046" y="15677"/>
                  <a:pt x="12055" y="15726"/>
                </a:cubicBezTo>
                <a:cubicBezTo>
                  <a:pt x="12069" y="15809"/>
                  <a:pt x="12033" y="15847"/>
                  <a:pt x="11981" y="15900"/>
                </a:cubicBezTo>
                <a:cubicBezTo>
                  <a:pt x="11948" y="15933"/>
                  <a:pt x="11925" y="15925"/>
                  <a:pt x="11881" y="15925"/>
                </a:cubicBezTo>
                <a:cubicBezTo>
                  <a:pt x="11817" y="15925"/>
                  <a:pt x="11790" y="15869"/>
                  <a:pt x="11733" y="15850"/>
                </a:cubicBezTo>
                <a:cubicBezTo>
                  <a:pt x="11725" y="15850"/>
                  <a:pt x="11716" y="15850"/>
                  <a:pt x="11708" y="15850"/>
                </a:cubicBezTo>
              </a:path>
              <a:path w="16942" h="3027">
                <a:moveTo>
                  <a:pt x="8086" y="16470"/>
                </a:moveTo>
                <a:cubicBezTo>
                  <a:pt x="8086" y="16415"/>
                  <a:pt x="8099" y="16362"/>
                  <a:pt x="8062" y="16321"/>
                </a:cubicBezTo>
                <a:cubicBezTo>
                  <a:pt x="8015" y="16269"/>
                  <a:pt x="7968" y="16291"/>
                  <a:pt x="7913" y="16297"/>
                </a:cubicBezTo>
                <a:cubicBezTo>
                  <a:pt x="7822" y="16307"/>
                  <a:pt x="7734" y="16368"/>
                  <a:pt x="7689" y="16446"/>
                </a:cubicBezTo>
                <a:cubicBezTo>
                  <a:pt x="7643" y="16525"/>
                  <a:pt x="7680" y="16591"/>
                  <a:pt x="7714" y="16669"/>
                </a:cubicBezTo>
                <a:cubicBezTo>
                  <a:pt x="7728" y="16701"/>
                  <a:pt x="7800" y="16782"/>
                  <a:pt x="7838" y="16793"/>
                </a:cubicBezTo>
                <a:cubicBezTo>
                  <a:pt x="7882" y="16806"/>
                  <a:pt x="7951" y="16792"/>
                  <a:pt x="7987" y="16768"/>
                </a:cubicBezTo>
                <a:cubicBezTo>
                  <a:pt x="8027" y="16741"/>
                  <a:pt x="8051" y="16689"/>
                  <a:pt x="8062" y="16644"/>
                </a:cubicBezTo>
                <a:cubicBezTo>
                  <a:pt x="8062" y="16619"/>
                  <a:pt x="8062" y="16611"/>
                  <a:pt x="8086" y="16619"/>
                </a:cubicBezTo>
                <a:cubicBezTo>
                  <a:pt x="8061" y="16689"/>
                  <a:pt x="8062" y="16742"/>
                  <a:pt x="8062" y="16818"/>
                </a:cubicBezTo>
                <a:cubicBezTo>
                  <a:pt x="8062" y="16908"/>
                  <a:pt x="8073" y="16982"/>
                  <a:pt x="8086" y="17066"/>
                </a:cubicBezTo>
                <a:cubicBezTo>
                  <a:pt x="8092" y="17104"/>
                  <a:pt x="8066" y="17168"/>
                  <a:pt x="8111" y="17190"/>
                </a:cubicBezTo>
                <a:cubicBezTo>
                  <a:pt x="8119" y="17190"/>
                  <a:pt x="8128" y="17190"/>
                  <a:pt x="8136" y="17190"/>
                </a:cubicBezTo>
              </a:path>
              <a:path w="16942" h="3027">
                <a:moveTo>
                  <a:pt x="8508" y="16793"/>
                </a:moveTo>
                <a:cubicBezTo>
                  <a:pt x="8618" y="16793"/>
                  <a:pt x="8699" y="16791"/>
                  <a:pt x="8806" y="16768"/>
                </a:cubicBezTo>
              </a:path>
              <a:path w="16942" h="3027">
                <a:moveTo>
                  <a:pt x="9004" y="16520"/>
                </a:moveTo>
                <a:cubicBezTo>
                  <a:pt x="9115" y="16527"/>
                  <a:pt x="9169" y="16520"/>
                  <a:pt x="9252" y="16594"/>
                </a:cubicBezTo>
                <a:cubicBezTo>
                  <a:pt x="9310" y="16646"/>
                  <a:pt x="9296" y="16638"/>
                  <a:pt x="9277" y="16694"/>
                </a:cubicBezTo>
                <a:cubicBezTo>
                  <a:pt x="9267" y="16724"/>
                  <a:pt x="9239" y="16777"/>
                  <a:pt x="9203" y="16793"/>
                </a:cubicBezTo>
                <a:cubicBezTo>
                  <a:pt x="9169" y="16808"/>
                  <a:pt x="9144" y="16818"/>
                  <a:pt x="9103" y="16818"/>
                </a:cubicBezTo>
                <a:cubicBezTo>
                  <a:pt x="9110" y="16839"/>
                  <a:pt x="9147" y="16857"/>
                  <a:pt x="9178" y="16867"/>
                </a:cubicBezTo>
                <a:cubicBezTo>
                  <a:pt x="9227" y="16883"/>
                  <a:pt x="9257" y="16876"/>
                  <a:pt x="9302" y="16917"/>
                </a:cubicBezTo>
                <a:cubicBezTo>
                  <a:pt x="9371" y="16979"/>
                  <a:pt x="9372" y="16981"/>
                  <a:pt x="9401" y="17066"/>
                </a:cubicBezTo>
                <a:cubicBezTo>
                  <a:pt x="9422" y="17128"/>
                  <a:pt x="9415" y="17193"/>
                  <a:pt x="9351" y="17239"/>
                </a:cubicBezTo>
                <a:cubicBezTo>
                  <a:pt x="9294" y="17280"/>
                  <a:pt x="9271" y="17289"/>
                  <a:pt x="9203" y="17289"/>
                </a:cubicBezTo>
                <a:cubicBezTo>
                  <a:pt x="9131" y="17289"/>
                  <a:pt x="9094" y="17272"/>
                  <a:pt x="9029" y="17239"/>
                </a:cubicBezTo>
                <a:cubicBezTo>
                  <a:pt x="9012" y="17231"/>
                  <a:pt x="8996" y="17222"/>
                  <a:pt x="8979" y="17214"/>
                </a:cubicBezTo>
              </a:path>
              <a:path w="16942" h="3027">
                <a:moveTo>
                  <a:pt x="12154" y="16123"/>
                </a:moveTo>
                <a:cubicBezTo>
                  <a:pt x="12262" y="16123"/>
                  <a:pt x="12369" y="16123"/>
                  <a:pt x="12477" y="16123"/>
                </a:cubicBezTo>
              </a:path>
              <a:path w="16942" h="3027">
                <a:moveTo>
                  <a:pt x="12229" y="16297"/>
                </a:moveTo>
                <a:cubicBezTo>
                  <a:pt x="12291" y="16332"/>
                  <a:pt x="12328" y="16368"/>
                  <a:pt x="12402" y="16371"/>
                </a:cubicBezTo>
                <a:cubicBezTo>
                  <a:pt x="12427" y="16371"/>
                  <a:pt x="12452" y="16371"/>
                  <a:pt x="12477" y="16371"/>
                </a:cubicBezTo>
              </a:path>
              <a:path w="16942" h="3027">
                <a:moveTo>
                  <a:pt x="12874" y="15875"/>
                </a:moveTo>
                <a:cubicBezTo>
                  <a:pt x="12907" y="15867"/>
                  <a:pt x="12940" y="15858"/>
                  <a:pt x="12973" y="15850"/>
                </a:cubicBezTo>
              </a:path>
              <a:path w="16942" h="3027">
                <a:moveTo>
                  <a:pt x="13171" y="15528"/>
                </a:moveTo>
                <a:cubicBezTo>
                  <a:pt x="13171" y="15718"/>
                  <a:pt x="13171" y="15908"/>
                  <a:pt x="13171" y="16098"/>
                </a:cubicBezTo>
              </a:path>
              <a:path w="16942" h="3027">
                <a:moveTo>
                  <a:pt x="13395" y="15453"/>
                </a:moveTo>
                <a:cubicBezTo>
                  <a:pt x="13510" y="15437"/>
                  <a:pt x="13516" y="15426"/>
                  <a:pt x="13593" y="15503"/>
                </a:cubicBezTo>
                <a:cubicBezTo>
                  <a:pt x="13642" y="15552"/>
                  <a:pt x="13618" y="15620"/>
                  <a:pt x="13593" y="15677"/>
                </a:cubicBezTo>
                <a:cubicBezTo>
                  <a:pt x="13570" y="15729"/>
                  <a:pt x="13532" y="15784"/>
                  <a:pt x="13494" y="15825"/>
                </a:cubicBezTo>
                <a:cubicBezTo>
                  <a:pt x="13469" y="15853"/>
                  <a:pt x="13448" y="15889"/>
                  <a:pt x="13444" y="15925"/>
                </a:cubicBezTo>
                <a:cubicBezTo>
                  <a:pt x="13438" y="15981"/>
                  <a:pt x="13481" y="16002"/>
                  <a:pt x="13519" y="16024"/>
                </a:cubicBezTo>
                <a:cubicBezTo>
                  <a:pt x="13553" y="16043"/>
                  <a:pt x="13626" y="16066"/>
                  <a:pt x="13667" y="16049"/>
                </a:cubicBezTo>
                <a:cubicBezTo>
                  <a:pt x="13700" y="16035"/>
                  <a:pt x="13738" y="15997"/>
                  <a:pt x="13767" y="15974"/>
                </a:cubicBezTo>
              </a:path>
              <a:path w="16942" h="3027">
                <a:moveTo>
                  <a:pt x="13965" y="15677"/>
                </a:moveTo>
                <a:cubicBezTo>
                  <a:pt x="14064" y="15657"/>
                  <a:pt x="14080" y="15649"/>
                  <a:pt x="14139" y="15652"/>
                </a:cubicBezTo>
              </a:path>
              <a:path w="16942" h="3027">
                <a:moveTo>
                  <a:pt x="14288" y="15528"/>
                </a:moveTo>
                <a:cubicBezTo>
                  <a:pt x="14249" y="15609"/>
                  <a:pt x="14153" y="15772"/>
                  <a:pt x="14163" y="15875"/>
                </a:cubicBezTo>
                <a:cubicBezTo>
                  <a:pt x="14168" y="15930"/>
                  <a:pt x="14202" y="16027"/>
                  <a:pt x="14238" y="16073"/>
                </a:cubicBezTo>
                <a:cubicBezTo>
                  <a:pt x="14268" y="16111"/>
                  <a:pt x="14357" y="16179"/>
                  <a:pt x="14412" y="16148"/>
                </a:cubicBezTo>
                <a:cubicBezTo>
                  <a:pt x="14460" y="16120"/>
                  <a:pt x="14469" y="16067"/>
                  <a:pt x="14486" y="16024"/>
                </a:cubicBezTo>
                <a:cubicBezTo>
                  <a:pt x="14519" y="15942"/>
                  <a:pt x="14478" y="15926"/>
                  <a:pt x="14461" y="15875"/>
                </a:cubicBezTo>
                <a:cubicBezTo>
                  <a:pt x="14437" y="15893"/>
                  <a:pt x="14372" y="15914"/>
                  <a:pt x="14362" y="15949"/>
                </a:cubicBezTo>
                <a:cubicBezTo>
                  <a:pt x="14342" y="16020"/>
                  <a:pt x="14390" y="16044"/>
                  <a:pt x="14412" y="16098"/>
                </a:cubicBezTo>
                <a:cubicBezTo>
                  <a:pt x="14412" y="16106"/>
                  <a:pt x="14412" y="16115"/>
                  <a:pt x="14412" y="16123"/>
                </a:cubicBezTo>
              </a:path>
              <a:path w="16942" h="3027">
                <a:moveTo>
                  <a:pt x="14610" y="15602"/>
                </a:moveTo>
                <a:cubicBezTo>
                  <a:pt x="14610" y="15684"/>
                  <a:pt x="14589" y="15745"/>
                  <a:pt x="14585" y="15825"/>
                </a:cubicBezTo>
                <a:cubicBezTo>
                  <a:pt x="14582" y="15886"/>
                  <a:pt x="14607" y="15952"/>
                  <a:pt x="14635" y="15999"/>
                </a:cubicBezTo>
                <a:cubicBezTo>
                  <a:pt x="14675" y="15972"/>
                  <a:pt x="14699" y="15867"/>
                  <a:pt x="14709" y="15801"/>
                </a:cubicBezTo>
                <a:cubicBezTo>
                  <a:pt x="14724" y="15706"/>
                  <a:pt x="14713" y="15619"/>
                  <a:pt x="14734" y="15528"/>
                </a:cubicBezTo>
                <a:cubicBezTo>
                  <a:pt x="14740" y="15502"/>
                  <a:pt x="14755" y="15443"/>
                  <a:pt x="14784" y="15429"/>
                </a:cubicBezTo>
                <a:cubicBezTo>
                  <a:pt x="14823" y="15410"/>
                  <a:pt x="14879" y="15438"/>
                  <a:pt x="14908" y="15453"/>
                </a:cubicBezTo>
                <a:cubicBezTo>
                  <a:pt x="14924" y="15461"/>
                  <a:pt x="14941" y="15470"/>
                  <a:pt x="14957" y="15478"/>
                </a:cubicBezTo>
              </a:path>
              <a:path w="16942" h="3027">
                <a:moveTo>
                  <a:pt x="14932" y="15751"/>
                </a:moveTo>
                <a:cubicBezTo>
                  <a:pt x="14932" y="15804"/>
                  <a:pt x="14944" y="15812"/>
                  <a:pt x="14982" y="15850"/>
                </a:cubicBezTo>
                <a:cubicBezTo>
                  <a:pt x="15013" y="15881"/>
                  <a:pt x="15034" y="15921"/>
                  <a:pt x="15056" y="15949"/>
                </a:cubicBezTo>
                <a:cubicBezTo>
                  <a:pt x="15096" y="16000"/>
                  <a:pt x="15078" y="16035"/>
                  <a:pt x="15007" y="16049"/>
                </a:cubicBezTo>
                <a:cubicBezTo>
                  <a:pt x="14977" y="16055"/>
                  <a:pt x="14939" y="16049"/>
                  <a:pt x="14908" y="16049"/>
                </a:cubicBezTo>
                <a:cubicBezTo>
                  <a:pt x="14919" y="16093"/>
                  <a:pt x="14948" y="16114"/>
                  <a:pt x="14982" y="16148"/>
                </a:cubicBezTo>
                <a:cubicBezTo>
                  <a:pt x="15032" y="16198"/>
                  <a:pt x="15051" y="16254"/>
                  <a:pt x="15056" y="16321"/>
                </a:cubicBezTo>
                <a:cubicBezTo>
                  <a:pt x="15060" y="16381"/>
                  <a:pt x="14988" y="16351"/>
                  <a:pt x="14957" y="16346"/>
                </a:cubicBezTo>
                <a:cubicBezTo>
                  <a:pt x="14903" y="16337"/>
                  <a:pt x="14840" y="16322"/>
                  <a:pt x="14808" y="16272"/>
                </a:cubicBezTo>
                <a:cubicBezTo>
                  <a:pt x="14808" y="16247"/>
                  <a:pt x="14808" y="16239"/>
                  <a:pt x="14784" y="16247"/>
                </a:cubicBezTo>
              </a:path>
              <a:path w="16942" h="3027">
                <a:moveTo>
                  <a:pt x="15180" y="16421"/>
                </a:moveTo>
                <a:cubicBezTo>
                  <a:pt x="15029" y="16477"/>
                  <a:pt x="14895" y="16540"/>
                  <a:pt x="14734" y="16545"/>
                </a:cubicBezTo>
                <a:cubicBezTo>
                  <a:pt x="14615" y="16549"/>
                  <a:pt x="14508" y="16570"/>
                  <a:pt x="14387" y="16570"/>
                </a:cubicBezTo>
                <a:cubicBezTo>
                  <a:pt x="14265" y="16570"/>
                  <a:pt x="14158" y="16582"/>
                  <a:pt x="14039" y="16594"/>
                </a:cubicBezTo>
                <a:cubicBezTo>
                  <a:pt x="13941" y="16603"/>
                  <a:pt x="13832" y="16621"/>
                  <a:pt x="13742" y="16669"/>
                </a:cubicBezTo>
                <a:cubicBezTo>
                  <a:pt x="13717" y="16694"/>
                  <a:pt x="13709" y="16702"/>
                  <a:pt x="13692" y="16718"/>
                </a:cubicBezTo>
              </a:path>
              <a:path w="16942" h="3027">
                <a:moveTo>
                  <a:pt x="13990" y="16743"/>
                </a:moveTo>
                <a:cubicBezTo>
                  <a:pt x="13950" y="16806"/>
                  <a:pt x="13861" y="16895"/>
                  <a:pt x="13841" y="16966"/>
                </a:cubicBezTo>
                <a:cubicBezTo>
                  <a:pt x="13818" y="17049"/>
                  <a:pt x="13813" y="17111"/>
                  <a:pt x="13841" y="17190"/>
                </a:cubicBezTo>
                <a:cubicBezTo>
                  <a:pt x="13873" y="17282"/>
                  <a:pt x="13910" y="17376"/>
                  <a:pt x="13990" y="17438"/>
                </a:cubicBezTo>
                <a:cubicBezTo>
                  <a:pt x="14031" y="17470"/>
                  <a:pt x="14110" y="17505"/>
                  <a:pt x="14163" y="17487"/>
                </a:cubicBezTo>
                <a:cubicBezTo>
                  <a:pt x="14229" y="17465"/>
                  <a:pt x="14234" y="17432"/>
                  <a:pt x="14263" y="17388"/>
                </a:cubicBezTo>
                <a:cubicBezTo>
                  <a:pt x="14290" y="17348"/>
                  <a:pt x="14291" y="17331"/>
                  <a:pt x="14263" y="17289"/>
                </a:cubicBezTo>
                <a:cubicBezTo>
                  <a:pt x="14255" y="17281"/>
                  <a:pt x="14246" y="17272"/>
                  <a:pt x="14238" y="17264"/>
                </a:cubicBezTo>
                <a:cubicBezTo>
                  <a:pt x="14177" y="17289"/>
                  <a:pt x="14146" y="17327"/>
                  <a:pt x="14114" y="17388"/>
                </a:cubicBezTo>
                <a:cubicBezTo>
                  <a:pt x="14090" y="17433"/>
                  <a:pt x="14096" y="17544"/>
                  <a:pt x="14139" y="17587"/>
                </a:cubicBezTo>
                <a:cubicBezTo>
                  <a:pt x="14155" y="17595"/>
                  <a:pt x="14172" y="17603"/>
                  <a:pt x="14188" y="17611"/>
                </a:cubicBezTo>
              </a:path>
              <a:path w="16942" h="3027">
                <a:moveTo>
                  <a:pt x="15379" y="16594"/>
                </a:moveTo>
                <a:cubicBezTo>
                  <a:pt x="15469" y="16606"/>
                  <a:pt x="15577" y="16650"/>
                  <a:pt x="15652" y="16594"/>
                </a:cubicBezTo>
              </a:path>
              <a:path w="16942" h="3027">
                <a:moveTo>
                  <a:pt x="15453" y="16743"/>
                </a:moveTo>
                <a:cubicBezTo>
                  <a:pt x="15614" y="16844"/>
                  <a:pt x="15555" y="16842"/>
                  <a:pt x="15677" y="16842"/>
                </a:cubicBezTo>
              </a:path>
              <a:path w="16942" h="3027">
                <a:moveTo>
                  <a:pt x="15949" y="16346"/>
                </a:moveTo>
                <a:cubicBezTo>
                  <a:pt x="16046" y="16329"/>
                  <a:pt x="16123" y="16332"/>
                  <a:pt x="16197" y="16272"/>
                </a:cubicBezTo>
              </a:path>
              <a:path w="16942" h="3027">
                <a:moveTo>
                  <a:pt x="16396" y="15900"/>
                </a:moveTo>
                <a:cubicBezTo>
                  <a:pt x="16487" y="15900"/>
                  <a:pt x="16582" y="15873"/>
                  <a:pt x="16644" y="15949"/>
                </a:cubicBezTo>
                <a:cubicBezTo>
                  <a:pt x="16705" y="16024"/>
                  <a:pt x="16761" y="16078"/>
                  <a:pt x="16768" y="16173"/>
                </a:cubicBezTo>
                <a:cubicBezTo>
                  <a:pt x="16777" y="16291"/>
                  <a:pt x="16705" y="16333"/>
                  <a:pt x="16644" y="16421"/>
                </a:cubicBezTo>
                <a:cubicBezTo>
                  <a:pt x="16608" y="16473"/>
                  <a:pt x="16560" y="16523"/>
                  <a:pt x="16495" y="16545"/>
                </a:cubicBezTo>
                <a:cubicBezTo>
                  <a:pt x="16487" y="16545"/>
                  <a:pt x="16478" y="16545"/>
                  <a:pt x="16470" y="16545"/>
                </a:cubicBezTo>
                <a:cubicBezTo>
                  <a:pt x="16438" y="16501"/>
                  <a:pt x="16435" y="16473"/>
                  <a:pt x="16470" y="16421"/>
                </a:cubicBezTo>
                <a:cubicBezTo>
                  <a:pt x="16503" y="16371"/>
                  <a:pt x="16587" y="16412"/>
                  <a:pt x="16619" y="16446"/>
                </a:cubicBezTo>
                <a:cubicBezTo>
                  <a:pt x="16676" y="16508"/>
                  <a:pt x="16747" y="16539"/>
                  <a:pt x="16818" y="16594"/>
                </a:cubicBezTo>
                <a:cubicBezTo>
                  <a:pt x="16826" y="16602"/>
                  <a:pt x="16834" y="16611"/>
                  <a:pt x="16842" y="16619"/>
                </a:cubicBezTo>
              </a:path>
              <a:path w="16942" h="3027">
                <a:moveTo>
                  <a:pt x="16991" y="16173"/>
                </a:moveTo>
                <a:cubicBezTo>
                  <a:pt x="17088" y="16182"/>
                  <a:pt x="17144" y="16223"/>
                  <a:pt x="17239" y="16247"/>
                </a:cubicBezTo>
                <a:cubicBezTo>
                  <a:pt x="17275" y="16256"/>
                  <a:pt x="17326" y="16247"/>
                  <a:pt x="17363" y="16247"/>
                </a:cubicBezTo>
              </a:path>
              <a:path w="16942" h="3027">
                <a:moveTo>
                  <a:pt x="17512" y="16049"/>
                </a:moveTo>
                <a:cubicBezTo>
                  <a:pt x="17478" y="16165"/>
                  <a:pt x="17428" y="16304"/>
                  <a:pt x="17413" y="16421"/>
                </a:cubicBezTo>
                <a:cubicBezTo>
                  <a:pt x="17411" y="16433"/>
                  <a:pt x="17413" y="16627"/>
                  <a:pt x="17413" y="16570"/>
                </a:cubicBezTo>
                <a:cubicBezTo>
                  <a:pt x="17445" y="16528"/>
                  <a:pt x="17454" y="16451"/>
                  <a:pt x="17462" y="16396"/>
                </a:cubicBezTo>
                <a:cubicBezTo>
                  <a:pt x="17477" y="16285"/>
                  <a:pt x="17486" y="16157"/>
                  <a:pt x="17512" y="16049"/>
                </a:cubicBezTo>
                <a:cubicBezTo>
                  <a:pt x="17531" y="15969"/>
                  <a:pt x="17551" y="15908"/>
                  <a:pt x="17636" y="15875"/>
                </a:cubicBezTo>
                <a:cubicBezTo>
                  <a:pt x="17694" y="15853"/>
                  <a:pt x="17783" y="15878"/>
                  <a:pt x="17835" y="15900"/>
                </a:cubicBezTo>
                <a:cubicBezTo>
                  <a:pt x="17903" y="15929"/>
                  <a:pt x="17956" y="15947"/>
                  <a:pt x="18008" y="15999"/>
                </a:cubicBezTo>
              </a:path>
              <a:path w="16942" h="3027">
                <a:moveTo>
                  <a:pt x="17810" y="16272"/>
                </a:moveTo>
                <a:cubicBezTo>
                  <a:pt x="17861" y="16272"/>
                  <a:pt x="17892" y="16285"/>
                  <a:pt x="17934" y="16297"/>
                </a:cubicBezTo>
                <a:cubicBezTo>
                  <a:pt x="17986" y="16313"/>
                  <a:pt x="18023" y="16356"/>
                  <a:pt x="18008" y="16421"/>
                </a:cubicBezTo>
                <a:cubicBezTo>
                  <a:pt x="17994" y="16484"/>
                  <a:pt x="17962" y="16495"/>
                  <a:pt x="17909" y="16495"/>
                </a:cubicBezTo>
                <a:cubicBezTo>
                  <a:pt x="17884" y="16495"/>
                  <a:pt x="17876" y="16495"/>
                  <a:pt x="17859" y="16495"/>
                </a:cubicBezTo>
                <a:cubicBezTo>
                  <a:pt x="17871" y="16530"/>
                  <a:pt x="17906" y="16528"/>
                  <a:pt x="17934" y="16570"/>
                </a:cubicBezTo>
                <a:cubicBezTo>
                  <a:pt x="17968" y="16622"/>
                  <a:pt x="18018" y="16668"/>
                  <a:pt x="17983" y="16718"/>
                </a:cubicBezTo>
                <a:cubicBezTo>
                  <a:pt x="17954" y="16761"/>
                  <a:pt x="17910" y="16790"/>
                  <a:pt x="17859" y="16793"/>
                </a:cubicBezTo>
                <a:cubicBezTo>
                  <a:pt x="17775" y="16799"/>
                  <a:pt x="17687" y="16802"/>
                  <a:pt x="17611" y="16768"/>
                </a:cubicBezTo>
                <a:cubicBezTo>
                  <a:pt x="17571" y="16748"/>
                  <a:pt x="17565" y="16739"/>
                  <a:pt x="17537" y="16743"/>
                </a:cubicBezTo>
              </a:path>
              <a:path w="16942" h="3027">
                <a:moveTo>
                  <a:pt x="15875" y="15329"/>
                </a:moveTo>
                <a:cubicBezTo>
                  <a:pt x="15844" y="15355"/>
                  <a:pt x="15860" y="15359"/>
                  <a:pt x="15825" y="15379"/>
                </a:cubicBezTo>
                <a:cubicBezTo>
                  <a:pt x="15738" y="15429"/>
                  <a:pt x="15624" y="15457"/>
                  <a:pt x="15553" y="15528"/>
                </a:cubicBezTo>
                <a:cubicBezTo>
                  <a:pt x="15477" y="15604"/>
                  <a:pt x="15504" y="15676"/>
                  <a:pt x="15528" y="15776"/>
                </a:cubicBezTo>
                <a:cubicBezTo>
                  <a:pt x="15555" y="15885"/>
                  <a:pt x="15602" y="15975"/>
                  <a:pt x="15652" y="16073"/>
                </a:cubicBezTo>
                <a:cubicBezTo>
                  <a:pt x="15696" y="16159"/>
                  <a:pt x="15748" y="16249"/>
                  <a:pt x="15801" y="16321"/>
                </a:cubicBezTo>
                <a:cubicBezTo>
                  <a:pt x="15757" y="16336"/>
                  <a:pt x="15719" y="16349"/>
                  <a:pt x="15677" y="16371"/>
                </a:cubicBezTo>
                <a:cubicBezTo>
                  <a:pt x="15582" y="16422"/>
                  <a:pt x="15587" y="16460"/>
                  <a:pt x="15627" y="16570"/>
                </a:cubicBezTo>
                <a:cubicBezTo>
                  <a:pt x="15662" y="16666"/>
                  <a:pt x="15728" y="16745"/>
                  <a:pt x="15801" y="16818"/>
                </a:cubicBezTo>
                <a:cubicBezTo>
                  <a:pt x="15906" y="16923"/>
                  <a:pt x="16135" y="16966"/>
                  <a:pt x="16222" y="17066"/>
                </a:cubicBezTo>
                <a:cubicBezTo>
                  <a:pt x="16257" y="17106"/>
                  <a:pt x="16226" y="17170"/>
                  <a:pt x="16247" y="17214"/>
                </a:cubicBezTo>
                <a:cubicBezTo>
                  <a:pt x="16291" y="17308"/>
                  <a:pt x="16370" y="17396"/>
                  <a:pt x="16446" y="17462"/>
                </a:cubicBezTo>
                <a:cubicBezTo>
                  <a:pt x="16539" y="17543"/>
                  <a:pt x="16651" y="17604"/>
                  <a:pt x="16768" y="17636"/>
                </a:cubicBezTo>
                <a:cubicBezTo>
                  <a:pt x="16876" y="17666"/>
                  <a:pt x="17098" y="17726"/>
                  <a:pt x="17214" y="17661"/>
                </a:cubicBezTo>
                <a:cubicBezTo>
                  <a:pt x="17289" y="17619"/>
                  <a:pt x="17268" y="17462"/>
                  <a:pt x="17363" y="17438"/>
                </a:cubicBezTo>
                <a:cubicBezTo>
                  <a:pt x="17412" y="17426"/>
                  <a:pt x="17584" y="17478"/>
                  <a:pt x="17636" y="17487"/>
                </a:cubicBezTo>
                <a:cubicBezTo>
                  <a:pt x="17760" y="17508"/>
                  <a:pt x="17832" y="17514"/>
                  <a:pt x="17959" y="17487"/>
                </a:cubicBezTo>
                <a:cubicBezTo>
                  <a:pt x="18076" y="17462"/>
                  <a:pt x="18213" y="17391"/>
                  <a:pt x="18306" y="17314"/>
                </a:cubicBezTo>
                <a:cubicBezTo>
                  <a:pt x="18431" y="17211"/>
                  <a:pt x="18440" y="17112"/>
                  <a:pt x="18479" y="16966"/>
                </a:cubicBezTo>
                <a:cubicBezTo>
                  <a:pt x="18524" y="16797"/>
                  <a:pt x="18504" y="16620"/>
                  <a:pt x="18504" y="16446"/>
                </a:cubicBezTo>
                <a:cubicBezTo>
                  <a:pt x="18504" y="16335"/>
                  <a:pt x="18499" y="16280"/>
                  <a:pt x="18504" y="16173"/>
                </a:cubicBezTo>
                <a:cubicBezTo>
                  <a:pt x="18508" y="16097"/>
                  <a:pt x="18532" y="15994"/>
                  <a:pt x="18529" y="15925"/>
                </a:cubicBezTo>
                <a:cubicBezTo>
                  <a:pt x="18523" y="15793"/>
                  <a:pt x="18495" y="15602"/>
                  <a:pt x="18405" y="15503"/>
                </a:cubicBezTo>
                <a:cubicBezTo>
                  <a:pt x="18324" y="15414"/>
                  <a:pt x="18155" y="15326"/>
                  <a:pt x="18033" y="15329"/>
                </a:cubicBezTo>
                <a:cubicBezTo>
                  <a:pt x="17906" y="15332"/>
                  <a:pt x="17894" y="15387"/>
                  <a:pt x="17810" y="15429"/>
                </a:cubicBezTo>
                <a:cubicBezTo>
                  <a:pt x="17767" y="15450"/>
                  <a:pt x="17716" y="15465"/>
                  <a:pt x="17661" y="15453"/>
                </a:cubicBezTo>
                <a:cubicBezTo>
                  <a:pt x="17598" y="15439"/>
                  <a:pt x="17526" y="15356"/>
                  <a:pt x="17462" y="15329"/>
                </a:cubicBezTo>
                <a:cubicBezTo>
                  <a:pt x="17319" y="15269"/>
                  <a:pt x="17141" y="15216"/>
                  <a:pt x="16991" y="15180"/>
                </a:cubicBezTo>
                <a:cubicBezTo>
                  <a:pt x="16773" y="15128"/>
                  <a:pt x="16541" y="15072"/>
                  <a:pt x="16321" y="15106"/>
                </a:cubicBezTo>
                <a:cubicBezTo>
                  <a:pt x="16149" y="15133"/>
                  <a:pt x="16036" y="15252"/>
                  <a:pt x="15900" y="153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374920" y="4776840"/>
            <a:ext cx="1955880" cy="54000"/>
          </a:xfrm>
          <a:custGeom>
            <a:avLst/>
            <a:gdLst/>
            <a:ahLst/>
            <a:rect l="l" t="t" r="r" b="b"/>
            <a:pathLst>
              <a:path w="5433" h="149">
                <a:moveTo>
                  <a:pt x="12030" y="13271"/>
                </a:moveTo>
                <a:cubicBezTo>
                  <a:pt x="11960" y="13325"/>
                  <a:pt x="11945" y="13348"/>
                  <a:pt x="11857" y="13370"/>
                </a:cubicBezTo>
                <a:cubicBezTo>
                  <a:pt x="11747" y="13397"/>
                  <a:pt x="11649" y="13395"/>
                  <a:pt x="11534" y="13395"/>
                </a:cubicBezTo>
                <a:cubicBezTo>
                  <a:pt x="11300" y="13395"/>
                  <a:pt x="11072" y="13385"/>
                  <a:pt x="10840" y="13370"/>
                </a:cubicBezTo>
                <a:cubicBezTo>
                  <a:pt x="10624" y="13356"/>
                  <a:pt x="10413" y="13345"/>
                  <a:pt x="10195" y="13345"/>
                </a:cubicBezTo>
                <a:cubicBezTo>
                  <a:pt x="9953" y="13345"/>
                  <a:pt x="9716" y="13306"/>
                  <a:pt x="9475" y="13295"/>
                </a:cubicBezTo>
                <a:cubicBezTo>
                  <a:pt x="9079" y="13277"/>
                  <a:pt x="8679" y="13305"/>
                  <a:pt x="8285" y="13320"/>
                </a:cubicBezTo>
                <a:cubicBezTo>
                  <a:pt x="8028" y="13330"/>
                  <a:pt x="7772" y="13332"/>
                  <a:pt x="7516" y="13345"/>
                </a:cubicBezTo>
                <a:cubicBezTo>
                  <a:pt x="7337" y="13354"/>
                  <a:pt x="7148" y="13349"/>
                  <a:pt x="6970" y="13370"/>
                </a:cubicBezTo>
                <a:cubicBezTo>
                  <a:pt x="6859" y="13383"/>
                  <a:pt x="6723" y="13406"/>
                  <a:pt x="6623" y="13419"/>
                </a:cubicBezTo>
                <a:cubicBezTo>
                  <a:pt x="6615" y="13419"/>
                  <a:pt x="6606" y="13419"/>
                  <a:pt x="6598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Page 408</a:t>
            </a:r>
            <a:br>
              <a:rPr sz="7500"/>
            </a:b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#9, 13, 15</a:t>
            </a:r>
            <a:endParaRPr b="0" lang="en-US" sz="75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2:24Z</dcterms:created>
  <dc:creator>jnewman</dc:creator>
  <dc:description/>
  <dc:language>en-US</dc:language>
  <cp:lastModifiedBy>abeason</cp:lastModifiedBy>
  <dcterms:modified xsi:type="dcterms:W3CDTF">2009-01-05T17:42:10Z</dcterms:modified>
  <cp:revision>9</cp:revision>
  <dc:subject/>
  <dc:title>Lesson 5.4 part two</dc:title>
</cp:coreProperties>
</file>